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Calibri"/>
            </a:endParaRPr>
          </a:p>
        </p:txBody>
      </p:sp>
      <p:sp>
        <p:nvSpPr>
          <p:cNvPr id="5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0EFABF2-758B-4AEB-B44A-9F4B2272B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685800" y="1143000"/>
            <a:ext cx="5486400" cy="3086280"/>
          </a:xfrm>
          <a:prstGeom prst="rect">
            <a:avLst/>
          </a:prstGeom>
          <a:ln w="0">
            <a:noFill/>
          </a:ln>
        </p:spPr>
      </p:sp>
      <p:sp>
        <p:nvSpPr>
          <p:cNvPr id="13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422D882-CEB6-4BB2-81D5-F85002F71C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CEE78A9-AFC0-495C-B169-15D925174329}"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b6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a3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c14"/>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a603"/>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5f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090d"/>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4"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05301A1-8E43-4ECC-9D80-A424C44493CE}"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pic>
        <p:nvPicPr>
          <p:cNvPr id="76" name="Picture 59" descr="New Macbook Silver.png"/>
          <p:cNvPicPr/>
          <p:nvPr/>
        </p:nvPicPr>
        <p:blipFill>
          <a:blip r:embed="rId2"/>
          <a:stretch/>
        </p:blipFill>
        <p:spPr>
          <a:xfrm>
            <a:off x="468360" y="1793880"/>
            <a:ext cx="4470480" cy="261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4"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6B2DC9A-9B84-46D0-AACF-875713647CBF}"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grpSp>
        <p:nvGrpSpPr>
          <p:cNvPr id="115" name="Group 1102"/>
          <p:cNvGrpSpPr/>
          <p:nvPr/>
        </p:nvGrpSpPr>
        <p:grpSpPr>
          <a:xfrm>
            <a:off x="5180040" y="372960"/>
            <a:ext cx="3006720" cy="4453200"/>
            <a:chOff x="5180040" y="372960"/>
            <a:chExt cx="3006720" cy="4453200"/>
          </a:xfrm>
        </p:grpSpPr>
        <p:pic>
          <p:nvPicPr>
            <p:cNvPr id="116" name="Mini-iPad-B&amp;W-Mockup.png" descr=""/>
            <p:cNvPicPr/>
            <p:nvPr/>
          </p:nvPicPr>
          <p:blipFill>
            <a:blip r:embed="rId2"/>
            <a:stretch/>
          </p:blipFill>
          <p:spPr>
            <a:xfrm>
              <a:off x="5180040" y="372960"/>
              <a:ext cx="3006720" cy="4453200"/>
            </a:xfrm>
            <a:prstGeom prst="rect">
              <a:avLst/>
            </a:prstGeom>
            <a:ln w="0">
              <a:noFill/>
            </a:ln>
          </p:spPr>
        </p:pic>
        <p:sp>
          <p:nvSpPr>
            <p:cNvPr id="117" name="Shape 1101"/>
            <p:cNvSpPr/>
            <p:nvPr/>
          </p:nvSpPr>
          <p:spPr>
            <a:xfrm>
              <a:off x="5345640" y="807840"/>
              <a:ext cx="2682000" cy="3559680"/>
            </a:xfrm>
            <a:prstGeom prst="rect">
              <a:avLst/>
            </a:prstGeom>
            <a:solidFill>
              <a:srgbClr val="606060"/>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582480"/>
                  <a:tab algn="l" pos="1165320"/>
                  <a:tab algn="l" pos="1747800"/>
                  <a:tab algn="l" pos="2330280"/>
                  <a:tab algn="l" pos="2913120"/>
                  <a:tab algn="l" pos="3495600"/>
                  <a:tab algn="l" pos="4078440"/>
                  <a:tab algn="l" pos="4660920"/>
                  <a:tab algn="l" pos="5243400"/>
                  <a:tab algn="l" pos="5826240"/>
                  <a:tab algn="l" pos="6408720"/>
                  <a:tab algn="l" pos="6991200"/>
                  <a:tab algn="l" pos="7574040"/>
                  <a:tab algn="l" pos="8156520"/>
                  <a:tab algn="l" pos="8739360"/>
                  <a:tab algn="l" pos="9321840"/>
                  <a:tab algn="l" pos="9904320"/>
                  <a:tab algn="l" pos="10487160"/>
                </a:tabLst>
              </a:pPr>
              <a:endParaRPr b="0" lang="en-US" sz="13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4"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5"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71E99E2-B08C-48FD-B660-1C002D9BF5A9}"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156" name="Oval 13"/>
          <p:cNvSpPr/>
          <p:nvPr/>
        </p:nvSpPr>
        <p:spPr>
          <a:xfrm flipH="1">
            <a:off x="510480" y="4197240"/>
            <a:ext cx="181080" cy="179640"/>
          </a:xfrm>
          <a:prstGeom prst="ellipse">
            <a:avLst/>
          </a:prstGeom>
          <a:solidFill>
            <a:srgbClr val="004b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7" name="Oval 15"/>
          <p:cNvSpPr/>
          <p:nvPr/>
        </p:nvSpPr>
        <p:spPr>
          <a:xfrm flipH="1">
            <a:off x="510480" y="4502160"/>
            <a:ext cx="181080" cy="179280"/>
          </a:xfrm>
          <a:prstGeom prst="ellipse">
            <a:avLst/>
          </a:prstGeom>
          <a:solidFill>
            <a:srgbClr val="2295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8" name="Oval 17"/>
          <p:cNvSpPr/>
          <p:nvPr/>
        </p:nvSpPr>
        <p:spPr>
          <a:xfrm flipH="1">
            <a:off x="2590920" y="4197240"/>
            <a:ext cx="180720" cy="179640"/>
          </a:xfrm>
          <a:prstGeom prst="ellipse">
            <a:avLst/>
          </a:prstGeom>
          <a:solidFill>
            <a:srgbClr val="c5e0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9" name="Oval 19"/>
          <p:cNvSpPr/>
          <p:nvPr/>
        </p:nvSpPr>
        <p:spPr>
          <a:xfrm flipH="1">
            <a:off x="2590920" y="4502160"/>
            <a:ext cx="180720" cy="179280"/>
          </a:xfrm>
          <a:prstGeom prst="ellipse">
            <a:avLst/>
          </a:prstGeom>
          <a:solidFill>
            <a:srgbClr val="fee4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0" name="Oval 21"/>
          <p:cNvSpPr/>
          <p:nvPr/>
        </p:nvSpPr>
        <p:spPr>
          <a:xfrm flipH="1">
            <a:off x="4606200" y="4197240"/>
            <a:ext cx="181080" cy="179640"/>
          </a:xfrm>
          <a:prstGeom prst="ellipse">
            <a:avLst/>
          </a:prstGeom>
          <a:solidFill>
            <a:srgbClr val="ee3b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1" name="Oval 23"/>
          <p:cNvSpPr/>
          <p:nvPr/>
        </p:nvSpPr>
        <p:spPr>
          <a:xfrm flipH="1">
            <a:off x="4606200" y="4502160"/>
            <a:ext cx="181080" cy="179280"/>
          </a:xfrm>
          <a:prstGeom prst="ellipse">
            <a:avLst/>
          </a:prstGeom>
          <a:solidFill>
            <a:srgbClr val="19705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2" name="Oval 25"/>
          <p:cNvSpPr/>
          <p:nvPr/>
        </p:nvSpPr>
        <p:spPr>
          <a:xfrm flipH="1">
            <a:off x="6622200" y="4197240"/>
            <a:ext cx="181080" cy="179640"/>
          </a:xfrm>
          <a:prstGeom prst="ellipse">
            <a:avLst/>
          </a:prstGeom>
          <a:solidFill>
            <a:srgbClr val="a0ba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3" name="Oval 27"/>
          <p:cNvSpPr/>
          <p:nvPr/>
        </p:nvSpPr>
        <p:spPr>
          <a:xfrm flipH="1">
            <a:off x="6622200" y="4502160"/>
            <a:ext cx="181080" cy="179280"/>
          </a:xfrm>
          <a:prstGeom prst="ellipse">
            <a:avLst/>
          </a:prstGeom>
          <a:solidFill>
            <a:srgbClr val="d0b9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0"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1"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A32AB16-A083-41F8-AB29-605F30D18D59}"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202" name="Arc 89"/>
          <p:cNvSpPr/>
          <p:nvPr/>
        </p:nvSpPr>
        <p:spPr>
          <a:xfrm>
            <a:off x="787320" y="1243080"/>
            <a:ext cx="1584360" cy="15825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22957b"/>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3" name="Oval 105"/>
          <p:cNvSpPr/>
          <p:nvPr/>
        </p:nvSpPr>
        <p:spPr>
          <a:xfrm>
            <a:off x="533520" y="1760400"/>
            <a:ext cx="561960" cy="561960"/>
          </a:xfrm>
          <a:prstGeom prst="ellipse">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4" name="Arc 117"/>
          <p:cNvSpPr/>
          <p:nvPr/>
        </p:nvSpPr>
        <p:spPr>
          <a:xfrm>
            <a:off x="4869000" y="1243080"/>
            <a:ext cx="1584360" cy="15825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c5e041"/>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5" name="Oval 129"/>
          <p:cNvSpPr/>
          <p:nvPr/>
        </p:nvSpPr>
        <p:spPr>
          <a:xfrm>
            <a:off x="4614840" y="1760400"/>
            <a:ext cx="561960" cy="561960"/>
          </a:xfrm>
          <a:prstGeom prst="ellipse">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6" name="Arc 138"/>
          <p:cNvSpPr/>
          <p:nvPr/>
        </p:nvSpPr>
        <p:spPr>
          <a:xfrm>
            <a:off x="787320" y="3137040"/>
            <a:ext cx="1584360" cy="15843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fee419"/>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7" name="Oval 146"/>
          <p:cNvSpPr/>
          <p:nvPr/>
        </p:nvSpPr>
        <p:spPr>
          <a:xfrm>
            <a:off x="533520" y="3656160"/>
            <a:ext cx="561960" cy="560160"/>
          </a:xfrm>
          <a:prstGeom prst="ellipse">
            <a:avLst/>
          </a:pr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8" name="Arc 152"/>
          <p:cNvSpPr/>
          <p:nvPr/>
        </p:nvSpPr>
        <p:spPr>
          <a:xfrm>
            <a:off x="4869000" y="3137040"/>
            <a:ext cx="1584360" cy="1584360"/>
          </a:xfrm>
          <a:custGeom>
            <a:avLst/>
            <a:gdLst/>
            <a:ahLst/>
            <a:rect l="l" t="t" r="r" b="b"/>
            <a:pathLst>
              <a:path stroke="0"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lnTo>
                  <a:pt x="792000" y="791999"/>
                </a:lnTo>
                <a:lnTo>
                  <a:pt x="22554" y="604340"/>
                </a:lnTo>
                <a:close/>
              </a:path>
              <a:path fill="none" w="1584000" h="1583998">
                <a:moveTo>
                  <a:pt x="22554" y="604340"/>
                </a:moveTo>
                <a:cubicBezTo>
                  <a:pt x="119234" y="207929"/>
                  <a:pt x="501264" y="-50155"/>
                  <a:pt x="905113" y="8119"/>
                </a:cubicBezTo>
                <a:cubicBezTo>
                  <a:pt x="1308961" y="66393"/>
                  <a:pt x="1602444" y="421952"/>
                  <a:pt x="1583111" y="829525"/>
                </a:cubicBezTo>
                <a:cubicBezTo>
                  <a:pt x="1563778" y="1237097"/>
                  <a:pt x="1237957" y="1563280"/>
                  <a:pt x="830406" y="1583066"/>
                </a:cubicBezTo>
                <a:cubicBezTo>
                  <a:pt x="422855" y="1602852"/>
                  <a:pt x="66969" y="1309766"/>
                  <a:pt x="8246" y="905983"/>
                </a:cubicBezTo>
              </a:path>
            </a:pathLst>
          </a:custGeom>
          <a:noFill/>
          <a:ln cap="sq" w="127080">
            <a:solidFill>
              <a:srgbClr val="fd7f00"/>
            </a:solidFill>
            <a:beve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09" name="Oval 156"/>
          <p:cNvSpPr/>
          <p:nvPr/>
        </p:nvSpPr>
        <p:spPr>
          <a:xfrm>
            <a:off x="4614840" y="3656160"/>
            <a:ext cx="561960" cy="560160"/>
          </a:xfrm>
          <a:prstGeom prst="ellipse">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6"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47"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922E869-7556-470B-B980-CB17289A7D42}"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248" name="Oval 22"/>
          <p:cNvSpPr/>
          <p:nvPr/>
        </p:nvSpPr>
        <p:spPr>
          <a:xfrm>
            <a:off x="747720" y="1517760"/>
            <a:ext cx="2160720" cy="2160360"/>
          </a:xfrm>
          <a:prstGeom prst="ellipse">
            <a:avLst/>
          </a:prstGeom>
          <a:noFill/>
          <a:ln cap="rnd" w="380880">
            <a:solidFill>
              <a:srgbClr val="22957b"/>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49" name="Oval 24"/>
          <p:cNvSpPr/>
          <p:nvPr/>
        </p:nvSpPr>
        <p:spPr>
          <a:xfrm>
            <a:off x="3490920" y="1517760"/>
            <a:ext cx="2160720" cy="2160360"/>
          </a:xfrm>
          <a:prstGeom prst="ellipse">
            <a:avLst/>
          </a:prstGeom>
          <a:noFill/>
          <a:ln cap="rnd" w="380880">
            <a:solidFill>
              <a:srgbClr val="c5e04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0" name="Oval 29"/>
          <p:cNvSpPr/>
          <p:nvPr/>
        </p:nvSpPr>
        <p:spPr>
          <a:xfrm>
            <a:off x="6251400" y="1517760"/>
            <a:ext cx="2159280" cy="2160360"/>
          </a:xfrm>
          <a:prstGeom prst="ellipse">
            <a:avLst/>
          </a:prstGeom>
          <a:noFill/>
          <a:ln cap="rnd" w="380880">
            <a:solidFill>
              <a:srgbClr val="fee419"/>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1" name="Oval 34"/>
          <p:cNvSpPr/>
          <p:nvPr/>
        </p:nvSpPr>
        <p:spPr>
          <a:xfrm>
            <a:off x="2905200" y="2335320"/>
            <a:ext cx="612720" cy="612720"/>
          </a:xfrm>
          <a:prstGeom prst="ellipse">
            <a:avLst/>
          </a:prstGeom>
          <a:solidFill>
            <a:srgbClr val="19705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2" name="Oval 36"/>
          <p:cNvSpPr/>
          <p:nvPr/>
        </p:nvSpPr>
        <p:spPr>
          <a:xfrm>
            <a:off x="5635800" y="2335320"/>
            <a:ext cx="612720" cy="612720"/>
          </a:xfrm>
          <a:prstGeom prst="ellipse">
            <a:avLst/>
          </a:pr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9" name="Rectángulo redondeado 5"/>
          <p:cNvSpPr/>
          <p:nvPr/>
        </p:nvSpPr>
        <p:spPr>
          <a:xfrm rot="5400000">
            <a:off x="8674920" y="124200"/>
            <a:ext cx="257040" cy="255600"/>
          </a:xfrm>
          <a:prstGeom prst="roundRect">
            <a:avLst>
              <a:gd name="adj" fmla="val 50000"/>
            </a:avLst>
          </a:prstGeom>
          <a:solidFill>
            <a:srgbClr val="ee3b4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0" name="Marcador de número de diapositiva 2"/>
          <p:cNvSpPr/>
          <p:nvPr/>
        </p:nvSpPr>
        <p:spPr>
          <a:xfrm>
            <a:off x="8531280" y="96840"/>
            <a:ext cx="5522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1775341-FD41-4C1B-8407-19EDEE4A7C81}" type="slidenum">
              <a:rPr b="0" lang="en-US" sz="1100" spc="-1" strike="noStrike">
                <a:solidFill>
                  <a:srgbClr val="ffffff"/>
                </a:solidFill>
                <a:latin typeface="Calibri"/>
              </a:rPr>
              <a:t>&lt;number&gt;</a:t>
            </a:fld>
            <a:endParaRPr b="0" lang="en-US" sz="1100" spc="-1" strike="noStrike">
              <a:solidFill>
                <a:srgbClr val="000000"/>
              </a:solidFill>
              <a:latin typeface="Calibri"/>
            </a:endParaRPr>
          </a:p>
        </p:txBody>
      </p:sp>
      <p:sp>
        <p:nvSpPr>
          <p:cNvPr id="291" name="Oval 39"/>
          <p:cNvSpPr/>
          <p:nvPr/>
        </p:nvSpPr>
        <p:spPr>
          <a:xfrm>
            <a:off x="716040" y="1484280"/>
            <a:ext cx="1346040" cy="1368360"/>
          </a:xfrm>
          <a:prstGeom prst="ellipse">
            <a:avLst/>
          </a:prstGeom>
          <a:noFill/>
          <a:ln cap="rnd" w="380880">
            <a:solidFill>
              <a:srgbClr val="22957b"/>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2" name="Straight Connector 84"/>
          <p:cNvSpPr/>
          <p:nvPr/>
        </p:nvSpPr>
        <p:spPr>
          <a:xfrm>
            <a:off x="2421000" y="1389240"/>
            <a:ext cx="0" cy="3455640"/>
          </a:xfrm>
          <a:prstGeom prst="line">
            <a:avLst/>
          </a:prstGeom>
          <a:ln w="3240">
            <a:solidFill>
              <a:srgbClr val="d9d9d9"/>
            </a:solidFill>
            <a:prstDash val="dash"/>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93" name="Oval 107"/>
          <p:cNvSpPr/>
          <p:nvPr/>
        </p:nvSpPr>
        <p:spPr>
          <a:xfrm>
            <a:off x="2820960" y="1484280"/>
            <a:ext cx="1346400" cy="1368360"/>
          </a:xfrm>
          <a:prstGeom prst="ellipse">
            <a:avLst/>
          </a:prstGeom>
          <a:noFill/>
          <a:ln cap="rnd" w="380880">
            <a:solidFill>
              <a:srgbClr val="c5e04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4" name="Straight Connector 125"/>
          <p:cNvSpPr/>
          <p:nvPr/>
        </p:nvSpPr>
        <p:spPr>
          <a:xfrm>
            <a:off x="4575240" y="1389240"/>
            <a:ext cx="0" cy="3455640"/>
          </a:xfrm>
          <a:prstGeom prst="line">
            <a:avLst/>
          </a:prstGeom>
          <a:ln w="3240">
            <a:solidFill>
              <a:srgbClr val="d9d9d9"/>
            </a:solidFill>
            <a:prstDash val="dash"/>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95" name="Oval 140"/>
          <p:cNvSpPr/>
          <p:nvPr/>
        </p:nvSpPr>
        <p:spPr>
          <a:xfrm>
            <a:off x="4894200" y="1484280"/>
            <a:ext cx="1346400" cy="1368360"/>
          </a:xfrm>
          <a:prstGeom prst="ellipse">
            <a:avLst/>
          </a:prstGeom>
          <a:noFill/>
          <a:ln cap="rnd" w="380880">
            <a:solidFill>
              <a:srgbClr val="fd7f00"/>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6" name="Straight Connector 152"/>
          <p:cNvSpPr/>
          <p:nvPr/>
        </p:nvSpPr>
        <p:spPr>
          <a:xfrm>
            <a:off x="6608880" y="1389240"/>
            <a:ext cx="0" cy="3455640"/>
          </a:xfrm>
          <a:prstGeom prst="line">
            <a:avLst/>
          </a:prstGeom>
          <a:ln w="3240">
            <a:solidFill>
              <a:srgbClr val="d9d9d9"/>
            </a:solidFill>
            <a:prstDash val="dash"/>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97" name="Oval 159"/>
          <p:cNvSpPr/>
          <p:nvPr/>
        </p:nvSpPr>
        <p:spPr>
          <a:xfrm>
            <a:off x="6986520" y="1484280"/>
            <a:ext cx="1346400" cy="1368360"/>
          </a:xfrm>
          <a:prstGeom prst="ellipse">
            <a:avLst/>
          </a:prstGeom>
          <a:noFill/>
          <a:ln cap="rnd" w="380880">
            <a:solidFill>
              <a:srgbClr val="cd1219"/>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Marcador de texto 13"/>
          <p:cNvSpPr/>
          <p:nvPr/>
        </p:nvSpPr>
        <p:spPr>
          <a:xfrm>
            <a:off x="2925720" y="2214720"/>
            <a:ext cx="3292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Epsilon</a:t>
            </a:r>
            <a:endParaRPr b="0" lang="en-US" sz="5000" spc="-1" strike="noStrike">
              <a:solidFill>
                <a:srgbClr val="000000"/>
              </a:solidFill>
              <a:latin typeface="Calibri"/>
            </a:endParaRPr>
          </a:p>
        </p:txBody>
      </p:sp>
      <p:sp>
        <p:nvSpPr>
          <p:cNvPr id="594" name="Text Placeholder 20"/>
          <p:cNvSpPr/>
          <p:nvPr/>
        </p:nvSpPr>
        <p:spPr>
          <a:xfrm>
            <a:off x="3205080" y="2832120"/>
            <a:ext cx="2733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POWERPOINT PRESENTATION</a:t>
            </a:r>
            <a:endParaRPr b="0" lang="en-US" sz="1000" spc="-1" strike="noStrike">
              <a:solidFill>
                <a:srgbClr val="000000"/>
              </a:solidFill>
              <a:latin typeface="Calibri"/>
            </a:endParaRPr>
          </a:p>
        </p:txBody>
      </p:sp>
      <p:sp>
        <p:nvSpPr>
          <p:cNvPr id="595" name="Text Placeholder 23"/>
          <p:cNvSpPr/>
          <p:nvPr/>
        </p:nvSpPr>
        <p:spPr>
          <a:xfrm>
            <a:off x="2763720" y="3116160"/>
            <a:ext cx="3616560" cy="690840"/>
          </a:xfrm>
          <a:prstGeom prst="rect">
            <a:avLst/>
          </a:prstGeom>
          <a:noFill/>
          <a:ln w="0">
            <a:noFill/>
          </a:ln>
        </p:spPr>
        <p:style>
          <a:lnRef idx="0"/>
          <a:fillRef idx="0"/>
          <a:effectRef idx="0"/>
          <a:fontRef idx="minor"/>
        </p:style>
        <p:txBody>
          <a:bodyPr lIns="0" rIns="72000" tIns="72000" bIns="7200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euismod non purus. Maecenas ut lacus nec mauris feugiat tristique et in metus. </a:t>
            </a:r>
            <a:endParaRPr b="0" lang="en-US" sz="900" spc="-1" strike="noStrike">
              <a:solidFill>
                <a:srgbClr val="000000"/>
              </a:solidFill>
              <a:latin typeface="Calibri"/>
            </a:endParaRPr>
          </a:p>
        </p:txBody>
      </p:sp>
      <p:sp>
        <p:nvSpPr>
          <p:cNvPr id="596" name="Forma libre 31"/>
          <p:cNvSpPr/>
          <p:nvPr/>
        </p:nvSpPr>
        <p:spPr>
          <a:xfrm rot="5400000">
            <a:off x="4089240" y="1450800"/>
            <a:ext cx="592200" cy="652320"/>
          </a:xfrm>
          <a:custGeom>
            <a:avLst/>
            <a:gdLst/>
            <a:ahLst/>
            <a:rect l="l" t="t" r="r" b="b"/>
            <a:pathLst>
              <a:path w="759125" h="837924">
                <a:moveTo>
                  <a:pt x="129027" y="0"/>
                </a:moveTo>
                <a:cubicBezTo>
                  <a:pt x="200287" y="0"/>
                  <a:pt x="258054" y="57767"/>
                  <a:pt x="258054" y="129027"/>
                </a:cubicBezTo>
                <a:lnTo>
                  <a:pt x="258054" y="310206"/>
                </a:lnTo>
                <a:lnTo>
                  <a:pt x="260676" y="297216"/>
                </a:lnTo>
                <a:cubicBezTo>
                  <a:pt x="280264" y="250906"/>
                  <a:pt x="326119" y="218412"/>
                  <a:pt x="379564" y="218412"/>
                </a:cubicBezTo>
                <a:cubicBezTo>
                  <a:pt x="433009" y="218412"/>
                  <a:pt x="478864" y="250906"/>
                  <a:pt x="498451" y="297216"/>
                </a:cubicBezTo>
                <a:lnTo>
                  <a:pt x="501071" y="310191"/>
                </a:lnTo>
                <a:lnTo>
                  <a:pt x="501071" y="129027"/>
                </a:lnTo>
                <a:cubicBezTo>
                  <a:pt x="501071" y="57767"/>
                  <a:pt x="558838" y="0"/>
                  <a:pt x="630098" y="0"/>
                </a:cubicBezTo>
                <a:cubicBezTo>
                  <a:pt x="701358" y="0"/>
                  <a:pt x="759125" y="57767"/>
                  <a:pt x="759125" y="129027"/>
                </a:cubicBezTo>
                <a:lnTo>
                  <a:pt x="759125" y="408036"/>
                </a:lnTo>
                <a:lnTo>
                  <a:pt x="759124" y="408036"/>
                </a:lnTo>
                <a:lnTo>
                  <a:pt x="759124" y="457699"/>
                </a:lnTo>
                <a:cubicBezTo>
                  <a:pt x="759124" y="511144"/>
                  <a:pt x="726630" y="556999"/>
                  <a:pt x="680321" y="576587"/>
                </a:cubicBezTo>
                <a:lnTo>
                  <a:pt x="632251" y="586291"/>
                </a:lnTo>
                <a:lnTo>
                  <a:pt x="632251" y="587029"/>
                </a:lnTo>
                <a:lnTo>
                  <a:pt x="608771" y="589396"/>
                </a:lnTo>
                <a:cubicBezTo>
                  <a:pt x="562573" y="598849"/>
                  <a:pt x="524961" y="631869"/>
                  <a:pt x="509042" y="675345"/>
                </a:cubicBezTo>
                <a:lnTo>
                  <a:pt x="508590" y="677907"/>
                </a:lnTo>
                <a:lnTo>
                  <a:pt x="508590" y="708897"/>
                </a:lnTo>
                <a:cubicBezTo>
                  <a:pt x="508590" y="780157"/>
                  <a:pt x="450823" y="837924"/>
                  <a:pt x="379563" y="837924"/>
                </a:cubicBezTo>
                <a:lnTo>
                  <a:pt x="379564" y="837923"/>
                </a:lnTo>
                <a:cubicBezTo>
                  <a:pt x="308304" y="837923"/>
                  <a:pt x="250537" y="780156"/>
                  <a:pt x="250537" y="708896"/>
                </a:cubicBezTo>
                <a:lnTo>
                  <a:pt x="250537" y="677919"/>
                </a:lnTo>
                <a:lnTo>
                  <a:pt x="250083" y="675345"/>
                </a:lnTo>
                <a:cubicBezTo>
                  <a:pt x="234164" y="631869"/>
                  <a:pt x="196552" y="598849"/>
                  <a:pt x="150354" y="589396"/>
                </a:cubicBezTo>
                <a:lnTo>
                  <a:pt x="126874" y="587029"/>
                </a:lnTo>
                <a:lnTo>
                  <a:pt x="126874" y="586291"/>
                </a:lnTo>
                <a:lnTo>
                  <a:pt x="78804" y="576587"/>
                </a:lnTo>
                <a:cubicBezTo>
                  <a:pt x="32495" y="556999"/>
                  <a:pt x="1" y="511144"/>
                  <a:pt x="1" y="457699"/>
                </a:cubicBezTo>
                <a:lnTo>
                  <a:pt x="1" y="408036"/>
                </a:lnTo>
                <a:lnTo>
                  <a:pt x="0" y="408036"/>
                </a:lnTo>
                <a:lnTo>
                  <a:pt x="0" y="129027"/>
                </a:lnTo>
                <a:cubicBezTo>
                  <a:pt x="0" y="57767"/>
                  <a:pt x="57767" y="0"/>
                  <a:pt x="129027" y="0"/>
                </a:cubicBezTo>
                <a:close/>
              </a:path>
            </a:pathLst>
          </a:custGeom>
          <a:solidFill>
            <a:srgbClr val="ee3b4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Forma libre 15"/>
          <p:cNvSpPr/>
          <p:nvPr/>
        </p:nvSpPr>
        <p:spPr>
          <a:xfrm flipV="1">
            <a:off x="-14040" y="294840"/>
            <a:ext cx="9353520" cy="4516560"/>
          </a:xfrm>
          <a:custGeom>
            <a:avLst/>
            <a:gdLst/>
            <a:ahLst/>
            <a:rect l="l" t="t" r="r" b="b"/>
            <a:pathLst>
              <a:path w="9353304" h="4516366">
                <a:moveTo>
                  <a:pt x="3667965" y="3780368"/>
                </a:moveTo>
                <a:lnTo>
                  <a:pt x="3665122" y="3781236"/>
                </a:lnTo>
                <a:lnTo>
                  <a:pt x="3665516" y="3781202"/>
                </a:lnTo>
                <a:lnTo>
                  <a:pt x="3667965" y="3780368"/>
                </a:lnTo>
                <a:close/>
                <a:moveTo>
                  <a:pt x="1906603" y="3435046"/>
                </a:moveTo>
                <a:lnTo>
                  <a:pt x="1903760" y="3435914"/>
                </a:lnTo>
                <a:lnTo>
                  <a:pt x="1904154" y="3435880"/>
                </a:lnTo>
                <a:lnTo>
                  <a:pt x="1906603" y="3435046"/>
                </a:lnTo>
                <a:close/>
                <a:moveTo>
                  <a:pt x="5145170" y="3313683"/>
                </a:moveTo>
                <a:lnTo>
                  <a:pt x="5147619" y="3314517"/>
                </a:lnTo>
                <a:lnTo>
                  <a:pt x="5148013" y="3314551"/>
                </a:lnTo>
                <a:lnTo>
                  <a:pt x="5145170" y="3313683"/>
                </a:lnTo>
                <a:close/>
                <a:moveTo>
                  <a:pt x="145219" y="3099418"/>
                </a:moveTo>
                <a:lnTo>
                  <a:pt x="142376" y="3100286"/>
                </a:lnTo>
                <a:lnTo>
                  <a:pt x="142770" y="3100252"/>
                </a:lnTo>
                <a:lnTo>
                  <a:pt x="145219" y="3099418"/>
                </a:lnTo>
                <a:close/>
                <a:moveTo>
                  <a:pt x="1148720" y="2807586"/>
                </a:moveTo>
                <a:lnTo>
                  <a:pt x="1145878" y="2808454"/>
                </a:lnTo>
                <a:lnTo>
                  <a:pt x="1146272" y="2808420"/>
                </a:lnTo>
                <a:lnTo>
                  <a:pt x="1148720" y="2807586"/>
                </a:lnTo>
                <a:close/>
                <a:moveTo>
                  <a:pt x="7320034" y="1299734"/>
                </a:moveTo>
                <a:lnTo>
                  <a:pt x="7320035" y="1299738"/>
                </a:lnTo>
                <a:cubicBezTo>
                  <a:pt x="7320035" y="2178603"/>
                  <a:pt x="7320034" y="3057467"/>
                  <a:pt x="7320034" y="3936332"/>
                </a:cubicBezTo>
                <a:cubicBezTo>
                  <a:pt x="7320034" y="4007592"/>
                  <a:pt x="7262267" y="4065359"/>
                  <a:pt x="7191007" y="4065359"/>
                </a:cubicBezTo>
                <a:lnTo>
                  <a:pt x="7191008" y="4065358"/>
                </a:lnTo>
                <a:cubicBezTo>
                  <a:pt x="7119748" y="4065358"/>
                  <a:pt x="7061981" y="4007591"/>
                  <a:pt x="7061981" y="3936331"/>
                </a:cubicBezTo>
                <a:lnTo>
                  <a:pt x="7061981" y="1454195"/>
                </a:lnTo>
                <a:cubicBezTo>
                  <a:pt x="7061981" y="1525455"/>
                  <a:pt x="7119748" y="1583222"/>
                  <a:pt x="7191008" y="1583222"/>
                </a:cubicBezTo>
                <a:lnTo>
                  <a:pt x="7191007" y="1583223"/>
                </a:lnTo>
                <a:cubicBezTo>
                  <a:pt x="7262267" y="1583223"/>
                  <a:pt x="7320034" y="1525456"/>
                  <a:pt x="7320034" y="1454196"/>
                </a:cubicBezTo>
                <a:lnTo>
                  <a:pt x="7320034" y="1299734"/>
                </a:lnTo>
                <a:close/>
                <a:moveTo>
                  <a:pt x="3667965" y="1298232"/>
                </a:moveTo>
                <a:lnTo>
                  <a:pt x="3665516" y="1299066"/>
                </a:lnTo>
                <a:lnTo>
                  <a:pt x="3665122" y="1299100"/>
                </a:lnTo>
                <a:lnTo>
                  <a:pt x="3667965" y="1298232"/>
                </a:lnTo>
                <a:close/>
                <a:moveTo>
                  <a:pt x="7061980" y="1280382"/>
                </a:moveTo>
                <a:lnTo>
                  <a:pt x="7061981" y="1280386"/>
                </a:lnTo>
                <a:lnTo>
                  <a:pt x="7061980" y="3952854"/>
                </a:lnTo>
                <a:lnTo>
                  <a:pt x="7051842" y="3902635"/>
                </a:lnTo>
                <a:cubicBezTo>
                  <a:pt x="7032254" y="3856325"/>
                  <a:pt x="6986399" y="3823831"/>
                  <a:pt x="6932954" y="3823831"/>
                </a:cubicBezTo>
                <a:cubicBezTo>
                  <a:pt x="6879509" y="3823831"/>
                  <a:pt x="6833654" y="3856325"/>
                  <a:pt x="6814067" y="3902635"/>
                </a:cubicBezTo>
                <a:lnTo>
                  <a:pt x="6804303" y="3950996"/>
                </a:lnTo>
                <a:lnTo>
                  <a:pt x="6804303" y="4036335"/>
                </a:lnTo>
                <a:cubicBezTo>
                  <a:pt x="6804303" y="4107595"/>
                  <a:pt x="6746536" y="4165362"/>
                  <a:pt x="6675276" y="4165362"/>
                </a:cubicBezTo>
                <a:lnTo>
                  <a:pt x="6675277" y="4165361"/>
                </a:lnTo>
                <a:cubicBezTo>
                  <a:pt x="6604017" y="4165361"/>
                  <a:pt x="6546250" y="4107594"/>
                  <a:pt x="6546250" y="4036334"/>
                </a:cubicBezTo>
                <a:lnTo>
                  <a:pt x="6546250" y="1554198"/>
                </a:lnTo>
                <a:cubicBezTo>
                  <a:pt x="6546250" y="1625458"/>
                  <a:pt x="6604017" y="1683225"/>
                  <a:pt x="6675277" y="1683225"/>
                </a:cubicBezTo>
                <a:lnTo>
                  <a:pt x="6675276" y="1683226"/>
                </a:lnTo>
                <a:cubicBezTo>
                  <a:pt x="6746536" y="1683226"/>
                  <a:pt x="6804303" y="1625459"/>
                  <a:pt x="6804303" y="1554199"/>
                </a:cubicBezTo>
                <a:lnTo>
                  <a:pt x="6804303" y="1468860"/>
                </a:lnTo>
                <a:lnTo>
                  <a:pt x="6814067" y="1420499"/>
                </a:lnTo>
                <a:cubicBezTo>
                  <a:pt x="6833654" y="1374189"/>
                  <a:pt x="6879509" y="1341695"/>
                  <a:pt x="6932954" y="1341695"/>
                </a:cubicBezTo>
                <a:cubicBezTo>
                  <a:pt x="6986399" y="1341695"/>
                  <a:pt x="7032254" y="1374189"/>
                  <a:pt x="7051842" y="1420499"/>
                </a:cubicBezTo>
                <a:lnTo>
                  <a:pt x="7061980" y="1470718"/>
                </a:lnTo>
                <a:lnTo>
                  <a:pt x="7061980" y="1280382"/>
                </a:lnTo>
                <a:close/>
                <a:moveTo>
                  <a:pt x="1906603" y="952910"/>
                </a:moveTo>
                <a:lnTo>
                  <a:pt x="1904154" y="953744"/>
                </a:lnTo>
                <a:lnTo>
                  <a:pt x="1903760" y="953778"/>
                </a:lnTo>
                <a:lnTo>
                  <a:pt x="1906603" y="952910"/>
                </a:lnTo>
                <a:close/>
                <a:moveTo>
                  <a:pt x="8600713" y="896365"/>
                </a:moveTo>
                <a:lnTo>
                  <a:pt x="8600714" y="896369"/>
                </a:lnTo>
                <a:lnTo>
                  <a:pt x="8600713" y="3568837"/>
                </a:lnTo>
                <a:lnTo>
                  <a:pt x="8590575" y="3518618"/>
                </a:lnTo>
                <a:cubicBezTo>
                  <a:pt x="8570987" y="3472308"/>
                  <a:pt x="8525132" y="3439814"/>
                  <a:pt x="8471687" y="3439814"/>
                </a:cubicBezTo>
                <a:cubicBezTo>
                  <a:pt x="8418242" y="3439814"/>
                  <a:pt x="8372387" y="3472308"/>
                  <a:pt x="8352800" y="3518618"/>
                </a:cubicBezTo>
                <a:lnTo>
                  <a:pt x="8343036" y="3566978"/>
                </a:lnTo>
                <a:lnTo>
                  <a:pt x="8343036" y="4153380"/>
                </a:lnTo>
                <a:cubicBezTo>
                  <a:pt x="8343036" y="4224640"/>
                  <a:pt x="8285269" y="4282407"/>
                  <a:pt x="8214009" y="4282407"/>
                </a:cubicBezTo>
                <a:lnTo>
                  <a:pt x="8214010" y="4282406"/>
                </a:lnTo>
                <a:cubicBezTo>
                  <a:pt x="8142750" y="4282406"/>
                  <a:pt x="8084983" y="4224639"/>
                  <a:pt x="8084983" y="4153379"/>
                </a:cubicBezTo>
                <a:lnTo>
                  <a:pt x="8084983" y="1671243"/>
                </a:lnTo>
                <a:cubicBezTo>
                  <a:pt x="8084983" y="1742503"/>
                  <a:pt x="8142750" y="1800270"/>
                  <a:pt x="8214010" y="1800270"/>
                </a:cubicBezTo>
                <a:lnTo>
                  <a:pt x="8214009" y="1800271"/>
                </a:lnTo>
                <a:cubicBezTo>
                  <a:pt x="8285269" y="1800271"/>
                  <a:pt x="8343036" y="1742504"/>
                  <a:pt x="8343036" y="1671244"/>
                </a:cubicBezTo>
                <a:lnTo>
                  <a:pt x="8343036" y="1084842"/>
                </a:lnTo>
                <a:lnTo>
                  <a:pt x="8352800" y="1036482"/>
                </a:lnTo>
                <a:cubicBezTo>
                  <a:pt x="8372387" y="990172"/>
                  <a:pt x="8418242" y="957678"/>
                  <a:pt x="8471687" y="957678"/>
                </a:cubicBezTo>
                <a:cubicBezTo>
                  <a:pt x="8525132" y="957678"/>
                  <a:pt x="8570987" y="990172"/>
                  <a:pt x="8590575" y="1036482"/>
                </a:cubicBezTo>
                <a:lnTo>
                  <a:pt x="8600713" y="1086701"/>
                </a:lnTo>
                <a:lnTo>
                  <a:pt x="8600713" y="896365"/>
                </a:lnTo>
                <a:close/>
                <a:moveTo>
                  <a:pt x="5145170" y="831547"/>
                </a:moveTo>
                <a:lnTo>
                  <a:pt x="5148013" y="832415"/>
                </a:lnTo>
                <a:lnTo>
                  <a:pt x="5147619" y="832381"/>
                </a:lnTo>
                <a:lnTo>
                  <a:pt x="5145170" y="831547"/>
                </a:lnTo>
                <a:close/>
                <a:moveTo>
                  <a:pt x="145219" y="617282"/>
                </a:moveTo>
                <a:lnTo>
                  <a:pt x="142770" y="618116"/>
                </a:lnTo>
                <a:lnTo>
                  <a:pt x="142376" y="618150"/>
                </a:lnTo>
                <a:lnTo>
                  <a:pt x="145219" y="617282"/>
                </a:lnTo>
                <a:close/>
                <a:moveTo>
                  <a:pt x="8979456" y="554677"/>
                </a:moveTo>
                <a:cubicBezTo>
                  <a:pt x="9019540" y="554677"/>
                  <a:pt x="9055354" y="572955"/>
                  <a:pt x="9079020" y="601631"/>
                </a:cubicBezTo>
                <a:lnTo>
                  <a:pt x="9095250" y="628382"/>
                </a:lnTo>
                <a:lnTo>
                  <a:pt x="9095250" y="1251118"/>
                </a:lnTo>
                <a:cubicBezTo>
                  <a:pt x="9095250" y="1322378"/>
                  <a:pt x="9153017" y="1380145"/>
                  <a:pt x="9224277" y="1380145"/>
                </a:cubicBezTo>
                <a:lnTo>
                  <a:pt x="9224276" y="1380146"/>
                </a:lnTo>
                <a:cubicBezTo>
                  <a:pt x="9295536" y="1380146"/>
                  <a:pt x="9353303" y="1322379"/>
                  <a:pt x="9353303" y="1251119"/>
                </a:cubicBezTo>
                <a:lnTo>
                  <a:pt x="9353303" y="859000"/>
                </a:lnTo>
                <a:lnTo>
                  <a:pt x="9353304" y="859004"/>
                </a:lnTo>
                <a:cubicBezTo>
                  <a:pt x="9353304" y="1817086"/>
                  <a:pt x="9353303" y="2775171"/>
                  <a:pt x="9353303" y="3733255"/>
                </a:cubicBezTo>
                <a:cubicBezTo>
                  <a:pt x="9353303" y="3804515"/>
                  <a:pt x="9295536" y="3862282"/>
                  <a:pt x="9224276" y="3862282"/>
                </a:cubicBezTo>
                <a:lnTo>
                  <a:pt x="9224277" y="3862281"/>
                </a:lnTo>
                <a:cubicBezTo>
                  <a:pt x="9153017" y="3862281"/>
                  <a:pt x="9095250" y="3804514"/>
                  <a:pt x="9095250" y="3733254"/>
                </a:cubicBezTo>
                <a:lnTo>
                  <a:pt x="9095250" y="3110518"/>
                </a:lnTo>
                <a:lnTo>
                  <a:pt x="9079020" y="3083767"/>
                </a:lnTo>
                <a:cubicBezTo>
                  <a:pt x="9055354" y="3055091"/>
                  <a:pt x="9019540" y="3036813"/>
                  <a:pt x="8979456" y="3036813"/>
                </a:cubicBezTo>
                <a:cubicBezTo>
                  <a:pt x="8926011" y="3036813"/>
                  <a:pt x="8880156" y="3069307"/>
                  <a:pt x="8860569" y="3115617"/>
                </a:cubicBezTo>
                <a:lnTo>
                  <a:pt x="8858767" y="3124540"/>
                </a:lnTo>
                <a:lnTo>
                  <a:pt x="8858767" y="3552315"/>
                </a:lnTo>
                <a:cubicBezTo>
                  <a:pt x="8858767" y="3623575"/>
                  <a:pt x="8801000" y="3681342"/>
                  <a:pt x="8729740" y="3681342"/>
                </a:cubicBezTo>
                <a:lnTo>
                  <a:pt x="8729741" y="3681341"/>
                </a:lnTo>
                <a:cubicBezTo>
                  <a:pt x="8658481" y="3681341"/>
                  <a:pt x="8600714" y="3623574"/>
                  <a:pt x="8600714" y="3552314"/>
                </a:cubicBezTo>
                <a:lnTo>
                  <a:pt x="8600714" y="1070178"/>
                </a:lnTo>
                <a:cubicBezTo>
                  <a:pt x="8600714" y="1141438"/>
                  <a:pt x="8658481" y="1199205"/>
                  <a:pt x="8729741" y="1199205"/>
                </a:cubicBezTo>
                <a:lnTo>
                  <a:pt x="8729740" y="1199206"/>
                </a:lnTo>
                <a:cubicBezTo>
                  <a:pt x="8801000" y="1199206"/>
                  <a:pt x="8858767" y="1141439"/>
                  <a:pt x="8858767" y="1070179"/>
                </a:cubicBezTo>
                <a:lnTo>
                  <a:pt x="8858767" y="642404"/>
                </a:lnTo>
                <a:lnTo>
                  <a:pt x="8860569" y="633481"/>
                </a:lnTo>
                <a:cubicBezTo>
                  <a:pt x="8880156" y="587171"/>
                  <a:pt x="8926011" y="554677"/>
                  <a:pt x="8979456" y="554677"/>
                </a:cubicBezTo>
                <a:close/>
                <a:moveTo>
                  <a:pt x="7449062" y="554677"/>
                </a:moveTo>
                <a:cubicBezTo>
                  <a:pt x="7502507" y="554677"/>
                  <a:pt x="7548362" y="587171"/>
                  <a:pt x="7567950" y="633481"/>
                </a:cubicBezTo>
                <a:lnTo>
                  <a:pt x="7575418" y="670474"/>
                </a:lnTo>
                <a:lnTo>
                  <a:pt x="7575418" y="1050826"/>
                </a:lnTo>
                <a:cubicBezTo>
                  <a:pt x="7575418" y="1122086"/>
                  <a:pt x="7633185" y="1179853"/>
                  <a:pt x="7704445" y="1179853"/>
                </a:cubicBezTo>
                <a:lnTo>
                  <a:pt x="7704444" y="1179854"/>
                </a:lnTo>
                <a:cubicBezTo>
                  <a:pt x="7775704" y="1179854"/>
                  <a:pt x="7833471" y="1122087"/>
                  <a:pt x="7833471" y="1050827"/>
                </a:cubicBezTo>
                <a:lnTo>
                  <a:pt x="7833471" y="741881"/>
                </a:lnTo>
                <a:lnTo>
                  <a:pt x="7837069" y="724062"/>
                </a:lnTo>
                <a:cubicBezTo>
                  <a:pt x="7856656" y="677752"/>
                  <a:pt x="7902511" y="645258"/>
                  <a:pt x="7955956" y="645258"/>
                </a:cubicBezTo>
                <a:cubicBezTo>
                  <a:pt x="8009401" y="645258"/>
                  <a:pt x="8055256" y="677752"/>
                  <a:pt x="8074844" y="724062"/>
                </a:cubicBezTo>
                <a:lnTo>
                  <a:pt x="8084982" y="774281"/>
                </a:lnTo>
                <a:lnTo>
                  <a:pt x="8084982" y="583945"/>
                </a:lnTo>
                <a:lnTo>
                  <a:pt x="8084983" y="583949"/>
                </a:lnTo>
                <a:lnTo>
                  <a:pt x="8084982" y="3256417"/>
                </a:lnTo>
                <a:lnTo>
                  <a:pt x="8074844" y="3206198"/>
                </a:lnTo>
                <a:cubicBezTo>
                  <a:pt x="8055256" y="3159888"/>
                  <a:pt x="8009401" y="3127394"/>
                  <a:pt x="7955956" y="3127394"/>
                </a:cubicBezTo>
                <a:cubicBezTo>
                  <a:pt x="7902511" y="3127394"/>
                  <a:pt x="7856656" y="3159888"/>
                  <a:pt x="7837069" y="3206198"/>
                </a:cubicBezTo>
                <a:lnTo>
                  <a:pt x="7833471" y="3224017"/>
                </a:lnTo>
                <a:lnTo>
                  <a:pt x="7833471" y="3532963"/>
                </a:lnTo>
                <a:cubicBezTo>
                  <a:pt x="7833471" y="3604223"/>
                  <a:pt x="7775704" y="3661990"/>
                  <a:pt x="7704444" y="3661990"/>
                </a:cubicBezTo>
                <a:lnTo>
                  <a:pt x="7704445" y="3661989"/>
                </a:lnTo>
                <a:cubicBezTo>
                  <a:pt x="7633185" y="3661989"/>
                  <a:pt x="7575418" y="3604222"/>
                  <a:pt x="7575418" y="3532962"/>
                </a:cubicBezTo>
                <a:lnTo>
                  <a:pt x="7575418" y="3152610"/>
                </a:lnTo>
                <a:lnTo>
                  <a:pt x="7567950" y="3115617"/>
                </a:lnTo>
                <a:cubicBezTo>
                  <a:pt x="7548362" y="3069307"/>
                  <a:pt x="7502507" y="3036813"/>
                  <a:pt x="7449062" y="3036813"/>
                </a:cubicBezTo>
                <a:cubicBezTo>
                  <a:pt x="7377802" y="3036813"/>
                  <a:pt x="7320035" y="3094580"/>
                  <a:pt x="7320035" y="3165840"/>
                </a:cubicBezTo>
                <a:lnTo>
                  <a:pt x="7320035" y="1299738"/>
                </a:lnTo>
                <a:lnTo>
                  <a:pt x="7320035" y="683704"/>
                </a:lnTo>
                <a:cubicBezTo>
                  <a:pt x="7320035" y="612444"/>
                  <a:pt x="7377802" y="554677"/>
                  <a:pt x="7449062" y="554677"/>
                </a:cubicBezTo>
                <a:close/>
                <a:moveTo>
                  <a:pt x="1148720" y="325450"/>
                </a:moveTo>
                <a:lnTo>
                  <a:pt x="1146272" y="326284"/>
                </a:lnTo>
                <a:lnTo>
                  <a:pt x="1145878" y="326318"/>
                </a:lnTo>
                <a:lnTo>
                  <a:pt x="1148720" y="325450"/>
                </a:lnTo>
                <a:close/>
                <a:moveTo>
                  <a:pt x="884382" y="0"/>
                </a:moveTo>
                <a:cubicBezTo>
                  <a:pt x="937827" y="0"/>
                  <a:pt x="983682" y="32494"/>
                  <a:pt x="1003270" y="78804"/>
                </a:cubicBezTo>
                <a:lnTo>
                  <a:pt x="1003501" y="79948"/>
                </a:lnTo>
                <a:lnTo>
                  <a:pt x="1003501" y="201368"/>
                </a:lnTo>
                <a:cubicBezTo>
                  <a:pt x="1003501" y="254813"/>
                  <a:pt x="1035995" y="300668"/>
                  <a:pt x="1082305" y="320256"/>
                </a:cubicBezTo>
                <a:lnTo>
                  <a:pt x="1126105" y="329098"/>
                </a:lnTo>
                <a:lnTo>
                  <a:pt x="1126105" y="330464"/>
                </a:lnTo>
                <a:lnTo>
                  <a:pt x="1149585" y="332831"/>
                </a:lnTo>
                <a:cubicBezTo>
                  <a:pt x="1195784" y="342284"/>
                  <a:pt x="1233395" y="375304"/>
                  <a:pt x="1249314" y="418780"/>
                </a:cubicBezTo>
                <a:lnTo>
                  <a:pt x="1257516" y="465251"/>
                </a:lnTo>
                <a:lnTo>
                  <a:pt x="1257516" y="932420"/>
                </a:lnTo>
                <a:cubicBezTo>
                  <a:pt x="1257516" y="1003680"/>
                  <a:pt x="1315283" y="1061447"/>
                  <a:pt x="1386543" y="1061447"/>
                </a:cubicBezTo>
                <a:lnTo>
                  <a:pt x="1386542" y="1061448"/>
                </a:lnTo>
                <a:cubicBezTo>
                  <a:pt x="1457802" y="1061448"/>
                  <a:pt x="1515570" y="1003681"/>
                  <a:pt x="1515570" y="932421"/>
                </a:cubicBezTo>
                <a:lnTo>
                  <a:pt x="1515570" y="668041"/>
                </a:lnTo>
                <a:lnTo>
                  <a:pt x="1517511" y="658421"/>
                </a:lnTo>
                <a:cubicBezTo>
                  <a:pt x="1537099" y="612111"/>
                  <a:pt x="1582954" y="579617"/>
                  <a:pt x="1636399" y="579617"/>
                </a:cubicBezTo>
                <a:cubicBezTo>
                  <a:pt x="1689845" y="579617"/>
                  <a:pt x="1735700" y="612111"/>
                  <a:pt x="1755288" y="658421"/>
                </a:cubicBezTo>
                <a:lnTo>
                  <a:pt x="1761384" y="688617"/>
                </a:lnTo>
                <a:lnTo>
                  <a:pt x="1761384" y="828828"/>
                </a:lnTo>
                <a:cubicBezTo>
                  <a:pt x="1761384" y="882273"/>
                  <a:pt x="1793877" y="928128"/>
                  <a:pt x="1840188" y="947716"/>
                </a:cubicBezTo>
                <a:lnTo>
                  <a:pt x="1883988" y="956558"/>
                </a:lnTo>
                <a:lnTo>
                  <a:pt x="1883988" y="957924"/>
                </a:lnTo>
                <a:lnTo>
                  <a:pt x="1907468" y="960291"/>
                </a:lnTo>
                <a:cubicBezTo>
                  <a:pt x="1953665" y="969744"/>
                  <a:pt x="1991277" y="1002764"/>
                  <a:pt x="2007197" y="1046240"/>
                </a:cubicBezTo>
                <a:lnTo>
                  <a:pt x="2015397" y="1092711"/>
                </a:lnTo>
                <a:lnTo>
                  <a:pt x="2015397" y="1559880"/>
                </a:lnTo>
                <a:cubicBezTo>
                  <a:pt x="2015397" y="1631140"/>
                  <a:pt x="2073164" y="1688907"/>
                  <a:pt x="2144425" y="1688907"/>
                </a:cubicBezTo>
                <a:lnTo>
                  <a:pt x="2144424" y="1688908"/>
                </a:lnTo>
                <a:cubicBezTo>
                  <a:pt x="2215684" y="1688908"/>
                  <a:pt x="2273451" y="1631141"/>
                  <a:pt x="2273451" y="1559881"/>
                </a:cubicBezTo>
                <a:lnTo>
                  <a:pt x="2273451" y="1387955"/>
                </a:lnTo>
                <a:lnTo>
                  <a:pt x="2277495" y="1365040"/>
                </a:lnTo>
                <a:cubicBezTo>
                  <a:pt x="2293413" y="1321564"/>
                  <a:pt x="2331025" y="1288544"/>
                  <a:pt x="2377224" y="1279091"/>
                </a:cubicBezTo>
                <a:lnTo>
                  <a:pt x="2400704" y="1276724"/>
                </a:lnTo>
                <a:lnTo>
                  <a:pt x="2400704" y="1275986"/>
                </a:lnTo>
                <a:lnTo>
                  <a:pt x="2448773" y="1266282"/>
                </a:lnTo>
                <a:cubicBezTo>
                  <a:pt x="2495082" y="1246694"/>
                  <a:pt x="2527576" y="1200839"/>
                  <a:pt x="2527576" y="1147394"/>
                </a:cubicBezTo>
                <a:lnTo>
                  <a:pt x="2527576" y="1021827"/>
                </a:lnTo>
                <a:lnTo>
                  <a:pt x="2549364" y="983850"/>
                </a:lnTo>
                <a:cubicBezTo>
                  <a:pt x="2568647" y="960484"/>
                  <a:pt x="2595630" y="943708"/>
                  <a:pt x="2626428" y="937406"/>
                </a:cubicBezTo>
                <a:lnTo>
                  <a:pt x="2649908" y="935039"/>
                </a:lnTo>
                <a:lnTo>
                  <a:pt x="2649908" y="934301"/>
                </a:lnTo>
                <a:lnTo>
                  <a:pt x="2697978" y="924597"/>
                </a:lnTo>
                <a:cubicBezTo>
                  <a:pt x="2744287" y="905009"/>
                  <a:pt x="2776780" y="859154"/>
                  <a:pt x="2776780" y="805709"/>
                </a:cubicBezTo>
                <a:lnTo>
                  <a:pt x="2776781" y="660766"/>
                </a:lnTo>
                <a:lnTo>
                  <a:pt x="2777254" y="658421"/>
                </a:lnTo>
                <a:cubicBezTo>
                  <a:pt x="2796841" y="612111"/>
                  <a:pt x="2842696" y="579617"/>
                  <a:pt x="2896141" y="579617"/>
                </a:cubicBezTo>
                <a:cubicBezTo>
                  <a:pt x="2949586" y="579617"/>
                  <a:pt x="2995441" y="612111"/>
                  <a:pt x="3015030" y="658421"/>
                </a:cubicBezTo>
                <a:lnTo>
                  <a:pt x="3020250" y="684282"/>
                </a:lnTo>
                <a:lnTo>
                  <a:pt x="3020250" y="1323655"/>
                </a:lnTo>
                <a:cubicBezTo>
                  <a:pt x="3020250" y="1394915"/>
                  <a:pt x="3078017" y="1452682"/>
                  <a:pt x="3149278" y="1452682"/>
                </a:cubicBezTo>
                <a:lnTo>
                  <a:pt x="3149277" y="1452683"/>
                </a:lnTo>
                <a:cubicBezTo>
                  <a:pt x="3220537" y="1452683"/>
                  <a:pt x="3278304" y="1394916"/>
                  <a:pt x="3278304" y="1323656"/>
                </a:cubicBezTo>
                <a:lnTo>
                  <a:pt x="3278304" y="1102220"/>
                </a:lnTo>
                <a:lnTo>
                  <a:pt x="3279457" y="1096508"/>
                </a:lnTo>
                <a:cubicBezTo>
                  <a:pt x="3299043" y="1050198"/>
                  <a:pt x="3344899" y="1017704"/>
                  <a:pt x="3398344" y="1017704"/>
                </a:cubicBezTo>
                <a:cubicBezTo>
                  <a:pt x="3451789" y="1017704"/>
                  <a:pt x="3497644" y="1050198"/>
                  <a:pt x="3517232" y="1096508"/>
                </a:cubicBezTo>
                <a:lnTo>
                  <a:pt x="3522746" y="1123820"/>
                </a:lnTo>
                <a:lnTo>
                  <a:pt x="3522746" y="1174150"/>
                </a:lnTo>
                <a:cubicBezTo>
                  <a:pt x="3522746" y="1227595"/>
                  <a:pt x="3555240" y="1273450"/>
                  <a:pt x="3601550" y="1293038"/>
                </a:cubicBezTo>
                <a:lnTo>
                  <a:pt x="3645350" y="1301880"/>
                </a:lnTo>
                <a:lnTo>
                  <a:pt x="3645350" y="1303246"/>
                </a:lnTo>
                <a:lnTo>
                  <a:pt x="3668830" y="1305613"/>
                </a:lnTo>
                <a:cubicBezTo>
                  <a:pt x="3715028" y="1315066"/>
                  <a:pt x="3752640" y="1348086"/>
                  <a:pt x="3768559" y="1391562"/>
                </a:cubicBezTo>
                <a:lnTo>
                  <a:pt x="3776760" y="1438033"/>
                </a:lnTo>
                <a:lnTo>
                  <a:pt x="3776760" y="1905202"/>
                </a:lnTo>
                <a:cubicBezTo>
                  <a:pt x="3776760" y="1976462"/>
                  <a:pt x="3834527" y="2034229"/>
                  <a:pt x="3905787" y="2034229"/>
                </a:cubicBezTo>
                <a:lnTo>
                  <a:pt x="3905786" y="2034230"/>
                </a:lnTo>
                <a:cubicBezTo>
                  <a:pt x="3977046" y="2034230"/>
                  <a:pt x="4034813" y="1976463"/>
                  <a:pt x="4034813" y="1905203"/>
                </a:cubicBezTo>
                <a:lnTo>
                  <a:pt x="4034813" y="1659178"/>
                </a:lnTo>
                <a:lnTo>
                  <a:pt x="4038951" y="1638685"/>
                </a:lnTo>
                <a:cubicBezTo>
                  <a:pt x="4058538" y="1592375"/>
                  <a:pt x="4104393" y="1559881"/>
                  <a:pt x="4157838" y="1559881"/>
                </a:cubicBezTo>
                <a:cubicBezTo>
                  <a:pt x="4211281" y="1559881"/>
                  <a:pt x="4257136" y="1592375"/>
                  <a:pt x="4276724" y="1638685"/>
                </a:cubicBezTo>
                <a:lnTo>
                  <a:pt x="4278550" y="1647730"/>
                </a:lnTo>
                <a:lnTo>
                  <a:pt x="4278550" y="1759088"/>
                </a:lnTo>
                <a:cubicBezTo>
                  <a:pt x="4278550" y="1830348"/>
                  <a:pt x="4336317" y="1888115"/>
                  <a:pt x="4407577" y="1888115"/>
                </a:cubicBezTo>
                <a:lnTo>
                  <a:pt x="4407576" y="1888116"/>
                </a:lnTo>
                <a:cubicBezTo>
                  <a:pt x="4478836" y="1888116"/>
                  <a:pt x="4536603" y="1830349"/>
                  <a:pt x="4536603" y="1759089"/>
                </a:cubicBezTo>
                <a:lnTo>
                  <a:pt x="4536603" y="1151654"/>
                </a:lnTo>
                <a:lnTo>
                  <a:pt x="4542703" y="1121438"/>
                </a:lnTo>
                <a:cubicBezTo>
                  <a:pt x="4562291" y="1075128"/>
                  <a:pt x="4608146" y="1042634"/>
                  <a:pt x="4661591" y="1042634"/>
                </a:cubicBezTo>
                <a:cubicBezTo>
                  <a:pt x="4701675" y="1042634"/>
                  <a:pt x="4737489" y="1060912"/>
                  <a:pt x="4761155" y="1089588"/>
                </a:cubicBezTo>
                <a:lnTo>
                  <a:pt x="4778322" y="1117883"/>
                </a:lnTo>
                <a:lnTo>
                  <a:pt x="4778322" y="1438518"/>
                </a:lnTo>
                <a:cubicBezTo>
                  <a:pt x="4778322" y="1509778"/>
                  <a:pt x="4836089" y="1567545"/>
                  <a:pt x="4907349" y="1567545"/>
                </a:cubicBezTo>
                <a:lnTo>
                  <a:pt x="4907348" y="1567544"/>
                </a:lnTo>
                <a:cubicBezTo>
                  <a:pt x="4978608" y="1567544"/>
                  <a:pt x="5036375" y="1509777"/>
                  <a:pt x="5036375" y="1438517"/>
                </a:cubicBezTo>
                <a:lnTo>
                  <a:pt x="5036375" y="971348"/>
                </a:lnTo>
                <a:lnTo>
                  <a:pt x="5044576" y="924877"/>
                </a:lnTo>
                <a:cubicBezTo>
                  <a:pt x="5060495" y="881401"/>
                  <a:pt x="5098107" y="848381"/>
                  <a:pt x="5144305" y="838928"/>
                </a:cubicBezTo>
                <a:lnTo>
                  <a:pt x="5167785" y="836561"/>
                </a:lnTo>
                <a:lnTo>
                  <a:pt x="5167785" y="835195"/>
                </a:lnTo>
                <a:lnTo>
                  <a:pt x="5211585" y="826353"/>
                </a:lnTo>
                <a:cubicBezTo>
                  <a:pt x="5257895" y="806765"/>
                  <a:pt x="5290389" y="760910"/>
                  <a:pt x="5290389" y="707465"/>
                </a:cubicBezTo>
                <a:lnTo>
                  <a:pt x="5290389" y="631337"/>
                </a:lnTo>
                <a:lnTo>
                  <a:pt x="5316595" y="592468"/>
                </a:lnTo>
                <a:cubicBezTo>
                  <a:pt x="5339944" y="569119"/>
                  <a:pt x="5372201" y="554677"/>
                  <a:pt x="5407831" y="554677"/>
                </a:cubicBezTo>
                <a:cubicBezTo>
                  <a:pt x="5447914" y="554677"/>
                  <a:pt x="5483729" y="572955"/>
                  <a:pt x="5507394" y="601631"/>
                </a:cubicBezTo>
                <a:lnTo>
                  <a:pt x="5523625" y="628382"/>
                </a:lnTo>
                <a:lnTo>
                  <a:pt x="5523625" y="1251118"/>
                </a:lnTo>
                <a:cubicBezTo>
                  <a:pt x="5523625" y="1322378"/>
                  <a:pt x="5581392" y="1380145"/>
                  <a:pt x="5652652" y="1380145"/>
                </a:cubicBezTo>
                <a:lnTo>
                  <a:pt x="5652651" y="1380146"/>
                </a:lnTo>
                <a:cubicBezTo>
                  <a:pt x="5723911" y="1380146"/>
                  <a:pt x="5781678" y="1322379"/>
                  <a:pt x="5781678" y="1251119"/>
                </a:cubicBezTo>
                <a:lnTo>
                  <a:pt x="5781678" y="958319"/>
                </a:lnTo>
                <a:lnTo>
                  <a:pt x="5791441" y="909959"/>
                </a:lnTo>
                <a:cubicBezTo>
                  <a:pt x="5811029" y="863649"/>
                  <a:pt x="5856884" y="831155"/>
                  <a:pt x="5910329" y="831155"/>
                </a:cubicBezTo>
                <a:cubicBezTo>
                  <a:pt x="5963774" y="831155"/>
                  <a:pt x="6009629" y="863649"/>
                  <a:pt x="6029217" y="909959"/>
                </a:cubicBezTo>
                <a:lnTo>
                  <a:pt x="6036685" y="946952"/>
                </a:lnTo>
                <a:lnTo>
                  <a:pt x="6036685" y="1016695"/>
                </a:lnTo>
                <a:lnTo>
                  <a:pt x="6039356" y="1029925"/>
                </a:lnTo>
                <a:lnTo>
                  <a:pt x="6039356" y="1088389"/>
                </a:lnTo>
                <a:lnTo>
                  <a:pt x="6045258" y="1059156"/>
                </a:lnTo>
                <a:lnTo>
                  <a:pt x="6046825" y="1066918"/>
                </a:lnTo>
                <a:cubicBezTo>
                  <a:pt x="6066412" y="1113228"/>
                  <a:pt x="6112267" y="1145722"/>
                  <a:pt x="6165712" y="1145722"/>
                </a:cubicBezTo>
                <a:lnTo>
                  <a:pt x="6165711" y="1145723"/>
                </a:lnTo>
                <a:cubicBezTo>
                  <a:pt x="6219156" y="1145723"/>
                  <a:pt x="6265011" y="1113229"/>
                  <a:pt x="6284599" y="1066919"/>
                </a:cubicBezTo>
                <a:lnTo>
                  <a:pt x="6286167" y="1059154"/>
                </a:lnTo>
                <a:lnTo>
                  <a:pt x="6288196" y="1069209"/>
                </a:lnTo>
                <a:lnTo>
                  <a:pt x="6288196" y="1049101"/>
                </a:lnTo>
                <a:lnTo>
                  <a:pt x="6294738" y="1016696"/>
                </a:lnTo>
                <a:lnTo>
                  <a:pt x="6294738" y="927778"/>
                </a:lnTo>
                <a:lnTo>
                  <a:pt x="6298336" y="909959"/>
                </a:lnTo>
                <a:cubicBezTo>
                  <a:pt x="6317923" y="863649"/>
                  <a:pt x="6363778" y="831155"/>
                  <a:pt x="6417223" y="831155"/>
                </a:cubicBezTo>
                <a:cubicBezTo>
                  <a:pt x="6470668" y="831155"/>
                  <a:pt x="6516523" y="863649"/>
                  <a:pt x="6536111" y="909959"/>
                </a:cubicBezTo>
                <a:lnTo>
                  <a:pt x="6546249" y="960178"/>
                </a:lnTo>
                <a:lnTo>
                  <a:pt x="6546249" y="769842"/>
                </a:lnTo>
                <a:lnTo>
                  <a:pt x="6546250" y="769846"/>
                </a:lnTo>
                <a:lnTo>
                  <a:pt x="6546249" y="3442314"/>
                </a:lnTo>
                <a:lnTo>
                  <a:pt x="6536111" y="3392095"/>
                </a:lnTo>
                <a:cubicBezTo>
                  <a:pt x="6516523" y="3345785"/>
                  <a:pt x="6470668" y="3313291"/>
                  <a:pt x="6417223" y="3313291"/>
                </a:cubicBezTo>
                <a:cubicBezTo>
                  <a:pt x="6363778" y="3313291"/>
                  <a:pt x="6317923" y="3345785"/>
                  <a:pt x="6298336" y="3392095"/>
                </a:cubicBezTo>
                <a:lnTo>
                  <a:pt x="6294738" y="3409914"/>
                </a:lnTo>
                <a:lnTo>
                  <a:pt x="6294738" y="3498832"/>
                </a:lnTo>
                <a:cubicBezTo>
                  <a:pt x="6294738" y="3570092"/>
                  <a:pt x="6236971" y="3627859"/>
                  <a:pt x="6165711" y="3627859"/>
                </a:cubicBezTo>
                <a:lnTo>
                  <a:pt x="6165712" y="3627858"/>
                </a:lnTo>
                <a:cubicBezTo>
                  <a:pt x="6094452" y="3627858"/>
                  <a:pt x="6036685" y="3570091"/>
                  <a:pt x="6036685" y="3498831"/>
                </a:cubicBezTo>
                <a:lnTo>
                  <a:pt x="6036685" y="3429088"/>
                </a:lnTo>
                <a:lnTo>
                  <a:pt x="6029217" y="3392095"/>
                </a:lnTo>
                <a:cubicBezTo>
                  <a:pt x="6009629" y="3345785"/>
                  <a:pt x="5963774" y="3313291"/>
                  <a:pt x="5910329" y="3313291"/>
                </a:cubicBezTo>
                <a:cubicBezTo>
                  <a:pt x="5856884" y="3313291"/>
                  <a:pt x="5811029" y="3345785"/>
                  <a:pt x="5791441" y="3392095"/>
                </a:cubicBezTo>
                <a:lnTo>
                  <a:pt x="5781678" y="3440455"/>
                </a:lnTo>
                <a:lnTo>
                  <a:pt x="5781678" y="3733255"/>
                </a:lnTo>
                <a:cubicBezTo>
                  <a:pt x="5781678" y="3804515"/>
                  <a:pt x="5723911" y="3862282"/>
                  <a:pt x="5652651" y="3862282"/>
                </a:cubicBezTo>
                <a:lnTo>
                  <a:pt x="5652652" y="3862281"/>
                </a:lnTo>
                <a:cubicBezTo>
                  <a:pt x="5581392" y="3862281"/>
                  <a:pt x="5523625" y="3804514"/>
                  <a:pt x="5523625" y="3733254"/>
                </a:cubicBezTo>
                <a:lnTo>
                  <a:pt x="5523625" y="3110518"/>
                </a:lnTo>
                <a:lnTo>
                  <a:pt x="5507394" y="3083767"/>
                </a:lnTo>
                <a:cubicBezTo>
                  <a:pt x="5483729" y="3055091"/>
                  <a:pt x="5447914" y="3036813"/>
                  <a:pt x="5407831" y="3036813"/>
                </a:cubicBezTo>
                <a:cubicBezTo>
                  <a:pt x="5372201" y="3036813"/>
                  <a:pt x="5339944" y="3051255"/>
                  <a:pt x="5316595" y="3074604"/>
                </a:cubicBezTo>
                <a:lnTo>
                  <a:pt x="5290389" y="3113473"/>
                </a:lnTo>
                <a:lnTo>
                  <a:pt x="5290389" y="3189601"/>
                </a:lnTo>
                <a:cubicBezTo>
                  <a:pt x="5290389" y="3243046"/>
                  <a:pt x="5257895" y="3288901"/>
                  <a:pt x="5211585" y="3308489"/>
                </a:cubicBezTo>
                <a:lnTo>
                  <a:pt x="5167785" y="3317331"/>
                </a:lnTo>
                <a:lnTo>
                  <a:pt x="5167785" y="3318697"/>
                </a:lnTo>
                <a:lnTo>
                  <a:pt x="5144305" y="3321064"/>
                </a:lnTo>
                <a:cubicBezTo>
                  <a:pt x="5098107" y="3330517"/>
                  <a:pt x="5060495" y="3363537"/>
                  <a:pt x="5044576" y="3407013"/>
                </a:cubicBezTo>
                <a:lnTo>
                  <a:pt x="5036375" y="3453484"/>
                </a:lnTo>
                <a:lnTo>
                  <a:pt x="5036375" y="3920653"/>
                </a:lnTo>
                <a:cubicBezTo>
                  <a:pt x="5036375" y="3991913"/>
                  <a:pt x="4978608" y="4049680"/>
                  <a:pt x="4907348" y="4049680"/>
                </a:cubicBezTo>
                <a:lnTo>
                  <a:pt x="4907349" y="4049681"/>
                </a:lnTo>
                <a:cubicBezTo>
                  <a:pt x="4836089" y="4049681"/>
                  <a:pt x="4778322" y="3991914"/>
                  <a:pt x="4778322" y="3920654"/>
                </a:cubicBezTo>
                <a:lnTo>
                  <a:pt x="4778322" y="3600019"/>
                </a:lnTo>
                <a:lnTo>
                  <a:pt x="4761155" y="3571724"/>
                </a:lnTo>
                <a:cubicBezTo>
                  <a:pt x="4737489" y="3543048"/>
                  <a:pt x="4701675" y="3524770"/>
                  <a:pt x="4661591" y="3524770"/>
                </a:cubicBezTo>
                <a:cubicBezTo>
                  <a:pt x="4608146" y="3524770"/>
                  <a:pt x="4562291" y="3557264"/>
                  <a:pt x="4542703" y="3603574"/>
                </a:cubicBezTo>
                <a:lnTo>
                  <a:pt x="4536603" y="3633790"/>
                </a:lnTo>
                <a:lnTo>
                  <a:pt x="4536603" y="4241225"/>
                </a:lnTo>
                <a:cubicBezTo>
                  <a:pt x="4536603" y="4312485"/>
                  <a:pt x="4478836" y="4370252"/>
                  <a:pt x="4407576" y="4370252"/>
                </a:cubicBezTo>
                <a:lnTo>
                  <a:pt x="4407577" y="4370251"/>
                </a:lnTo>
                <a:cubicBezTo>
                  <a:pt x="4336317" y="4370251"/>
                  <a:pt x="4278550" y="4312484"/>
                  <a:pt x="4278550" y="4241224"/>
                </a:cubicBezTo>
                <a:lnTo>
                  <a:pt x="4278550" y="4129866"/>
                </a:lnTo>
                <a:lnTo>
                  <a:pt x="4276724" y="4120821"/>
                </a:lnTo>
                <a:cubicBezTo>
                  <a:pt x="4257136" y="4074511"/>
                  <a:pt x="4211281" y="4042017"/>
                  <a:pt x="4157838" y="4042017"/>
                </a:cubicBezTo>
                <a:cubicBezTo>
                  <a:pt x="4104393" y="4042017"/>
                  <a:pt x="4058538" y="4074511"/>
                  <a:pt x="4038951" y="4120821"/>
                </a:cubicBezTo>
                <a:lnTo>
                  <a:pt x="4034813" y="4141314"/>
                </a:lnTo>
                <a:lnTo>
                  <a:pt x="4034813" y="4387339"/>
                </a:lnTo>
                <a:cubicBezTo>
                  <a:pt x="4034813" y="4458599"/>
                  <a:pt x="3977046" y="4516366"/>
                  <a:pt x="3905786" y="4516366"/>
                </a:cubicBezTo>
                <a:lnTo>
                  <a:pt x="3905787" y="4516365"/>
                </a:lnTo>
                <a:cubicBezTo>
                  <a:pt x="3834527" y="4516365"/>
                  <a:pt x="3776760" y="4458598"/>
                  <a:pt x="3776760" y="4387338"/>
                </a:cubicBezTo>
                <a:lnTo>
                  <a:pt x="3776760" y="3920169"/>
                </a:lnTo>
                <a:lnTo>
                  <a:pt x="3768559" y="3873698"/>
                </a:lnTo>
                <a:cubicBezTo>
                  <a:pt x="3752640" y="3830222"/>
                  <a:pt x="3715028" y="3797202"/>
                  <a:pt x="3668830" y="3787749"/>
                </a:cubicBezTo>
                <a:lnTo>
                  <a:pt x="3645350" y="3785382"/>
                </a:lnTo>
                <a:lnTo>
                  <a:pt x="3645350" y="3784016"/>
                </a:lnTo>
                <a:lnTo>
                  <a:pt x="3601550" y="3775174"/>
                </a:lnTo>
                <a:cubicBezTo>
                  <a:pt x="3555240" y="3755586"/>
                  <a:pt x="3522746" y="3709731"/>
                  <a:pt x="3522746" y="3656286"/>
                </a:cubicBezTo>
                <a:lnTo>
                  <a:pt x="3522746" y="3605956"/>
                </a:lnTo>
                <a:lnTo>
                  <a:pt x="3517232" y="3578644"/>
                </a:lnTo>
                <a:cubicBezTo>
                  <a:pt x="3497644" y="3532334"/>
                  <a:pt x="3451789" y="3499840"/>
                  <a:pt x="3398344" y="3499840"/>
                </a:cubicBezTo>
                <a:cubicBezTo>
                  <a:pt x="3344899" y="3499840"/>
                  <a:pt x="3299043" y="3532334"/>
                  <a:pt x="3279457" y="3578644"/>
                </a:cubicBezTo>
                <a:lnTo>
                  <a:pt x="3278304" y="3584356"/>
                </a:lnTo>
                <a:lnTo>
                  <a:pt x="3278304" y="3805792"/>
                </a:lnTo>
                <a:cubicBezTo>
                  <a:pt x="3278304" y="3877052"/>
                  <a:pt x="3220537" y="3934819"/>
                  <a:pt x="3149277" y="3934819"/>
                </a:cubicBezTo>
                <a:lnTo>
                  <a:pt x="3149278" y="3934818"/>
                </a:lnTo>
                <a:cubicBezTo>
                  <a:pt x="3078017" y="3934818"/>
                  <a:pt x="3020250" y="3877051"/>
                  <a:pt x="3020250" y="3805791"/>
                </a:cubicBezTo>
                <a:lnTo>
                  <a:pt x="3020250" y="3166418"/>
                </a:lnTo>
                <a:lnTo>
                  <a:pt x="3015030" y="3140557"/>
                </a:lnTo>
                <a:cubicBezTo>
                  <a:pt x="2995441" y="3094247"/>
                  <a:pt x="2949586" y="3061753"/>
                  <a:pt x="2896141" y="3061753"/>
                </a:cubicBezTo>
                <a:cubicBezTo>
                  <a:pt x="2842696" y="3061753"/>
                  <a:pt x="2796841" y="3094247"/>
                  <a:pt x="2777254" y="3140557"/>
                </a:cubicBezTo>
                <a:lnTo>
                  <a:pt x="2776781" y="3142902"/>
                </a:lnTo>
                <a:lnTo>
                  <a:pt x="2776780" y="3287845"/>
                </a:lnTo>
                <a:cubicBezTo>
                  <a:pt x="2776780" y="3341290"/>
                  <a:pt x="2744287" y="3387145"/>
                  <a:pt x="2697978" y="3406733"/>
                </a:cubicBezTo>
                <a:lnTo>
                  <a:pt x="2649908" y="3416437"/>
                </a:lnTo>
                <a:lnTo>
                  <a:pt x="2649908" y="3417175"/>
                </a:lnTo>
                <a:lnTo>
                  <a:pt x="2626428" y="3419542"/>
                </a:lnTo>
                <a:cubicBezTo>
                  <a:pt x="2595630" y="3425844"/>
                  <a:pt x="2568647" y="3442620"/>
                  <a:pt x="2549364" y="3465986"/>
                </a:cubicBezTo>
                <a:lnTo>
                  <a:pt x="2527576" y="3503963"/>
                </a:lnTo>
                <a:lnTo>
                  <a:pt x="2527576" y="3629530"/>
                </a:lnTo>
                <a:cubicBezTo>
                  <a:pt x="2527576" y="3682975"/>
                  <a:pt x="2495082" y="3728830"/>
                  <a:pt x="2448773" y="3748418"/>
                </a:cubicBezTo>
                <a:lnTo>
                  <a:pt x="2400704" y="3758122"/>
                </a:lnTo>
                <a:lnTo>
                  <a:pt x="2400704" y="3758860"/>
                </a:lnTo>
                <a:lnTo>
                  <a:pt x="2377224" y="3761227"/>
                </a:lnTo>
                <a:cubicBezTo>
                  <a:pt x="2331025" y="3770680"/>
                  <a:pt x="2293413" y="3803700"/>
                  <a:pt x="2277495" y="3847176"/>
                </a:cubicBezTo>
                <a:lnTo>
                  <a:pt x="2273451" y="3870091"/>
                </a:lnTo>
                <a:lnTo>
                  <a:pt x="2273451" y="4042017"/>
                </a:lnTo>
                <a:cubicBezTo>
                  <a:pt x="2273451" y="4113277"/>
                  <a:pt x="2215684" y="4171044"/>
                  <a:pt x="2144424" y="4171044"/>
                </a:cubicBezTo>
                <a:lnTo>
                  <a:pt x="2144425" y="4171043"/>
                </a:lnTo>
                <a:cubicBezTo>
                  <a:pt x="2073164" y="4171043"/>
                  <a:pt x="2015397" y="4113276"/>
                  <a:pt x="2015397" y="4042016"/>
                </a:cubicBezTo>
                <a:lnTo>
                  <a:pt x="2015397" y="3574847"/>
                </a:lnTo>
                <a:lnTo>
                  <a:pt x="2007197" y="3528376"/>
                </a:lnTo>
                <a:cubicBezTo>
                  <a:pt x="1991277" y="3484900"/>
                  <a:pt x="1953665" y="3451880"/>
                  <a:pt x="1907468" y="3442427"/>
                </a:cubicBezTo>
                <a:lnTo>
                  <a:pt x="1883988" y="3440060"/>
                </a:lnTo>
                <a:lnTo>
                  <a:pt x="1883988" y="3438694"/>
                </a:lnTo>
                <a:lnTo>
                  <a:pt x="1840188" y="3429852"/>
                </a:lnTo>
                <a:cubicBezTo>
                  <a:pt x="1793877" y="3410264"/>
                  <a:pt x="1761384" y="3364409"/>
                  <a:pt x="1761384" y="3310964"/>
                </a:cubicBezTo>
                <a:lnTo>
                  <a:pt x="1761384" y="3170753"/>
                </a:lnTo>
                <a:lnTo>
                  <a:pt x="1755288" y="3140557"/>
                </a:lnTo>
                <a:cubicBezTo>
                  <a:pt x="1735700" y="3094247"/>
                  <a:pt x="1689845" y="3061753"/>
                  <a:pt x="1636399" y="3061753"/>
                </a:cubicBezTo>
                <a:cubicBezTo>
                  <a:pt x="1582954" y="3061753"/>
                  <a:pt x="1537099" y="3094247"/>
                  <a:pt x="1517511" y="3140557"/>
                </a:cubicBezTo>
                <a:lnTo>
                  <a:pt x="1515570" y="3150177"/>
                </a:lnTo>
                <a:lnTo>
                  <a:pt x="1515570" y="3414557"/>
                </a:lnTo>
                <a:cubicBezTo>
                  <a:pt x="1515570" y="3485817"/>
                  <a:pt x="1457802" y="3543584"/>
                  <a:pt x="1386542" y="3543584"/>
                </a:cubicBezTo>
                <a:lnTo>
                  <a:pt x="1386543" y="3543583"/>
                </a:lnTo>
                <a:cubicBezTo>
                  <a:pt x="1315283" y="3543583"/>
                  <a:pt x="1257516" y="3485816"/>
                  <a:pt x="1257516" y="3414556"/>
                </a:cubicBezTo>
                <a:lnTo>
                  <a:pt x="1257516" y="2947387"/>
                </a:lnTo>
                <a:lnTo>
                  <a:pt x="1249314" y="2900916"/>
                </a:lnTo>
                <a:cubicBezTo>
                  <a:pt x="1233395" y="2857440"/>
                  <a:pt x="1195784" y="2824420"/>
                  <a:pt x="1149585" y="2814967"/>
                </a:cubicBezTo>
                <a:lnTo>
                  <a:pt x="1126105" y="2812600"/>
                </a:lnTo>
                <a:lnTo>
                  <a:pt x="1126105" y="2811234"/>
                </a:lnTo>
                <a:lnTo>
                  <a:pt x="1082305" y="2802392"/>
                </a:lnTo>
                <a:cubicBezTo>
                  <a:pt x="1035995" y="2782804"/>
                  <a:pt x="1003501" y="2736949"/>
                  <a:pt x="1003501" y="2683504"/>
                </a:cubicBezTo>
                <a:lnTo>
                  <a:pt x="1003501" y="2562084"/>
                </a:lnTo>
                <a:lnTo>
                  <a:pt x="1003270" y="2560940"/>
                </a:lnTo>
                <a:cubicBezTo>
                  <a:pt x="983682" y="2514630"/>
                  <a:pt x="937827" y="2482136"/>
                  <a:pt x="884382" y="2482136"/>
                </a:cubicBezTo>
                <a:cubicBezTo>
                  <a:pt x="830937" y="2482136"/>
                  <a:pt x="785082" y="2514630"/>
                  <a:pt x="765495" y="2560940"/>
                </a:cubicBezTo>
                <a:lnTo>
                  <a:pt x="762039" y="2578060"/>
                </a:lnTo>
                <a:lnTo>
                  <a:pt x="762039" y="2789322"/>
                </a:lnTo>
                <a:cubicBezTo>
                  <a:pt x="762039" y="2842767"/>
                  <a:pt x="729545" y="2888622"/>
                  <a:pt x="683236" y="2908210"/>
                </a:cubicBezTo>
                <a:lnTo>
                  <a:pt x="635166" y="2917914"/>
                </a:lnTo>
                <a:lnTo>
                  <a:pt x="635166" y="2918652"/>
                </a:lnTo>
                <a:lnTo>
                  <a:pt x="611686" y="2921019"/>
                </a:lnTo>
                <a:cubicBezTo>
                  <a:pt x="580887" y="2927321"/>
                  <a:pt x="553905" y="2944097"/>
                  <a:pt x="534621" y="2967463"/>
                </a:cubicBezTo>
                <a:lnTo>
                  <a:pt x="512067" y="3006776"/>
                </a:lnTo>
                <a:lnTo>
                  <a:pt x="512067" y="3706389"/>
                </a:lnTo>
                <a:cubicBezTo>
                  <a:pt x="512067" y="3777649"/>
                  <a:pt x="454300" y="3835416"/>
                  <a:pt x="383040" y="3835416"/>
                </a:cubicBezTo>
                <a:lnTo>
                  <a:pt x="383041" y="3835415"/>
                </a:lnTo>
                <a:cubicBezTo>
                  <a:pt x="311781" y="3835415"/>
                  <a:pt x="254014" y="3777648"/>
                  <a:pt x="254014" y="3706388"/>
                </a:cubicBezTo>
                <a:lnTo>
                  <a:pt x="254014" y="3239219"/>
                </a:lnTo>
                <a:lnTo>
                  <a:pt x="245813" y="3192748"/>
                </a:lnTo>
                <a:cubicBezTo>
                  <a:pt x="229894" y="3149272"/>
                  <a:pt x="192282" y="3116252"/>
                  <a:pt x="146084" y="3106799"/>
                </a:cubicBezTo>
                <a:lnTo>
                  <a:pt x="122604" y="3104432"/>
                </a:lnTo>
                <a:lnTo>
                  <a:pt x="122604" y="3103066"/>
                </a:lnTo>
                <a:lnTo>
                  <a:pt x="78804" y="3094224"/>
                </a:lnTo>
                <a:cubicBezTo>
                  <a:pt x="32494" y="3074636"/>
                  <a:pt x="0" y="3028781"/>
                  <a:pt x="0" y="2975336"/>
                </a:cubicBezTo>
                <a:lnTo>
                  <a:pt x="0" y="493200"/>
                </a:lnTo>
                <a:cubicBezTo>
                  <a:pt x="0" y="546645"/>
                  <a:pt x="32494" y="592500"/>
                  <a:pt x="78804" y="612088"/>
                </a:cubicBezTo>
                <a:lnTo>
                  <a:pt x="122604" y="620930"/>
                </a:lnTo>
                <a:lnTo>
                  <a:pt x="122604" y="622296"/>
                </a:lnTo>
                <a:lnTo>
                  <a:pt x="146084" y="624663"/>
                </a:lnTo>
                <a:cubicBezTo>
                  <a:pt x="192282" y="634116"/>
                  <a:pt x="229894" y="667136"/>
                  <a:pt x="245813" y="710612"/>
                </a:cubicBezTo>
                <a:lnTo>
                  <a:pt x="254014" y="757083"/>
                </a:lnTo>
                <a:lnTo>
                  <a:pt x="254014" y="1224252"/>
                </a:lnTo>
                <a:cubicBezTo>
                  <a:pt x="254014" y="1295512"/>
                  <a:pt x="311781" y="1353279"/>
                  <a:pt x="383041" y="1353279"/>
                </a:cubicBezTo>
                <a:lnTo>
                  <a:pt x="383040" y="1353280"/>
                </a:lnTo>
                <a:cubicBezTo>
                  <a:pt x="454300" y="1353280"/>
                  <a:pt x="512067" y="1295513"/>
                  <a:pt x="512067" y="1224253"/>
                </a:cubicBezTo>
                <a:lnTo>
                  <a:pt x="512067" y="524640"/>
                </a:lnTo>
                <a:lnTo>
                  <a:pt x="534621" y="485327"/>
                </a:lnTo>
                <a:cubicBezTo>
                  <a:pt x="553905" y="461961"/>
                  <a:pt x="580887" y="445185"/>
                  <a:pt x="611686" y="438883"/>
                </a:cubicBezTo>
                <a:lnTo>
                  <a:pt x="635166" y="436516"/>
                </a:lnTo>
                <a:lnTo>
                  <a:pt x="635166" y="435778"/>
                </a:lnTo>
                <a:lnTo>
                  <a:pt x="683236" y="426074"/>
                </a:lnTo>
                <a:cubicBezTo>
                  <a:pt x="729545" y="406486"/>
                  <a:pt x="762039" y="360631"/>
                  <a:pt x="762039" y="307186"/>
                </a:cubicBezTo>
                <a:lnTo>
                  <a:pt x="762039" y="95924"/>
                </a:lnTo>
                <a:lnTo>
                  <a:pt x="765495" y="78804"/>
                </a:lnTo>
                <a:cubicBezTo>
                  <a:pt x="785082" y="32494"/>
                  <a:pt x="830937" y="0"/>
                  <a:pt x="8843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94" name="Rectángulo redondeado 20"/>
          <p:cNvSpPr/>
          <p:nvPr/>
        </p:nvSpPr>
        <p:spPr>
          <a:xfrm>
            <a:off x="231840" y="3970440"/>
            <a:ext cx="258840" cy="255600"/>
          </a:xfrm>
          <a:prstGeom prst="roundRect">
            <a:avLst>
              <a:gd name="adj" fmla="val 50000"/>
            </a:avLst>
          </a:pr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95" name="Rectángulo redondeado 37"/>
          <p:cNvSpPr/>
          <p:nvPr/>
        </p:nvSpPr>
        <p:spPr>
          <a:xfrm>
            <a:off x="2998800" y="4103640"/>
            <a:ext cx="258840" cy="255600"/>
          </a:xfrm>
          <a:prstGeom prst="roundRect">
            <a:avLst>
              <a:gd name="adj" fmla="val 50000"/>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696" name="Agrupar 69" descr=""/>
          <p:cNvPicPr/>
          <p:nvPr/>
        </p:nvPicPr>
        <p:blipFill>
          <a:blip r:embed="rId1"/>
          <a:stretch/>
        </p:blipFill>
        <p:spPr>
          <a:xfrm>
            <a:off x="6808680" y="4170240"/>
            <a:ext cx="262080" cy="255600"/>
          </a:xfrm>
          <a:prstGeom prst="rect">
            <a:avLst/>
          </a:prstGeom>
          <a:ln w="0">
            <a:noFill/>
          </a:ln>
        </p:spPr>
      </p:pic>
      <p:sp>
        <p:nvSpPr>
          <p:cNvPr id="697" name="Forma libre 84"/>
          <p:cNvSpPr/>
          <p:nvPr/>
        </p:nvSpPr>
        <p:spPr>
          <a:xfrm>
            <a:off x="1490760" y="262080"/>
            <a:ext cx="2570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009ac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98" name="Forma libre 85"/>
          <p:cNvSpPr/>
          <p:nvPr/>
        </p:nvSpPr>
        <p:spPr>
          <a:xfrm>
            <a:off x="8613720" y="3843360"/>
            <a:ext cx="25740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ee3b4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99" name="Rectángulo redondeado 86"/>
          <p:cNvSpPr/>
          <p:nvPr/>
        </p:nvSpPr>
        <p:spPr>
          <a:xfrm>
            <a:off x="6264360" y="500040"/>
            <a:ext cx="258840" cy="255600"/>
          </a:xfrm>
          <a:prstGeom prst="roundRect">
            <a:avLst>
              <a:gd name="adj" fmla="val 50000"/>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700" name="Agrupar 87" descr=""/>
          <p:cNvPicPr/>
          <p:nvPr/>
        </p:nvPicPr>
        <p:blipFill>
          <a:blip r:embed="rId2"/>
          <a:stretch/>
        </p:blipFill>
        <p:spPr>
          <a:xfrm>
            <a:off x="4237200" y="822240"/>
            <a:ext cx="261720" cy="257400"/>
          </a:xfrm>
          <a:prstGeom prst="rect">
            <a:avLst/>
          </a:prstGeom>
          <a:ln w="0">
            <a:noFill/>
          </a:ln>
        </p:spPr>
      </p:pic>
      <p:sp>
        <p:nvSpPr>
          <p:cNvPr id="701" name="Marcador de texto 13"/>
          <p:cNvSpPr/>
          <p:nvPr/>
        </p:nvSpPr>
        <p:spPr>
          <a:xfrm>
            <a:off x="689040" y="2046240"/>
            <a:ext cx="776592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2f2f2"/>
                </a:solidFill>
                <a:latin typeface="Raleway Light"/>
                <a:ea typeface="Raleway Light"/>
              </a:rPr>
              <a:t>Our Mision</a:t>
            </a:r>
            <a:endParaRPr b="0" lang="en-US" sz="5000" spc="-1" strike="noStrike">
              <a:solidFill>
                <a:srgbClr val="000000"/>
              </a:solidFill>
              <a:latin typeface="Calibri"/>
            </a:endParaRPr>
          </a:p>
        </p:txBody>
      </p:sp>
      <p:sp>
        <p:nvSpPr>
          <p:cNvPr id="702" name="Text Placeholder 20"/>
          <p:cNvSpPr/>
          <p:nvPr/>
        </p:nvSpPr>
        <p:spPr>
          <a:xfrm>
            <a:off x="3205080" y="2664000"/>
            <a:ext cx="2733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ULTIMATE POWERPOINT PRESENTATION</a:t>
            </a:r>
            <a:endParaRPr b="0" lang="en-US" sz="1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Marcador de texto 13"/>
          <p:cNvSpPr/>
          <p:nvPr/>
        </p:nvSpPr>
        <p:spPr>
          <a:xfrm>
            <a:off x="2438280" y="961920"/>
            <a:ext cx="426744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Three bases</a:t>
            </a:r>
            <a:endParaRPr b="0" lang="en-US" sz="5000" spc="-1" strike="noStrike">
              <a:solidFill>
                <a:srgbClr val="000000"/>
              </a:solidFill>
              <a:latin typeface="Calibri"/>
            </a:endParaRPr>
          </a:p>
        </p:txBody>
      </p:sp>
      <p:sp>
        <p:nvSpPr>
          <p:cNvPr id="704"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O WORK WITH OUR</a:t>
            </a:r>
            <a:endParaRPr b="0" lang="en-US" sz="1000" spc="-1" strike="noStrike">
              <a:solidFill>
                <a:srgbClr val="000000"/>
              </a:solidFill>
              <a:latin typeface="Calibri"/>
            </a:endParaRPr>
          </a:p>
        </p:txBody>
      </p:sp>
      <p:pic>
        <p:nvPicPr>
          <p:cNvPr id="705" name="Text Placeholder 23" descr=""/>
          <p:cNvPicPr/>
          <p:nvPr/>
        </p:nvPicPr>
        <p:blipFill>
          <a:blip r:embed="rId1"/>
          <a:stretch/>
        </p:blipFill>
        <p:spPr>
          <a:xfrm>
            <a:off x="609480" y="2341440"/>
            <a:ext cx="7851960" cy="2273400"/>
          </a:xfrm>
          <a:prstGeom prst="rect">
            <a:avLst/>
          </a:prstGeom>
          <a:ln w="0">
            <a:noFill/>
          </a:ln>
        </p:spPr>
      </p:pic>
      <p:sp>
        <p:nvSpPr>
          <p:cNvPr id="706" name="Text Placeholder 20"/>
          <p:cNvSpPr/>
          <p:nvPr/>
        </p:nvSpPr>
        <p:spPr>
          <a:xfrm>
            <a:off x="684360" y="2057400"/>
            <a:ext cx="23414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7f7f7f"/>
                </a:solidFill>
                <a:latin typeface="Raleway Black"/>
                <a:ea typeface="Raleway Black"/>
              </a:rPr>
              <a:t>FIRST</a:t>
            </a:r>
            <a:endParaRPr b="0" lang="en-US" sz="1500" spc="-1" strike="noStrike">
              <a:solidFill>
                <a:srgbClr val="000000"/>
              </a:solidFill>
              <a:latin typeface="Calibri"/>
            </a:endParaRPr>
          </a:p>
        </p:txBody>
      </p:sp>
      <p:sp>
        <p:nvSpPr>
          <p:cNvPr id="707" name="Text Placeholder 20"/>
          <p:cNvSpPr/>
          <p:nvPr/>
        </p:nvSpPr>
        <p:spPr>
          <a:xfrm>
            <a:off x="3402000" y="2057400"/>
            <a:ext cx="23400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7f7f7f"/>
                </a:solidFill>
                <a:latin typeface="Raleway Black"/>
                <a:ea typeface="Raleway Black"/>
              </a:rPr>
              <a:t>SECOND</a:t>
            </a:r>
            <a:endParaRPr b="0" lang="en-US" sz="1500" spc="-1" strike="noStrike">
              <a:solidFill>
                <a:srgbClr val="000000"/>
              </a:solidFill>
              <a:latin typeface="Calibri"/>
            </a:endParaRPr>
          </a:p>
        </p:txBody>
      </p:sp>
      <p:sp>
        <p:nvSpPr>
          <p:cNvPr id="708" name="Text Placeholder 20"/>
          <p:cNvSpPr/>
          <p:nvPr/>
        </p:nvSpPr>
        <p:spPr>
          <a:xfrm>
            <a:off x="6043680" y="2057400"/>
            <a:ext cx="23400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7f7f7f"/>
                </a:solidFill>
                <a:latin typeface="Raleway Black"/>
                <a:ea typeface="Raleway Black"/>
              </a:rPr>
              <a:t>SECOND</a:t>
            </a:r>
            <a:endParaRPr b="0" lang="en-US" sz="15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p:nvPr>
        </p:nvSpPr>
        <p:spPr>
          <a:xfrm>
            <a:off x="2257560" y="372600"/>
            <a:ext cx="464328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f7f7f"/>
                </a:solidFill>
                <a:latin typeface="Raleway Light"/>
                <a:ea typeface="Raleway Light"/>
              </a:rPr>
              <a:t>Creative showreel</a:t>
            </a:r>
            <a:endParaRPr b="0" lang="en-US" sz="4000" spc="-1" strike="noStrike">
              <a:solidFill>
                <a:srgbClr val="000000"/>
              </a:solidFill>
              <a:latin typeface="Calibri"/>
            </a:endParaRPr>
          </a:p>
        </p:txBody>
      </p:sp>
      <p:sp>
        <p:nvSpPr>
          <p:cNvPr id="710"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711" name="PlaceHolder 3"/>
          <p:cNvSpPr>
            <a:spLocks noGrp="1"/>
          </p:cNvSpPr>
          <p:nvPr>
            <p:ph/>
          </p:nvPr>
        </p:nvSpPr>
        <p:spPr>
          <a:xfrm>
            <a:off x="2960640" y="2334960"/>
            <a:ext cx="527040" cy="563400"/>
          </a:xfrm>
          <a:prstGeom prst="rect">
            <a:avLst/>
          </a:prstGeom>
          <a:noFill/>
          <a:ln w="0">
            <a:noFill/>
          </a:ln>
        </p:spPr>
        <p:txBody>
          <a:bodyPr lIns="0" rIns="0" tIns="104040" bIns="10404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ontAwesome"/>
                <a:ea typeface="FontAwesome"/>
              </a:rPr>
              <a:t></a:t>
            </a:r>
            <a:endParaRPr b="0" lang="en-US" sz="2000" spc="-1" strike="noStrike">
              <a:solidFill>
                <a:srgbClr val="000000"/>
              </a:solidFill>
              <a:latin typeface="Calibri"/>
            </a:endParaRPr>
          </a:p>
        </p:txBody>
      </p:sp>
      <p:sp>
        <p:nvSpPr>
          <p:cNvPr id="712" name="PlaceHolder 4"/>
          <p:cNvSpPr>
            <a:spLocks noGrp="1"/>
          </p:cNvSpPr>
          <p:nvPr>
            <p:ph/>
          </p:nvPr>
        </p:nvSpPr>
        <p:spPr>
          <a:xfrm>
            <a:off x="5680080" y="2334960"/>
            <a:ext cx="527040" cy="563400"/>
          </a:xfrm>
          <a:prstGeom prst="rect">
            <a:avLst/>
          </a:prstGeom>
          <a:noFill/>
          <a:ln w="0">
            <a:noFill/>
          </a:ln>
        </p:spPr>
        <p:txBody>
          <a:bodyPr lIns="0" rIns="0" tIns="104040" bIns="10404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ontAwesome"/>
                <a:ea typeface="FontAwesome"/>
              </a:rPr>
              <a:t></a:t>
            </a:r>
            <a:endParaRPr b="0" lang="en-US" sz="2000" spc="-1" strike="noStrike">
              <a:solidFill>
                <a:srgbClr val="000000"/>
              </a:solidFill>
              <a:latin typeface="Calibri"/>
            </a:endParaRPr>
          </a:p>
        </p:txBody>
      </p:sp>
      <p:sp>
        <p:nvSpPr>
          <p:cNvPr id="713" name="Text Placeholder 20"/>
          <p:cNvSpPr/>
          <p:nvPr/>
        </p:nvSpPr>
        <p:spPr>
          <a:xfrm>
            <a:off x="998640" y="4051440"/>
            <a:ext cx="170640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714" name="Text Placeholder 23"/>
          <p:cNvSpPr/>
          <p:nvPr/>
        </p:nvSpPr>
        <p:spPr>
          <a:xfrm>
            <a:off x="998640" y="43131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715" name="Text Placeholder 20"/>
          <p:cNvSpPr/>
          <p:nvPr/>
        </p:nvSpPr>
        <p:spPr>
          <a:xfrm>
            <a:off x="3718080" y="4051440"/>
            <a:ext cx="1707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716" name="Text Placeholder 23"/>
          <p:cNvSpPr/>
          <p:nvPr/>
        </p:nvSpPr>
        <p:spPr>
          <a:xfrm>
            <a:off x="3718080" y="4313160"/>
            <a:ext cx="170784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717" name="Text Placeholder 20"/>
          <p:cNvSpPr/>
          <p:nvPr/>
        </p:nvSpPr>
        <p:spPr>
          <a:xfrm>
            <a:off x="6438960" y="4051440"/>
            <a:ext cx="170640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718" name="Text Placeholder 23"/>
          <p:cNvSpPr/>
          <p:nvPr/>
        </p:nvSpPr>
        <p:spPr>
          <a:xfrm>
            <a:off x="6438960" y="43131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2496600" y="292212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Analysis</a:t>
            </a:r>
            <a:endParaRPr b="0" lang="en-US" sz="4000" spc="-1" strike="noStrike">
              <a:solidFill>
                <a:srgbClr val="000000"/>
              </a:solidFill>
              <a:latin typeface="Calibri"/>
            </a:endParaRPr>
          </a:p>
        </p:txBody>
      </p:sp>
      <p:sp>
        <p:nvSpPr>
          <p:cNvPr id="720" name="CuadroTexto 6"/>
          <p:cNvSpPr/>
          <p:nvPr/>
        </p:nvSpPr>
        <p:spPr>
          <a:xfrm>
            <a:off x="1915920" y="963720"/>
            <a:ext cx="5325840" cy="22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0" spc="-1" strike="noStrike">
                <a:solidFill>
                  <a:srgbClr val="22957b"/>
                </a:solidFill>
                <a:latin typeface="Raleway Black"/>
                <a:ea typeface="Raleway Black"/>
              </a:rPr>
              <a:t>SWOT</a:t>
            </a:r>
            <a:endParaRPr b="0" lang="en-US" sz="14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Forma libre 21"/>
          <p:cNvSpPr/>
          <p:nvPr/>
        </p:nvSpPr>
        <p:spPr>
          <a:xfrm>
            <a:off x="0" y="0"/>
            <a:ext cx="4208400" cy="5143680"/>
          </a:xfrm>
          <a:custGeom>
            <a:avLst/>
            <a:gdLst/>
            <a:ahLst/>
            <a:rect l="l" t="t" r="r" b="b"/>
            <a:pathLst>
              <a:path w="4208106" h="5143500">
                <a:moveTo>
                  <a:pt x="0" y="0"/>
                </a:moveTo>
                <a:lnTo>
                  <a:pt x="3197336" y="0"/>
                </a:lnTo>
                <a:lnTo>
                  <a:pt x="3197336" y="1491236"/>
                </a:lnTo>
                <a:cubicBezTo>
                  <a:pt x="3197336" y="1562496"/>
                  <a:pt x="3255103" y="1620263"/>
                  <a:pt x="3326363" y="1620263"/>
                </a:cubicBezTo>
                <a:lnTo>
                  <a:pt x="3326362" y="1620264"/>
                </a:lnTo>
                <a:cubicBezTo>
                  <a:pt x="3397622" y="1620264"/>
                  <a:pt x="3455389" y="1562497"/>
                  <a:pt x="3455389" y="1491237"/>
                </a:cubicBezTo>
                <a:lnTo>
                  <a:pt x="3455389" y="1402319"/>
                </a:lnTo>
                <a:lnTo>
                  <a:pt x="3458987" y="1384500"/>
                </a:lnTo>
                <a:cubicBezTo>
                  <a:pt x="3478574" y="1338190"/>
                  <a:pt x="3524429" y="1305696"/>
                  <a:pt x="3577874" y="1305696"/>
                </a:cubicBezTo>
                <a:cubicBezTo>
                  <a:pt x="3631319" y="1305696"/>
                  <a:pt x="3677174" y="1338190"/>
                  <a:pt x="3696762" y="1384500"/>
                </a:cubicBezTo>
                <a:lnTo>
                  <a:pt x="3701721" y="1409065"/>
                </a:lnTo>
                <a:lnTo>
                  <a:pt x="3701721" y="2147429"/>
                </a:lnTo>
                <a:cubicBezTo>
                  <a:pt x="3701721" y="2218689"/>
                  <a:pt x="3759488" y="2276456"/>
                  <a:pt x="3830748" y="2276456"/>
                </a:cubicBezTo>
                <a:lnTo>
                  <a:pt x="3830747" y="2276457"/>
                </a:lnTo>
                <a:cubicBezTo>
                  <a:pt x="3902007" y="2276457"/>
                  <a:pt x="3959774" y="2218690"/>
                  <a:pt x="3959774" y="2147430"/>
                </a:cubicBezTo>
                <a:lnTo>
                  <a:pt x="3959774" y="2058512"/>
                </a:lnTo>
                <a:lnTo>
                  <a:pt x="3963372" y="2040693"/>
                </a:lnTo>
                <a:cubicBezTo>
                  <a:pt x="3982959" y="1994383"/>
                  <a:pt x="4028814" y="1961889"/>
                  <a:pt x="4082259" y="1961889"/>
                </a:cubicBezTo>
                <a:cubicBezTo>
                  <a:pt x="4135704" y="1961889"/>
                  <a:pt x="4181559" y="1994383"/>
                  <a:pt x="4201147" y="2040693"/>
                </a:cubicBezTo>
                <a:lnTo>
                  <a:pt x="4208106" y="2075165"/>
                </a:lnTo>
                <a:lnTo>
                  <a:pt x="4208106" y="5143500"/>
                </a:lnTo>
                <a:lnTo>
                  <a:pt x="0" y="5143500"/>
                </a:lnTo>
                <a:lnTo>
                  <a:pt x="0" y="0"/>
                </a:lnTo>
                <a:close/>
              </a:path>
            </a:pathLst>
          </a:custGeom>
          <a:solidFill>
            <a:srgbClr val="6b7c14"/>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22"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23"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24" name="Rectángulo redondeado 7"/>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25"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26"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27" name="Rectángulo redondeado 10"/>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28"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29"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30" name="Rectángulo redondeado 13"/>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31"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Strenght</a:t>
            </a:r>
            <a:endParaRPr b="0" lang="en-US" sz="4000" spc="-1" strike="noStrike">
              <a:solidFill>
                <a:srgbClr val="000000"/>
              </a:solidFill>
              <a:latin typeface="Calibri"/>
            </a:endParaRPr>
          </a:p>
        </p:txBody>
      </p:sp>
      <p:sp>
        <p:nvSpPr>
          <p:cNvPr id="732"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33" name="CuadroTexto 19"/>
          <p:cNvSpPr/>
          <p:nvPr/>
        </p:nvSpPr>
        <p:spPr>
          <a:xfrm>
            <a:off x="1177920" y="1474920"/>
            <a:ext cx="1766880" cy="2212920"/>
          </a:xfrm>
          <a:custGeom>
            <a:avLst/>
            <a:gdLst/>
            <a:ahLst/>
            <a:rect l="l" t="t" r="r" b="b"/>
            <a:pathLst>
              <a:path w="2575494" h="3224927">
                <a:moveTo>
                  <a:pt x="1316660" y="0"/>
                </a:moveTo>
                <a:cubicBezTo>
                  <a:pt x="1432313" y="0"/>
                  <a:pt x="1545000" y="11120"/>
                  <a:pt x="1654721" y="33361"/>
                </a:cubicBezTo>
                <a:cubicBezTo>
                  <a:pt x="1764443" y="55602"/>
                  <a:pt x="1870458" y="83774"/>
                  <a:pt x="1972766" y="117876"/>
                </a:cubicBezTo>
                <a:cubicBezTo>
                  <a:pt x="2075074" y="151979"/>
                  <a:pt x="2170710" y="189047"/>
                  <a:pt x="2259673" y="229081"/>
                </a:cubicBezTo>
                <a:cubicBezTo>
                  <a:pt x="2304155" y="249097"/>
                  <a:pt x="2346413" y="268558"/>
                  <a:pt x="2386446" y="287463"/>
                </a:cubicBezTo>
                <a:lnTo>
                  <a:pt x="2465656" y="325903"/>
                </a:lnTo>
                <a:lnTo>
                  <a:pt x="2484041" y="372857"/>
                </a:lnTo>
                <a:lnTo>
                  <a:pt x="2126228" y="1058665"/>
                </a:lnTo>
                <a:cubicBezTo>
                  <a:pt x="2037264" y="1005287"/>
                  <a:pt x="1945335" y="957840"/>
                  <a:pt x="1850441" y="916324"/>
                </a:cubicBezTo>
                <a:cubicBezTo>
                  <a:pt x="1770374" y="880738"/>
                  <a:pt x="1680669" y="847377"/>
                  <a:pt x="1581326" y="816240"/>
                </a:cubicBezTo>
                <a:cubicBezTo>
                  <a:pt x="1481984" y="785103"/>
                  <a:pt x="1384865" y="769534"/>
                  <a:pt x="1289971" y="769534"/>
                </a:cubicBezTo>
                <a:cubicBezTo>
                  <a:pt x="1212869" y="769534"/>
                  <a:pt x="1151336" y="781396"/>
                  <a:pt x="1105372" y="805119"/>
                </a:cubicBezTo>
                <a:cubicBezTo>
                  <a:pt x="1059407" y="828843"/>
                  <a:pt x="1036425" y="868877"/>
                  <a:pt x="1036425" y="925220"/>
                </a:cubicBezTo>
                <a:cubicBezTo>
                  <a:pt x="1036425" y="966736"/>
                  <a:pt x="1049770" y="1000839"/>
                  <a:pt x="1076459" y="1027528"/>
                </a:cubicBezTo>
                <a:cubicBezTo>
                  <a:pt x="1103148" y="1054217"/>
                  <a:pt x="1141698" y="1078682"/>
                  <a:pt x="1192111" y="1100923"/>
                </a:cubicBezTo>
                <a:cubicBezTo>
                  <a:pt x="1242524" y="1123164"/>
                  <a:pt x="1304057" y="1144664"/>
                  <a:pt x="1376710" y="1165422"/>
                </a:cubicBezTo>
                <a:cubicBezTo>
                  <a:pt x="1449364" y="1186180"/>
                  <a:pt x="1531655" y="1211386"/>
                  <a:pt x="1623584" y="1241041"/>
                </a:cubicBezTo>
                <a:cubicBezTo>
                  <a:pt x="1768891" y="1285522"/>
                  <a:pt x="1900112" y="1334452"/>
                  <a:pt x="2017248" y="1387830"/>
                </a:cubicBezTo>
                <a:cubicBezTo>
                  <a:pt x="2134383" y="1441209"/>
                  <a:pt x="2234467" y="1504224"/>
                  <a:pt x="2317499" y="1576878"/>
                </a:cubicBezTo>
                <a:cubicBezTo>
                  <a:pt x="2400532" y="1649531"/>
                  <a:pt x="2464289" y="1737754"/>
                  <a:pt x="2508771" y="1841544"/>
                </a:cubicBezTo>
                <a:cubicBezTo>
                  <a:pt x="2553253" y="1945335"/>
                  <a:pt x="2575494" y="2071367"/>
                  <a:pt x="2575494" y="2219639"/>
                </a:cubicBezTo>
                <a:cubicBezTo>
                  <a:pt x="2575494" y="2409428"/>
                  <a:pt x="2540650" y="2568821"/>
                  <a:pt x="2470961" y="2697818"/>
                </a:cubicBezTo>
                <a:cubicBezTo>
                  <a:pt x="2401273" y="2826815"/>
                  <a:pt x="2309344" y="2929864"/>
                  <a:pt x="2195175" y="3006966"/>
                </a:cubicBezTo>
                <a:cubicBezTo>
                  <a:pt x="2081005" y="3084068"/>
                  <a:pt x="1952008" y="3139670"/>
                  <a:pt x="1808183" y="3173773"/>
                </a:cubicBezTo>
                <a:cubicBezTo>
                  <a:pt x="1664359" y="3207875"/>
                  <a:pt x="1519793" y="3224927"/>
                  <a:pt x="1374486" y="3224927"/>
                </a:cubicBezTo>
                <a:cubicBezTo>
                  <a:pt x="1258834" y="3224927"/>
                  <a:pt x="1140216" y="3216030"/>
                  <a:pt x="1018632" y="3198238"/>
                </a:cubicBezTo>
                <a:cubicBezTo>
                  <a:pt x="897049" y="3180445"/>
                  <a:pt x="776207" y="3155239"/>
                  <a:pt x="656106" y="3122619"/>
                </a:cubicBezTo>
                <a:cubicBezTo>
                  <a:pt x="536005" y="3089999"/>
                  <a:pt x="420353" y="3051448"/>
                  <a:pt x="309148" y="3006966"/>
                </a:cubicBezTo>
                <a:cubicBezTo>
                  <a:pt x="197944" y="2962484"/>
                  <a:pt x="94895" y="2912072"/>
                  <a:pt x="0" y="2855728"/>
                </a:cubicBezTo>
                <a:lnTo>
                  <a:pt x="373647" y="2095090"/>
                </a:lnTo>
                <a:cubicBezTo>
                  <a:pt x="477438" y="2160330"/>
                  <a:pt x="585677" y="2218157"/>
                  <a:pt x="698364" y="2268569"/>
                </a:cubicBezTo>
                <a:cubicBezTo>
                  <a:pt x="793258" y="2313051"/>
                  <a:pt x="900756" y="2353084"/>
                  <a:pt x="1020856" y="2388670"/>
                </a:cubicBezTo>
                <a:cubicBezTo>
                  <a:pt x="1140957" y="2424255"/>
                  <a:pt x="1263282" y="2442048"/>
                  <a:pt x="1387831" y="2442048"/>
                </a:cubicBezTo>
                <a:cubicBezTo>
                  <a:pt x="1482725" y="2442048"/>
                  <a:pt x="1548707" y="2429445"/>
                  <a:pt x="1585775" y="2404238"/>
                </a:cubicBezTo>
                <a:cubicBezTo>
                  <a:pt x="1622843" y="2379032"/>
                  <a:pt x="1641377" y="2345671"/>
                  <a:pt x="1641377" y="2304154"/>
                </a:cubicBezTo>
                <a:cubicBezTo>
                  <a:pt x="1641377" y="2259673"/>
                  <a:pt x="1622843" y="2221863"/>
                  <a:pt x="1585775" y="2190726"/>
                </a:cubicBezTo>
                <a:cubicBezTo>
                  <a:pt x="1548707" y="2159589"/>
                  <a:pt x="1497553" y="2132158"/>
                  <a:pt x="1432313" y="2108435"/>
                </a:cubicBezTo>
                <a:cubicBezTo>
                  <a:pt x="1367073" y="2084711"/>
                  <a:pt x="1292195" y="2060987"/>
                  <a:pt x="1207680" y="2037264"/>
                </a:cubicBezTo>
                <a:cubicBezTo>
                  <a:pt x="1123165" y="2013540"/>
                  <a:pt x="1033460" y="1985369"/>
                  <a:pt x="938565" y="1952749"/>
                </a:cubicBezTo>
                <a:cubicBezTo>
                  <a:pt x="799189" y="1905301"/>
                  <a:pt x="679088" y="1854147"/>
                  <a:pt x="578263" y="1799287"/>
                </a:cubicBezTo>
                <a:cubicBezTo>
                  <a:pt x="477438" y="1744426"/>
                  <a:pt x="394405" y="1682151"/>
                  <a:pt x="329165" y="1612463"/>
                </a:cubicBezTo>
                <a:cubicBezTo>
                  <a:pt x="263925" y="1542775"/>
                  <a:pt x="215737" y="1463449"/>
                  <a:pt x="184600" y="1374486"/>
                </a:cubicBezTo>
                <a:cubicBezTo>
                  <a:pt x="153462" y="1285522"/>
                  <a:pt x="137894" y="1183214"/>
                  <a:pt x="137894" y="1067562"/>
                </a:cubicBezTo>
                <a:cubicBezTo>
                  <a:pt x="137894" y="892600"/>
                  <a:pt x="169772" y="738397"/>
                  <a:pt x="233529" y="604952"/>
                </a:cubicBezTo>
                <a:cubicBezTo>
                  <a:pt x="297287" y="471506"/>
                  <a:pt x="384026" y="360302"/>
                  <a:pt x="493748" y="271338"/>
                </a:cubicBezTo>
                <a:cubicBezTo>
                  <a:pt x="603469" y="182375"/>
                  <a:pt x="728760" y="114911"/>
                  <a:pt x="869618" y="68946"/>
                </a:cubicBezTo>
                <a:cubicBezTo>
                  <a:pt x="1010477" y="22982"/>
                  <a:pt x="1159491" y="0"/>
                  <a:pt x="1316660" y="0"/>
                </a:cubicBezTo>
                <a:close/>
              </a:path>
            </a:pathLst>
          </a:custGeom>
          <a:solidFill>
            <a:srgbClr val="ffffff"/>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34" name="Forma libre 23"/>
          <p:cNvSpPr/>
          <p:nvPr/>
        </p:nvSpPr>
        <p:spPr>
          <a:xfrm>
            <a:off x="2682720" y="-1214280"/>
            <a:ext cx="773280" cy="3976560"/>
          </a:xfrm>
          <a:custGeom>
            <a:avLst/>
            <a:gdLst/>
            <a:ahLst/>
            <a:rect l="l" t="t" r="r" b="b"/>
            <a:pathLst>
              <a:path w="773785" h="3977707">
                <a:moveTo>
                  <a:pt x="129027" y="0"/>
                </a:moveTo>
                <a:cubicBezTo>
                  <a:pt x="182472" y="0"/>
                  <a:pt x="228327" y="32494"/>
                  <a:pt x="247915" y="78804"/>
                </a:cubicBezTo>
                <a:lnTo>
                  <a:pt x="257866" y="128093"/>
                </a:lnTo>
                <a:lnTo>
                  <a:pt x="267817" y="78804"/>
                </a:lnTo>
                <a:cubicBezTo>
                  <a:pt x="287404" y="32494"/>
                  <a:pt x="333259" y="0"/>
                  <a:pt x="386704" y="0"/>
                </a:cubicBezTo>
                <a:cubicBezTo>
                  <a:pt x="457964" y="0"/>
                  <a:pt x="515731" y="57767"/>
                  <a:pt x="515731" y="129027"/>
                </a:cubicBezTo>
                <a:lnTo>
                  <a:pt x="515730" y="2801495"/>
                </a:lnTo>
                <a:lnTo>
                  <a:pt x="505592" y="2751276"/>
                </a:lnTo>
                <a:cubicBezTo>
                  <a:pt x="486004" y="2704966"/>
                  <a:pt x="440149" y="2672472"/>
                  <a:pt x="386704" y="2672472"/>
                </a:cubicBezTo>
                <a:cubicBezTo>
                  <a:pt x="333259" y="2672472"/>
                  <a:pt x="287404" y="2704966"/>
                  <a:pt x="267817" y="2751276"/>
                </a:cubicBezTo>
                <a:lnTo>
                  <a:pt x="258053" y="2799636"/>
                </a:lnTo>
                <a:lnTo>
                  <a:pt x="258053" y="3130438"/>
                </a:lnTo>
                <a:cubicBezTo>
                  <a:pt x="258053" y="3201698"/>
                  <a:pt x="200286" y="3259465"/>
                  <a:pt x="129026" y="3259465"/>
                </a:cubicBezTo>
                <a:lnTo>
                  <a:pt x="129027" y="3259464"/>
                </a:lnTo>
                <a:cubicBezTo>
                  <a:pt x="57767" y="3259464"/>
                  <a:pt x="0" y="3201697"/>
                  <a:pt x="0" y="3130437"/>
                </a:cubicBezTo>
                <a:lnTo>
                  <a:pt x="0" y="129027"/>
                </a:lnTo>
                <a:cubicBezTo>
                  <a:pt x="0" y="57767"/>
                  <a:pt x="57767" y="0"/>
                  <a:pt x="129027" y="0"/>
                </a:cubicBezTo>
                <a:close/>
                <a:moveTo>
                  <a:pt x="644758" y="0"/>
                </a:moveTo>
                <a:cubicBezTo>
                  <a:pt x="716018" y="0"/>
                  <a:pt x="773785" y="57767"/>
                  <a:pt x="773785" y="129027"/>
                </a:cubicBezTo>
                <a:cubicBezTo>
                  <a:pt x="773785" y="1368911"/>
                  <a:pt x="773784" y="2608796"/>
                  <a:pt x="773784" y="3848680"/>
                </a:cubicBezTo>
                <a:cubicBezTo>
                  <a:pt x="773784" y="3919940"/>
                  <a:pt x="716017" y="3977707"/>
                  <a:pt x="644757" y="3977707"/>
                </a:cubicBezTo>
                <a:lnTo>
                  <a:pt x="644758" y="3977706"/>
                </a:lnTo>
                <a:cubicBezTo>
                  <a:pt x="573498" y="3977706"/>
                  <a:pt x="515731" y="3919939"/>
                  <a:pt x="515731" y="3848679"/>
                </a:cubicBezTo>
                <a:lnTo>
                  <a:pt x="515731" y="129027"/>
                </a:lnTo>
                <a:lnTo>
                  <a:pt x="515731" y="129027"/>
                </a:lnTo>
                <a:cubicBezTo>
                  <a:pt x="515731" y="57767"/>
                  <a:pt x="573498" y="0"/>
                  <a:pt x="644758" y="0"/>
                </a:cubicBezTo>
                <a:close/>
              </a:path>
            </a:pathLst>
          </a:custGeom>
          <a:solidFill>
            <a:srgbClr val="a0ba1e"/>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rma libre 27"/>
          <p:cNvSpPr/>
          <p:nvPr/>
        </p:nvSpPr>
        <p:spPr>
          <a:xfrm>
            <a:off x="0" y="0"/>
            <a:ext cx="4208400" cy="5143680"/>
          </a:xfrm>
          <a:custGeom>
            <a:avLst/>
            <a:gdLst/>
            <a:ahLst/>
            <a:rect l="l" t="t" r="r" b="b"/>
            <a:pathLst>
              <a:path w="4208106" h="5143500">
                <a:moveTo>
                  <a:pt x="0" y="0"/>
                </a:moveTo>
                <a:lnTo>
                  <a:pt x="3443061" y="0"/>
                </a:lnTo>
                <a:lnTo>
                  <a:pt x="3443061" y="1309422"/>
                </a:lnTo>
                <a:cubicBezTo>
                  <a:pt x="3443061" y="1380682"/>
                  <a:pt x="3500828" y="1438449"/>
                  <a:pt x="3572088" y="1438449"/>
                </a:cubicBezTo>
                <a:lnTo>
                  <a:pt x="3572087" y="1438450"/>
                </a:lnTo>
                <a:cubicBezTo>
                  <a:pt x="3643347" y="1438450"/>
                  <a:pt x="3701114" y="1380683"/>
                  <a:pt x="3701114" y="1309423"/>
                </a:cubicBezTo>
                <a:lnTo>
                  <a:pt x="3701114" y="1160476"/>
                </a:lnTo>
                <a:lnTo>
                  <a:pt x="3707969" y="1126524"/>
                </a:lnTo>
                <a:cubicBezTo>
                  <a:pt x="3727556" y="1080214"/>
                  <a:pt x="3773411" y="1047720"/>
                  <a:pt x="3826856" y="1047720"/>
                </a:cubicBezTo>
                <a:cubicBezTo>
                  <a:pt x="3880301" y="1047720"/>
                  <a:pt x="3926156" y="1080214"/>
                  <a:pt x="3945743" y="1126524"/>
                </a:cubicBezTo>
                <a:lnTo>
                  <a:pt x="3949314" y="1144209"/>
                </a:lnTo>
                <a:lnTo>
                  <a:pt x="3949314" y="2130656"/>
                </a:lnTo>
                <a:cubicBezTo>
                  <a:pt x="3949314" y="2184101"/>
                  <a:pt x="3981808" y="2229956"/>
                  <a:pt x="4028117" y="2249544"/>
                </a:cubicBezTo>
                <a:lnTo>
                  <a:pt x="4076187" y="2259248"/>
                </a:lnTo>
                <a:lnTo>
                  <a:pt x="4076187" y="2259986"/>
                </a:lnTo>
                <a:lnTo>
                  <a:pt x="4099667" y="2262353"/>
                </a:lnTo>
                <a:cubicBezTo>
                  <a:pt x="4161264" y="2274957"/>
                  <a:pt x="4207598" y="2329457"/>
                  <a:pt x="4207598" y="2394779"/>
                </a:cubicBezTo>
                <a:cubicBezTo>
                  <a:pt x="4207767" y="3311019"/>
                  <a:pt x="4207937" y="4227260"/>
                  <a:pt x="4208106" y="5143500"/>
                </a:cubicBezTo>
                <a:lnTo>
                  <a:pt x="0" y="5143500"/>
                </a:ln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36"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37"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38" name="Rectángulo redondeado 4"/>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39"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40"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41" name="Rectángulo redondeado 7"/>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42"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43"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44" name="Rectángulo redondeado 11"/>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45"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Weacknesses</a:t>
            </a:r>
            <a:endParaRPr b="0" lang="en-US" sz="4000" spc="-1" strike="noStrike">
              <a:solidFill>
                <a:srgbClr val="000000"/>
              </a:solidFill>
              <a:latin typeface="Calibri"/>
            </a:endParaRPr>
          </a:p>
        </p:txBody>
      </p:sp>
      <p:sp>
        <p:nvSpPr>
          <p:cNvPr id="746"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47" name="CuadroTexto 15"/>
          <p:cNvSpPr/>
          <p:nvPr/>
        </p:nvSpPr>
        <p:spPr>
          <a:xfrm>
            <a:off x="785880" y="1646280"/>
            <a:ext cx="2485800" cy="1851120"/>
          </a:xfrm>
          <a:custGeom>
            <a:avLst/>
            <a:gdLst/>
            <a:ahLst/>
            <a:rect l="l" t="t" r="r" b="b"/>
            <a:pathLst>
              <a:path w="4808477" h="3158204">
                <a:moveTo>
                  <a:pt x="0" y="0"/>
                </a:moveTo>
                <a:lnTo>
                  <a:pt x="938565" y="0"/>
                </a:lnTo>
                <a:lnTo>
                  <a:pt x="1623584" y="2166261"/>
                </a:lnTo>
                <a:lnTo>
                  <a:pt x="1841545" y="1507931"/>
                </a:lnTo>
                <a:lnTo>
                  <a:pt x="1330004" y="0"/>
                </a:lnTo>
                <a:lnTo>
                  <a:pt x="2126228" y="0"/>
                </a:lnTo>
                <a:lnTo>
                  <a:pt x="2402015" y="974150"/>
                </a:lnTo>
                <a:lnTo>
                  <a:pt x="2682250" y="0"/>
                </a:lnTo>
                <a:lnTo>
                  <a:pt x="3478473" y="0"/>
                </a:lnTo>
                <a:lnTo>
                  <a:pt x="2958036" y="1507931"/>
                </a:lnTo>
                <a:lnTo>
                  <a:pt x="3184893" y="2166261"/>
                </a:lnTo>
                <a:lnTo>
                  <a:pt x="3865464" y="0"/>
                </a:lnTo>
                <a:lnTo>
                  <a:pt x="4808477" y="0"/>
                </a:lnTo>
                <a:lnTo>
                  <a:pt x="3571884" y="3158204"/>
                </a:lnTo>
                <a:lnTo>
                  <a:pt x="2704882" y="3158204"/>
                </a:lnTo>
                <a:lnTo>
                  <a:pt x="2402015" y="2256644"/>
                </a:lnTo>
                <a:lnTo>
                  <a:pt x="2045035" y="3158204"/>
                </a:lnTo>
                <a:lnTo>
                  <a:pt x="1236593" y="3158204"/>
                </a:lnTo>
                <a:lnTo>
                  <a:pt x="0" y="0"/>
                </a:lnTo>
                <a:close/>
              </a:path>
            </a:pathLst>
          </a:custGeom>
          <a:solidFill>
            <a:srgbClr val="5fdbbf"/>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48" name="Forma libre 25"/>
          <p:cNvSpPr/>
          <p:nvPr/>
        </p:nvSpPr>
        <p:spPr>
          <a:xfrm>
            <a:off x="2417760" y="-1440000"/>
            <a:ext cx="1285920" cy="3515040"/>
          </a:xfrm>
          <a:custGeom>
            <a:avLst/>
            <a:gdLst/>
            <a:ahLst/>
            <a:rect l="l" t="t" r="r" b="b"/>
            <a:pathLst>
              <a:path w="1285317" h="3515066">
                <a:moveTo>
                  <a:pt x="129224" y="0"/>
                </a:moveTo>
                <a:cubicBezTo>
                  <a:pt x="182751" y="0"/>
                  <a:pt x="228676" y="32494"/>
                  <a:pt x="248293" y="78804"/>
                </a:cubicBezTo>
                <a:lnTo>
                  <a:pt x="256882" y="121283"/>
                </a:lnTo>
                <a:lnTo>
                  <a:pt x="265471" y="78804"/>
                </a:lnTo>
                <a:cubicBezTo>
                  <a:pt x="285089" y="32494"/>
                  <a:pt x="331014" y="0"/>
                  <a:pt x="384541" y="0"/>
                </a:cubicBezTo>
                <a:cubicBezTo>
                  <a:pt x="438067" y="0"/>
                  <a:pt x="483992" y="32494"/>
                  <a:pt x="503609" y="78804"/>
                </a:cubicBezTo>
                <a:lnTo>
                  <a:pt x="513764" y="129025"/>
                </a:lnTo>
                <a:lnTo>
                  <a:pt x="523918" y="78804"/>
                </a:lnTo>
                <a:cubicBezTo>
                  <a:pt x="543536" y="32494"/>
                  <a:pt x="589461" y="0"/>
                  <a:pt x="642988" y="0"/>
                </a:cubicBezTo>
                <a:cubicBezTo>
                  <a:pt x="696514" y="0"/>
                  <a:pt x="742439" y="32494"/>
                  <a:pt x="762056" y="78804"/>
                </a:cubicBezTo>
                <a:lnTo>
                  <a:pt x="770645" y="121283"/>
                </a:lnTo>
                <a:lnTo>
                  <a:pt x="779234" y="78804"/>
                </a:lnTo>
                <a:cubicBezTo>
                  <a:pt x="798852" y="32494"/>
                  <a:pt x="844777" y="0"/>
                  <a:pt x="898304" y="0"/>
                </a:cubicBezTo>
                <a:cubicBezTo>
                  <a:pt x="951831" y="0"/>
                  <a:pt x="997756" y="32494"/>
                  <a:pt x="1017373" y="78804"/>
                </a:cubicBezTo>
                <a:lnTo>
                  <a:pt x="1027199" y="127398"/>
                </a:lnTo>
                <a:lnTo>
                  <a:pt x="1037025" y="78804"/>
                </a:lnTo>
                <a:cubicBezTo>
                  <a:pt x="1056641" y="32494"/>
                  <a:pt x="1102567" y="0"/>
                  <a:pt x="1156093" y="0"/>
                </a:cubicBezTo>
                <a:cubicBezTo>
                  <a:pt x="1227462" y="0"/>
                  <a:pt x="1285317" y="57767"/>
                  <a:pt x="1285317" y="129027"/>
                </a:cubicBezTo>
                <a:lnTo>
                  <a:pt x="1285317" y="276727"/>
                </a:lnTo>
                <a:lnTo>
                  <a:pt x="1285317" y="276727"/>
                </a:lnTo>
                <a:lnTo>
                  <a:pt x="1285316" y="2784974"/>
                </a:lnTo>
                <a:cubicBezTo>
                  <a:pt x="1285316" y="2856234"/>
                  <a:pt x="1227549" y="2914001"/>
                  <a:pt x="1156289" y="2914001"/>
                </a:cubicBezTo>
                <a:lnTo>
                  <a:pt x="1156290" y="2914000"/>
                </a:lnTo>
                <a:cubicBezTo>
                  <a:pt x="1085030" y="2914000"/>
                  <a:pt x="1027263" y="2856233"/>
                  <a:pt x="1027263" y="2784973"/>
                </a:cubicBezTo>
                <a:lnTo>
                  <a:pt x="1027263" y="1729855"/>
                </a:lnTo>
                <a:lnTo>
                  <a:pt x="1027263" y="1729852"/>
                </a:lnTo>
                <a:lnTo>
                  <a:pt x="1027262" y="2801496"/>
                </a:lnTo>
                <a:lnTo>
                  <a:pt x="1017124" y="2751277"/>
                </a:lnTo>
                <a:cubicBezTo>
                  <a:pt x="997536" y="2704967"/>
                  <a:pt x="951681" y="2672473"/>
                  <a:pt x="898236" y="2672473"/>
                </a:cubicBezTo>
                <a:cubicBezTo>
                  <a:pt x="844791" y="2672473"/>
                  <a:pt x="798936" y="2704967"/>
                  <a:pt x="779349" y="2751277"/>
                </a:cubicBezTo>
                <a:lnTo>
                  <a:pt x="769585" y="2799637"/>
                </a:lnTo>
                <a:lnTo>
                  <a:pt x="769585" y="3386039"/>
                </a:lnTo>
                <a:cubicBezTo>
                  <a:pt x="769585" y="3457299"/>
                  <a:pt x="711818" y="3515066"/>
                  <a:pt x="640558" y="3515066"/>
                </a:cubicBezTo>
                <a:lnTo>
                  <a:pt x="640559" y="3515065"/>
                </a:lnTo>
                <a:cubicBezTo>
                  <a:pt x="569299" y="3515065"/>
                  <a:pt x="511532" y="3457298"/>
                  <a:pt x="511532" y="3386038"/>
                </a:cubicBezTo>
                <a:lnTo>
                  <a:pt x="511532" y="1738945"/>
                </a:lnTo>
                <a:lnTo>
                  <a:pt x="511532" y="1738949"/>
                </a:lnTo>
                <a:lnTo>
                  <a:pt x="511531" y="2489076"/>
                </a:lnTo>
                <a:lnTo>
                  <a:pt x="501393" y="2438857"/>
                </a:lnTo>
                <a:cubicBezTo>
                  <a:pt x="481805" y="2392547"/>
                  <a:pt x="435950" y="2360053"/>
                  <a:pt x="382505" y="2360053"/>
                </a:cubicBezTo>
                <a:cubicBezTo>
                  <a:pt x="329060" y="2360053"/>
                  <a:pt x="283205" y="2392547"/>
                  <a:pt x="263618" y="2438857"/>
                </a:cubicBezTo>
                <a:lnTo>
                  <a:pt x="260020" y="2456676"/>
                </a:lnTo>
                <a:lnTo>
                  <a:pt x="260020" y="2765622"/>
                </a:lnTo>
                <a:cubicBezTo>
                  <a:pt x="260020" y="2836882"/>
                  <a:pt x="202253" y="2894649"/>
                  <a:pt x="130993" y="2894649"/>
                </a:cubicBezTo>
                <a:lnTo>
                  <a:pt x="130994" y="2894648"/>
                </a:lnTo>
                <a:cubicBezTo>
                  <a:pt x="59734" y="2894648"/>
                  <a:pt x="1967" y="2836881"/>
                  <a:pt x="1967" y="2765621"/>
                </a:cubicBezTo>
                <a:lnTo>
                  <a:pt x="1967" y="1737636"/>
                </a:lnTo>
                <a:lnTo>
                  <a:pt x="0" y="1727908"/>
                </a:lnTo>
                <a:lnTo>
                  <a:pt x="0" y="129027"/>
                </a:lnTo>
                <a:cubicBezTo>
                  <a:pt x="0" y="57767"/>
                  <a:pt x="57855" y="0"/>
                  <a:pt x="129224" y="0"/>
                </a:cubicBezTo>
                <a:close/>
              </a:path>
            </a:pathLst>
          </a:custGeom>
          <a:solidFill>
            <a:srgbClr val="006b8b"/>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rma libre 28"/>
          <p:cNvSpPr/>
          <p:nvPr/>
        </p:nvSpPr>
        <p:spPr>
          <a:xfrm>
            <a:off x="0" y="0"/>
            <a:ext cx="4208400" cy="5143680"/>
          </a:xfrm>
          <a:custGeom>
            <a:avLst/>
            <a:gdLst/>
            <a:ahLst/>
            <a:rect l="l" t="t" r="r" b="b"/>
            <a:pathLst>
              <a:path w="4208106" h="5143500">
                <a:moveTo>
                  <a:pt x="0" y="0"/>
                </a:moveTo>
                <a:lnTo>
                  <a:pt x="3194929" y="0"/>
                </a:lnTo>
                <a:lnTo>
                  <a:pt x="3194929" y="1480424"/>
                </a:lnTo>
                <a:cubicBezTo>
                  <a:pt x="3194929" y="1551684"/>
                  <a:pt x="3252696" y="1609451"/>
                  <a:pt x="3323956" y="1609451"/>
                </a:cubicBezTo>
                <a:lnTo>
                  <a:pt x="3323955" y="1609452"/>
                </a:lnTo>
                <a:cubicBezTo>
                  <a:pt x="3395215" y="1609452"/>
                  <a:pt x="3452982" y="1551685"/>
                  <a:pt x="3452982" y="1480425"/>
                </a:cubicBezTo>
                <a:lnTo>
                  <a:pt x="3452982" y="1149623"/>
                </a:lnTo>
                <a:lnTo>
                  <a:pt x="3462746" y="1101263"/>
                </a:lnTo>
                <a:cubicBezTo>
                  <a:pt x="3482333" y="1054953"/>
                  <a:pt x="3528188" y="1022459"/>
                  <a:pt x="3581633" y="1022459"/>
                </a:cubicBezTo>
                <a:cubicBezTo>
                  <a:pt x="3635078" y="1022459"/>
                  <a:pt x="3680933" y="1054953"/>
                  <a:pt x="3700521" y="1101263"/>
                </a:cubicBezTo>
                <a:lnTo>
                  <a:pt x="3710659" y="1151482"/>
                </a:lnTo>
                <a:lnTo>
                  <a:pt x="3710660" y="0"/>
                </a:lnTo>
                <a:lnTo>
                  <a:pt x="3710660" y="0"/>
                </a:lnTo>
                <a:lnTo>
                  <a:pt x="3710660" y="2198666"/>
                </a:lnTo>
                <a:cubicBezTo>
                  <a:pt x="3710660" y="2269926"/>
                  <a:pt x="3768427" y="2327693"/>
                  <a:pt x="3839687" y="2327693"/>
                </a:cubicBezTo>
                <a:lnTo>
                  <a:pt x="3839686" y="2327694"/>
                </a:lnTo>
                <a:cubicBezTo>
                  <a:pt x="3910946" y="2327694"/>
                  <a:pt x="3968713" y="2269927"/>
                  <a:pt x="3968713" y="2198667"/>
                </a:cubicBezTo>
                <a:lnTo>
                  <a:pt x="3968713" y="1428468"/>
                </a:lnTo>
                <a:lnTo>
                  <a:pt x="3969523" y="1424459"/>
                </a:lnTo>
                <a:cubicBezTo>
                  <a:pt x="3989110" y="1378149"/>
                  <a:pt x="4034965" y="1345655"/>
                  <a:pt x="4088410" y="1345655"/>
                </a:cubicBezTo>
                <a:cubicBezTo>
                  <a:pt x="4141855" y="1345655"/>
                  <a:pt x="4187710" y="1378149"/>
                  <a:pt x="4207297" y="1424459"/>
                </a:cubicBezTo>
                <a:lnTo>
                  <a:pt x="4208106" y="1428466"/>
                </a:lnTo>
                <a:lnTo>
                  <a:pt x="4208106" y="5143500"/>
                </a:lnTo>
                <a:lnTo>
                  <a:pt x="0" y="5143500"/>
                </a:lnTo>
                <a:lnTo>
                  <a:pt x="0" y="0"/>
                </a:lnTo>
                <a:close/>
              </a:path>
            </a:pathLst>
          </a:custGeom>
          <a:solidFill>
            <a:srgbClr val="19705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50"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51"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52" name="Rectángulo redondeado 4"/>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3"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54"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55" name="Rectángulo redondeado 8"/>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6"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57"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58" name="Rectángulo redondeado 11"/>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59"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Oportunities</a:t>
            </a:r>
            <a:endParaRPr b="0" lang="en-US" sz="4000" spc="-1" strike="noStrike">
              <a:solidFill>
                <a:srgbClr val="000000"/>
              </a:solidFill>
              <a:latin typeface="Calibri"/>
            </a:endParaRPr>
          </a:p>
        </p:txBody>
      </p:sp>
      <p:sp>
        <p:nvSpPr>
          <p:cNvPr id="760"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61" name="CuadroTexto 29"/>
          <p:cNvSpPr/>
          <p:nvPr/>
        </p:nvSpPr>
        <p:spPr>
          <a:xfrm>
            <a:off x="942840" y="1411200"/>
            <a:ext cx="2322720" cy="2320920"/>
          </a:xfrm>
          <a:custGeom>
            <a:avLst/>
            <a:gdLst/>
            <a:ahLst/>
            <a:rect l="l" t="t" r="r" b="b"/>
            <a:pathLst>
              <a:path w="3207133" h="3202686">
                <a:moveTo>
                  <a:pt x="1614687" y="0"/>
                </a:moveTo>
                <a:cubicBezTo>
                  <a:pt x="1854888" y="0"/>
                  <a:pt x="2072849" y="45965"/>
                  <a:pt x="2268569" y="137894"/>
                </a:cubicBezTo>
                <a:cubicBezTo>
                  <a:pt x="2464289" y="229823"/>
                  <a:pt x="2631836" y="351406"/>
                  <a:pt x="2771213" y="502644"/>
                </a:cubicBezTo>
                <a:cubicBezTo>
                  <a:pt x="2910589" y="653882"/>
                  <a:pt x="3018086" y="825878"/>
                  <a:pt x="3093705" y="1018632"/>
                </a:cubicBezTo>
                <a:cubicBezTo>
                  <a:pt x="3169324" y="1211387"/>
                  <a:pt x="3207133" y="1408589"/>
                  <a:pt x="3207133" y="1610240"/>
                </a:cubicBezTo>
                <a:cubicBezTo>
                  <a:pt x="3207133" y="1817821"/>
                  <a:pt x="3167100" y="2017248"/>
                  <a:pt x="3087033" y="2208519"/>
                </a:cubicBezTo>
                <a:cubicBezTo>
                  <a:pt x="3006966" y="2399791"/>
                  <a:pt x="2895761" y="2568821"/>
                  <a:pt x="2753419" y="2715611"/>
                </a:cubicBezTo>
                <a:cubicBezTo>
                  <a:pt x="2611078" y="2862401"/>
                  <a:pt x="2441306" y="2980278"/>
                  <a:pt x="2244103" y="3069241"/>
                </a:cubicBezTo>
                <a:cubicBezTo>
                  <a:pt x="2046901" y="3158204"/>
                  <a:pt x="1831165" y="3202686"/>
                  <a:pt x="1596894" y="3202686"/>
                </a:cubicBezTo>
                <a:cubicBezTo>
                  <a:pt x="1356693" y="3202686"/>
                  <a:pt x="1138732" y="3156722"/>
                  <a:pt x="943013" y="3064793"/>
                </a:cubicBezTo>
                <a:cubicBezTo>
                  <a:pt x="747293" y="2972864"/>
                  <a:pt x="579745" y="2852022"/>
                  <a:pt x="440369" y="2702267"/>
                </a:cubicBezTo>
                <a:cubicBezTo>
                  <a:pt x="300993" y="2552511"/>
                  <a:pt x="192754" y="2381257"/>
                  <a:pt x="115652" y="2188502"/>
                </a:cubicBezTo>
                <a:cubicBezTo>
                  <a:pt x="38550" y="1995748"/>
                  <a:pt x="0" y="1797063"/>
                  <a:pt x="0" y="1592447"/>
                </a:cubicBezTo>
                <a:cubicBezTo>
                  <a:pt x="0" y="1384865"/>
                  <a:pt x="40033" y="1184698"/>
                  <a:pt x="120100" y="991943"/>
                </a:cubicBezTo>
                <a:cubicBezTo>
                  <a:pt x="200168" y="799189"/>
                  <a:pt x="312113" y="629417"/>
                  <a:pt x="455938" y="482627"/>
                </a:cubicBezTo>
                <a:cubicBezTo>
                  <a:pt x="599762" y="335837"/>
                  <a:pt x="770275" y="218702"/>
                  <a:pt x="967478" y="131221"/>
                </a:cubicBezTo>
                <a:cubicBezTo>
                  <a:pt x="1164680" y="43740"/>
                  <a:pt x="1380417" y="0"/>
                  <a:pt x="1614687" y="0"/>
                </a:cubicBezTo>
                <a:close/>
                <a:moveTo>
                  <a:pt x="1601342" y="769535"/>
                </a:moveTo>
                <a:cubicBezTo>
                  <a:pt x="1476794" y="769535"/>
                  <a:pt x="1369296" y="793258"/>
                  <a:pt x="1278850" y="840705"/>
                </a:cubicBezTo>
                <a:cubicBezTo>
                  <a:pt x="1188404" y="888153"/>
                  <a:pt x="1113526" y="951168"/>
                  <a:pt x="1054217" y="1029753"/>
                </a:cubicBezTo>
                <a:cubicBezTo>
                  <a:pt x="994908" y="1108337"/>
                  <a:pt x="951168" y="1197301"/>
                  <a:pt x="922996" y="1296643"/>
                </a:cubicBezTo>
                <a:cubicBezTo>
                  <a:pt x="894824" y="1395986"/>
                  <a:pt x="880738" y="1497552"/>
                  <a:pt x="880738" y="1601343"/>
                </a:cubicBezTo>
                <a:cubicBezTo>
                  <a:pt x="880738" y="1708099"/>
                  <a:pt x="895565" y="1811149"/>
                  <a:pt x="925220" y="1910491"/>
                </a:cubicBezTo>
                <a:cubicBezTo>
                  <a:pt x="954875" y="2009834"/>
                  <a:pt x="999356" y="2098056"/>
                  <a:pt x="1058665" y="2175158"/>
                </a:cubicBezTo>
                <a:cubicBezTo>
                  <a:pt x="1117974" y="2252259"/>
                  <a:pt x="1192852" y="2314534"/>
                  <a:pt x="1283298" y="2361981"/>
                </a:cubicBezTo>
                <a:cubicBezTo>
                  <a:pt x="1373744" y="2409428"/>
                  <a:pt x="1481242" y="2433152"/>
                  <a:pt x="1605790" y="2433152"/>
                </a:cubicBezTo>
                <a:cubicBezTo>
                  <a:pt x="1730339" y="2433152"/>
                  <a:pt x="1838578" y="2408687"/>
                  <a:pt x="1930507" y="2359757"/>
                </a:cubicBezTo>
                <a:cubicBezTo>
                  <a:pt x="2022436" y="2310827"/>
                  <a:pt x="2097314" y="2247070"/>
                  <a:pt x="2155140" y="2168486"/>
                </a:cubicBezTo>
                <a:cubicBezTo>
                  <a:pt x="2212967" y="2089901"/>
                  <a:pt x="2255965" y="2000196"/>
                  <a:pt x="2284137" y="1899371"/>
                </a:cubicBezTo>
                <a:cubicBezTo>
                  <a:pt x="2312309" y="1798546"/>
                  <a:pt x="2326395" y="1696238"/>
                  <a:pt x="2326395" y="1592447"/>
                </a:cubicBezTo>
                <a:cubicBezTo>
                  <a:pt x="2326395" y="1485691"/>
                  <a:pt x="2311568" y="1382641"/>
                  <a:pt x="2281913" y="1283299"/>
                </a:cubicBezTo>
                <a:cubicBezTo>
                  <a:pt x="2252259" y="1183956"/>
                  <a:pt x="2207035" y="1096475"/>
                  <a:pt x="2146244" y="1020856"/>
                </a:cubicBezTo>
                <a:cubicBezTo>
                  <a:pt x="2085452" y="945237"/>
                  <a:pt x="2009833" y="884446"/>
                  <a:pt x="1919387" y="838481"/>
                </a:cubicBezTo>
                <a:cubicBezTo>
                  <a:pt x="1828941" y="792517"/>
                  <a:pt x="1722926" y="769535"/>
                  <a:pt x="1601342" y="769535"/>
                </a:cubicBezTo>
                <a:close/>
              </a:path>
            </a:pathLst>
          </a:custGeom>
          <a:solidFill>
            <a:srgbClr val="fee419"/>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62" name="Forma libre 30"/>
          <p:cNvSpPr/>
          <p:nvPr/>
        </p:nvSpPr>
        <p:spPr>
          <a:xfrm>
            <a:off x="2182680" y="-1063800"/>
            <a:ext cx="1284480" cy="2978280"/>
          </a:xfrm>
          <a:custGeom>
            <a:avLst/>
            <a:gdLst/>
            <a:ahLst/>
            <a:rect l="l" t="t" r="r" b="b"/>
            <a:pathLst>
              <a:path w="1283351" h="2978150">
                <a:moveTo>
                  <a:pt x="129028" y="0"/>
                </a:moveTo>
                <a:cubicBezTo>
                  <a:pt x="182472" y="0"/>
                  <a:pt x="228327" y="32494"/>
                  <a:pt x="247914" y="78804"/>
                </a:cubicBezTo>
                <a:lnTo>
                  <a:pt x="256490" y="121283"/>
                </a:lnTo>
                <a:lnTo>
                  <a:pt x="265066" y="78804"/>
                </a:lnTo>
                <a:cubicBezTo>
                  <a:pt x="284654" y="32494"/>
                  <a:pt x="330508" y="0"/>
                  <a:pt x="383953" y="0"/>
                </a:cubicBezTo>
                <a:cubicBezTo>
                  <a:pt x="437398" y="0"/>
                  <a:pt x="483253" y="32494"/>
                  <a:pt x="502839" y="78804"/>
                </a:cubicBezTo>
                <a:lnTo>
                  <a:pt x="512978" y="129025"/>
                </a:lnTo>
                <a:lnTo>
                  <a:pt x="523117" y="78804"/>
                </a:lnTo>
                <a:cubicBezTo>
                  <a:pt x="542705" y="32494"/>
                  <a:pt x="588560" y="0"/>
                  <a:pt x="642005" y="0"/>
                </a:cubicBezTo>
                <a:cubicBezTo>
                  <a:pt x="695449" y="0"/>
                  <a:pt x="741304" y="32494"/>
                  <a:pt x="760891" y="78804"/>
                </a:cubicBezTo>
                <a:lnTo>
                  <a:pt x="769467" y="121283"/>
                </a:lnTo>
                <a:lnTo>
                  <a:pt x="778043" y="78804"/>
                </a:lnTo>
                <a:cubicBezTo>
                  <a:pt x="797631" y="32494"/>
                  <a:pt x="843486" y="0"/>
                  <a:pt x="896930" y="0"/>
                </a:cubicBezTo>
                <a:cubicBezTo>
                  <a:pt x="950375" y="0"/>
                  <a:pt x="996230" y="32494"/>
                  <a:pt x="1015817" y="78804"/>
                </a:cubicBezTo>
                <a:lnTo>
                  <a:pt x="1025628" y="127398"/>
                </a:lnTo>
                <a:lnTo>
                  <a:pt x="1035439" y="78804"/>
                </a:lnTo>
                <a:cubicBezTo>
                  <a:pt x="1055025" y="32494"/>
                  <a:pt x="1100880" y="0"/>
                  <a:pt x="1154325" y="0"/>
                </a:cubicBezTo>
                <a:cubicBezTo>
                  <a:pt x="1225585" y="0"/>
                  <a:pt x="1283351" y="57767"/>
                  <a:pt x="1283351" y="129027"/>
                </a:cubicBezTo>
                <a:cubicBezTo>
                  <a:pt x="1283351" y="661988"/>
                  <a:pt x="1283350" y="1194948"/>
                  <a:pt x="1283350" y="1727909"/>
                </a:cubicBezTo>
                <a:lnTo>
                  <a:pt x="1283350" y="1727912"/>
                </a:lnTo>
                <a:lnTo>
                  <a:pt x="1283349" y="2749120"/>
                </a:lnTo>
                <a:cubicBezTo>
                  <a:pt x="1283349" y="2820380"/>
                  <a:pt x="1225582" y="2878147"/>
                  <a:pt x="1154322" y="2878147"/>
                </a:cubicBezTo>
                <a:lnTo>
                  <a:pt x="1154323" y="2878146"/>
                </a:lnTo>
                <a:cubicBezTo>
                  <a:pt x="1083063" y="2878146"/>
                  <a:pt x="1025296" y="2820379"/>
                  <a:pt x="1025296" y="2749119"/>
                </a:cubicBezTo>
                <a:lnTo>
                  <a:pt x="1025296" y="1731178"/>
                </a:lnTo>
                <a:lnTo>
                  <a:pt x="1025296" y="1731181"/>
                </a:lnTo>
                <a:lnTo>
                  <a:pt x="1025295" y="2765642"/>
                </a:lnTo>
                <a:lnTo>
                  <a:pt x="1015157" y="2715423"/>
                </a:lnTo>
                <a:cubicBezTo>
                  <a:pt x="995569" y="2669113"/>
                  <a:pt x="949714" y="2636619"/>
                  <a:pt x="896269" y="2636619"/>
                </a:cubicBezTo>
                <a:cubicBezTo>
                  <a:pt x="842824" y="2636619"/>
                  <a:pt x="796969" y="2669113"/>
                  <a:pt x="777382" y="2715423"/>
                </a:cubicBezTo>
                <a:lnTo>
                  <a:pt x="767618" y="2763784"/>
                </a:lnTo>
                <a:lnTo>
                  <a:pt x="767618" y="2849123"/>
                </a:lnTo>
                <a:cubicBezTo>
                  <a:pt x="767618" y="2920383"/>
                  <a:pt x="709851" y="2978150"/>
                  <a:pt x="638591" y="2978150"/>
                </a:cubicBezTo>
                <a:lnTo>
                  <a:pt x="638592" y="2978149"/>
                </a:lnTo>
                <a:cubicBezTo>
                  <a:pt x="567332" y="2978149"/>
                  <a:pt x="509565" y="2920382"/>
                  <a:pt x="509565" y="2849122"/>
                </a:cubicBezTo>
                <a:lnTo>
                  <a:pt x="509565" y="1744815"/>
                </a:lnTo>
                <a:lnTo>
                  <a:pt x="509565" y="1744818"/>
                </a:lnTo>
                <a:lnTo>
                  <a:pt x="509564" y="2255102"/>
                </a:lnTo>
                <a:lnTo>
                  <a:pt x="499426" y="2204883"/>
                </a:lnTo>
                <a:cubicBezTo>
                  <a:pt x="479838" y="2158573"/>
                  <a:pt x="433983" y="2126079"/>
                  <a:pt x="380538" y="2126079"/>
                </a:cubicBezTo>
                <a:cubicBezTo>
                  <a:pt x="327093" y="2126079"/>
                  <a:pt x="281238" y="2158573"/>
                  <a:pt x="261651" y="2204883"/>
                </a:cubicBezTo>
                <a:lnTo>
                  <a:pt x="258053" y="2222702"/>
                </a:lnTo>
                <a:lnTo>
                  <a:pt x="258053" y="2311620"/>
                </a:lnTo>
                <a:cubicBezTo>
                  <a:pt x="258053" y="2382880"/>
                  <a:pt x="200286" y="2440647"/>
                  <a:pt x="129026" y="2440647"/>
                </a:cubicBezTo>
                <a:lnTo>
                  <a:pt x="129027" y="2440646"/>
                </a:lnTo>
                <a:cubicBezTo>
                  <a:pt x="57767" y="2440646"/>
                  <a:pt x="0" y="2382879"/>
                  <a:pt x="0" y="2311619"/>
                </a:cubicBezTo>
                <a:lnTo>
                  <a:pt x="0" y="276727"/>
                </a:lnTo>
                <a:lnTo>
                  <a:pt x="1" y="276727"/>
                </a:lnTo>
                <a:lnTo>
                  <a:pt x="1" y="129027"/>
                </a:lnTo>
                <a:cubicBezTo>
                  <a:pt x="1" y="57767"/>
                  <a:pt x="57768" y="0"/>
                  <a:pt x="129028" y="0"/>
                </a:cubicBezTo>
                <a:close/>
              </a:path>
            </a:pathLst>
          </a:custGeom>
          <a:solidFill>
            <a:srgbClr val="22957b"/>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Forma libre 23"/>
          <p:cNvSpPr/>
          <p:nvPr/>
        </p:nvSpPr>
        <p:spPr>
          <a:xfrm>
            <a:off x="0" y="0"/>
            <a:ext cx="4208400" cy="5143680"/>
          </a:xfrm>
          <a:custGeom>
            <a:avLst/>
            <a:gdLst/>
            <a:ahLst/>
            <a:rect l="l" t="t" r="r" b="b"/>
            <a:pathLst>
              <a:path w="4208106" h="5143500">
                <a:moveTo>
                  <a:pt x="4208025" y="3329575"/>
                </a:moveTo>
                <a:lnTo>
                  <a:pt x="4208105" y="3329575"/>
                </a:lnTo>
                <a:lnTo>
                  <a:pt x="4208105" y="3522291"/>
                </a:lnTo>
                <a:lnTo>
                  <a:pt x="4208033" y="3521884"/>
                </a:lnTo>
                <a:lnTo>
                  <a:pt x="4208025" y="3329575"/>
                </a:lnTo>
                <a:close/>
                <a:moveTo>
                  <a:pt x="0" y="0"/>
                </a:moveTo>
                <a:lnTo>
                  <a:pt x="3433481" y="0"/>
                </a:lnTo>
                <a:lnTo>
                  <a:pt x="3433481" y="1868340"/>
                </a:lnTo>
                <a:cubicBezTo>
                  <a:pt x="3433481" y="1939600"/>
                  <a:pt x="3491248" y="1997367"/>
                  <a:pt x="3562508" y="1997367"/>
                </a:cubicBezTo>
                <a:lnTo>
                  <a:pt x="3562507" y="1997368"/>
                </a:lnTo>
                <a:cubicBezTo>
                  <a:pt x="3633767" y="1997368"/>
                  <a:pt x="3691534" y="1939601"/>
                  <a:pt x="3691534" y="1868341"/>
                </a:cubicBezTo>
                <a:cubicBezTo>
                  <a:pt x="3691534" y="1245561"/>
                  <a:pt x="3691535" y="622780"/>
                  <a:pt x="3691535" y="0"/>
                </a:cubicBezTo>
                <a:lnTo>
                  <a:pt x="3691766" y="0"/>
                </a:lnTo>
                <a:lnTo>
                  <a:pt x="3691766" y="1793189"/>
                </a:lnTo>
                <a:cubicBezTo>
                  <a:pt x="3691766" y="1721929"/>
                  <a:pt x="3749533" y="1664162"/>
                  <a:pt x="3820793" y="1664162"/>
                </a:cubicBezTo>
                <a:cubicBezTo>
                  <a:pt x="3874238" y="1664162"/>
                  <a:pt x="3920093" y="1696656"/>
                  <a:pt x="3939680" y="1742966"/>
                </a:cubicBezTo>
                <a:lnTo>
                  <a:pt x="3949819" y="1793184"/>
                </a:lnTo>
                <a:lnTo>
                  <a:pt x="3949819" y="1237877"/>
                </a:lnTo>
                <a:lnTo>
                  <a:pt x="3949820" y="1237878"/>
                </a:lnTo>
                <a:cubicBezTo>
                  <a:pt x="3949820" y="1911308"/>
                  <a:pt x="3949821" y="2584738"/>
                  <a:pt x="3949821" y="3258168"/>
                </a:cubicBezTo>
                <a:cubicBezTo>
                  <a:pt x="3949821" y="3311613"/>
                  <a:pt x="3982315" y="3357468"/>
                  <a:pt x="4028624" y="3377056"/>
                </a:cubicBezTo>
                <a:lnTo>
                  <a:pt x="4076694" y="3386760"/>
                </a:lnTo>
                <a:lnTo>
                  <a:pt x="4076694" y="3387498"/>
                </a:lnTo>
                <a:lnTo>
                  <a:pt x="4100174" y="3389865"/>
                </a:lnTo>
                <a:cubicBezTo>
                  <a:pt x="4146372" y="3399318"/>
                  <a:pt x="4183984" y="3432338"/>
                  <a:pt x="4199903" y="3475814"/>
                </a:cubicBezTo>
                <a:lnTo>
                  <a:pt x="4208033" y="3521884"/>
                </a:lnTo>
                <a:lnTo>
                  <a:pt x="4208106" y="5143500"/>
                </a:lnTo>
                <a:lnTo>
                  <a:pt x="0" y="5143500"/>
                </a:lnTo>
                <a:lnTo>
                  <a:pt x="0" y="0"/>
                </a:lnTo>
                <a:close/>
              </a:path>
            </a:pathLst>
          </a:custGeom>
          <a:solidFill>
            <a:srgbClr val="890c11"/>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64" name="Text Placeholder 20"/>
          <p:cNvSpPr/>
          <p:nvPr/>
        </p:nvSpPr>
        <p:spPr>
          <a:xfrm>
            <a:off x="47530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65" name="Text Placeholder 23"/>
          <p:cNvSpPr/>
          <p:nvPr/>
        </p:nvSpPr>
        <p:spPr>
          <a:xfrm>
            <a:off x="47530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66" name="Rectángulo redondeado 4"/>
          <p:cNvSpPr/>
          <p:nvPr/>
        </p:nvSpPr>
        <p:spPr>
          <a:xfrm>
            <a:off x="4572000" y="196056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67" name="Text Placeholder 20"/>
          <p:cNvSpPr/>
          <p:nvPr/>
        </p:nvSpPr>
        <p:spPr>
          <a:xfrm>
            <a:off x="47530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68" name="Text Placeholder 23"/>
          <p:cNvSpPr/>
          <p:nvPr/>
        </p:nvSpPr>
        <p:spPr>
          <a:xfrm>
            <a:off x="47530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69" name="Rectángulo redondeado 8"/>
          <p:cNvSpPr/>
          <p:nvPr/>
        </p:nvSpPr>
        <p:spPr>
          <a:xfrm>
            <a:off x="4572000" y="27176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70" name="Text Placeholder 20"/>
          <p:cNvSpPr/>
          <p:nvPr/>
        </p:nvSpPr>
        <p:spPr>
          <a:xfrm>
            <a:off x="47530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Analysis title example here</a:t>
            </a:r>
            <a:endParaRPr b="0" lang="en-US" sz="1000" spc="-1" strike="noStrike">
              <a:solidFill>
                <a:srgbClr val="000000"/>
              </a:solidFill>
              <a:latin typeface="Calibri"/>
            </a:endParaRPr>
          </a:p>
        </p:txBody>
      </p:sp>
      <p:sp>
        <p:nvSpPr>
          <p:cNvPr id="771" name="Text Placeholder 23"/>
          <p:cNvSpPr/>
          <p:nvPr/>
        </p:nvSpPr>
        <p:spPr>
          <a:xfrm>
            <a:off x="47530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72" name="Rectángulo redondeado 11"/>
          <p:cNvSpPr/>
          <p:nvPr/>
        </p:nvSpPr>
        <p:spPr>
          <a:xfrm>
            <a:off x="4572000" y="352260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73"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hreats</a:t>
            </a:r>
            <a:endParaRPr b="0" lang="en-US" sz="4000" spc="-1" strike="noStrike">
              <a:solidFill>
                <a:srgbClr val="000000"/>
              </a:solidFill>
              <a:latin typeface="Calibri"/>
            </a:endParaRPr>
          </a:p>
        </p:txBody>
      </p:sp>
      <p:sp>
        <p:nvSpPr>
          <p:cNvPr id="774"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BRAND ANALYSIS SLIDE</a:t>
            </a:r>
            <a:endParaRPr b="0" lang="en-US" sz="1000" spc="-1" strike="noStrike">
              <a:solidFill>
                <a:srgbClr val="000000"/>
              </a:solidFill>
              <a:latin typeface="Calibri"/>
            </a:endParaRPr>
          </a:p>
        </p:txBody>
      </p:sp>
      <p:sp>
        <p:nvSpPr>
          <p:cNvPr id="775" name="CuadroTexto 16"/>
          <p:cNvSpPr/>
          <p:nvPr/>
        </p:nvSpPr>
        <p:spPr>
          <a:xfrm>
            <a:off x="976320" y="1317600"/>
            <a:ext cx="2181240" cy="2563920"/>
          </a:xfrm>
          <a:custGeom>
            <a:avLst/>
            <a:gdLst/>
            <a:ahLst/>
            <a:rect l="l" t="t" r="r" b="b"/>
            <a:pathLst>
              <a:path w="2686698" h="3158204">
                <a:moveTo>
                  <a:pt x="0" y="0"/>
                </a:moveTo>
                <a:lnTo>
                  <a:pt x="2686698" y="0"/>
                </a:lnTo>
                <a:lnTo>
                  <a:pt x="2686698" y="756190"/>
                </a:lnTo>
                <a:lnTo>
                  <a:pt x="1779271" y="756190"/>
                </a:lnTo>
                <a:lnTo>
                  <a:pt x="1779271" y="3158204"/>
                </a:lnTo>
                <a:lnTo>
                  <a:pt x="911876" y="3158204"/>
                </a:lnTo>
                <a:lnTo>
                  <a:pt x="911876" y="756190"/>
                </a:lnTo>
                <a:lnTo>
                  <a:pt x="0" y="756190"/>
                </a:lnTo>
                <a:lnTo>
                  <a:pt x="0" y="0"/>
                </a:lnTo>
                <a:close/>
              </a:path>
            </a:pathLst>
          </a:custGeom>
          <a:solidFill>
            <a:srgbClr val="fd7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776" name="Forma libre 21"/>
          <p:cNvSpPr/>
          <p:nvPr/>
        </p:nvSpPr>
        <p:spPr>
          <a:xfrm>
            <a:off x="2416320" y="-1563840"/>
            <a:ext cx="1277640" cy="3598920"/>
          </a:xfrm>
          <a:custGeom>
            <a:avLst/>
            <a:gdLst/>
            <a:ahLst/>
            <a:rect l="l" t="t" r="r" b="b"/>
            <a:pathLst>
              <a:path w="1278153" h="3599285">
                <a:moveTo>
                  <a:pt x="1149126" y="704636"/>
                </a:moveTo>
                <a:cubicBezTo>
                  <a:pt x="1220386" y="704636"/>
                  <a:pt x="1278153" y="762403"/>
                  <a:pt x="1278153" y="833663"/>
                </a:cubicBezTo>
                <a:cubicBezTo>
                  <a:pt x="1278153" y="1712528"/>
                  <a:pt x="1278152" y="2591393"/>
                  <a:pt x="1278152" y="3470258"/>
                </a:cubicBezTo>
                <a:cubicBezTo>
                  <a:pt x="1278152" y="3541518"/>
                  <a:pt x="1220385" y="3599285"/>
                  <a:pt x="1149125" y="3599285"/>
                </a:cubicBezTo>
                <a:lnTo>
                  <a:pt x="1149126" y="3599284"/>
                </a:lnTo>
                <a:cubicBezTo>
                  <a:pt x="1077866" y="3599284"/>
                  <a:pt x="1020099" y="3541517"/>
                  <a:pt x="1020099" y="3470257"/>
                </a:cubicBezTo>
                <a:lnTo>
                  <a:pt x="1020099" y="833663"/>
                </a:lnTo>
                <a:cubicBezTo>
                  <a:pt x="1020099" y="762403"/>
                  <a:pt x="1077866" y="704636"/>
                  <a:pt x="1149126" y="704636"/>
                </a:cubicBezTo>
                <a:close/>
                <a:moveTo>
                  <a:pt x="129027" y="0"/>
                </a:moveTo>
                <a:cubicBezTo>
                  <a:pt x="182472" y="0"/>
                  <a:pt x="228327" y="32494"/>
                  <a:pt x="247915" y="78804"/>
                </a:cubicBezTo>
                <a:lnTo>
                  <a:pt x="257403" y="125800"/>
                </a:lnTo>
                <a:lnTo>
                  <a:pt x="266752" y="79492"/>
                </a:lnTo>
                <a:cubicBezTo>
                  <a:pt x="286339" y="33182"/>
                  <a:pt x="332194" y="688"/>
                  <a:pt x="385639" y="688"/>
                </a:cubicBezTo>
                <a:cubicBezTo>
                  <a:pt x="456899" y="688"/>
                  <a:pt x="514666" y="58455"/>
                  <a:pt x="514666" y="129715"/>
                </a:cubicBezTo>
                <a:lnTo>
                  <a:pt x="514666" y="783205"/>
                </a:lnTo>
                <a:lnTo>
                  <a:pt x="542159" y="742427"/>
                </a:lnTo>
                <a:cubicBezTo>
                  <a:pt x="565508" y="719078"/>
                  <a:pt x="597765" y="704636"/>
                  <a:pt x="633395" y="704636"/>
                </a:cubicBezTo>
                <a:cubicBezTo>
                  <a:pt x="686840" y="704636"/>
                  <a:pt x="732695" y="737130"/>
                  <a:pt x="752283" y="783440"/>
                </a:cubicBezTo>
                <a:lnTo>
                  <a:pt x="762045" y="831796"/>
                </a:lnTo>
                <a:lnTo>
                  <a:pt x="762045" y="814311"/>
                </a:lnTo>
                <a:cubicBezTo>
                  <a:pt x="762045" y="743051"/>
                  <a:pt x="819812" y="685284"/>
                  <a:pt x="891072" y="685284"/>
                </a:cubicBezTo>
                <a:cubicBezTo>
                  <a:pt x="962332" y="685284"/>
                  <a:pt x="1020099" y="743051"/>
                  <a:pt x="1020099" y="814311"/>
                </a:cubicBezTo>
                <a:lnTo>
                  <a:pt x="1020098" y="3486780"/>
                </a:lnTo>
                <a:lnTo>
                  <a:pt x="1009960" y="3436561"/>
                </a:lnTo>
                <a:cubicBezTo>
                  <a:pt x="990372" y="3390251"/>
                  <a:pt x="944517" y="3357757"/>
                  <a:pt x="891072" y="3357757"/>
                </a:cubicBezTo>
                <a:cubicBezTo>
                  <a:pt x="819812" y="3357757"/>
                  <a:pt x="762045" y="3415524"/>
                  <a:pt x="762045" y="3486784"/>
                </a:cubicBezTo>
                <a:lnTo>
                  <a:pt x="762045" y="3472120"/>
                </a:lnTo>
                <a:lnTo>
                  <a:pt x="752282" y="3520481"/>
                </a:lnTo>
                <a:cubicBezTo>
                  <a:pt x="732694" y="3566791"/>
                  <a:pt x="686839" y="3599285"/>
                  <a:pt x="633394" y="3599285"/>
                </a:cubicBezTo>
                <a:lnTo>
                  <a:pt x="633395" y="3599284"/>
                </a:lnTo>
                <a:cubicBezTo>
                  <a:pt x="562135" y="3599284"/>
                  <a:pt x="504368" y="3541517"/>
                  <a:pt x="504368" y="3470257"/>
                </a:cubicBezTo>
                <a:lnTo>
                  <a:pt x="504368" y="2850340"/>
                </a:lnTo>
                <a:lnTo>
                  <a:pt x="485202" y="2818750"/>
                </a:lnTo>
                <a:cubicBezTo>
                  <a:pt x="461537" y="2790074"/>
                  <a:pt x="425723" y="2771796"/>
                  <a:pt x="385639" y="2771796"/>
                </a:cubicBezTo>
                <a:cubicBezTo>
                  <a:pt x="332194" y="2771796"/>
                  <a:pt x="286339" y="2804290"/>
                  <a:pt x="266752" y="2850600"/>
                </a:cubicBezTo>
                <a:lnTo>
                  <a:pt x="258053" y="2893685"/>
                </a:lnTo>
                <a:lnTo>
                  <a:pt x="258053" y="3003280"/>
                </a:lnTo>
                <a:cubicBezTo>
                  <a:pt x="258053" y="3074540"/>
                  <a:pt x="200286" y="3132307"/>
                  <a:pt x="129026" y="3132307"/>
                </a:cubicBezTo>
                <a:lnTo>
                  <a:pt x="129027" y="3132306"/>
                </a:lnTo>
                <a:cubicBezTo>
                  <a:pt x="57767" y="3132306"/>
                  <a:pt x="0" y="3074539"/>
                  <a:pt x="0" y="3003279"/>
                </a:cubicBezTo>
                <a:lnTo>
                  <a:pt x="0" y="129027"/>
                </a:lnTo>
                <a:cubicBezTo>
                  <a:pt x="0" y="57767"/>
                  <a:pt x="57767" y="0"/>
                  <a:pt x="129027" y="0"/>
                </a:cubicBezTo>
                <a:close/>
              </a:path>
            </a:pathLst>
          </a:custGeom>
          <a:solidFill>
            <a:srgbClr val="a7151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Forma libre 9"/>
          <p:cNvSpPr/>
          <p:nvPr/>
        </p:nvSpPr>
        <p:spPr>
          <a:xfrm flipH="1">
            <a:off x="-720" y="-474840"/>
            <a:ext cx="4048200" cy="5550120"/>
          </a:xfrm>
          <a:custGeom>
            <a:avLst/>
            <a:gdLst/>
            <a:ahLst/>
            <a:rect l="l" t="t" r="r" b="b"/>
            <a:pathLst>
              <a:path w="4048838" h="5550115">
                <a:moveTo>
                  <a:pt x="1524638" y="0"/>
                </a:moveTo>
                <a:lnTo>
                  <a:pt x="1524639" y="0"/>
                </a:lnTo>
                <a:lnTo>
                  <a:pt x="1524639" y="1362198"/>
                </a:lnTo>
                <a:lnTo>
                  <a:pt x="1534777" y="1311979"/>
                </a:lnTo>
                <a:cubicBezTo>
                  <a:pt x="1554365" y="1265669"/>
                  <a:pt x="1600220" y="1233175"/>
                  <a:pt x="1653665" y="1233175"/>
                </a:cubicBezTo>
                <a:cubicBezTo>
                  <a:pt x="1707110" y="1233175"/>
                  <a:pt x="1752965" y="1265669"/>
                  <a:pt x="1772552" y="1311979"/>
                </a:cubicBezTo>
                <a:lnTo>
                  <a:pt x="1782316" y="1360339"/>
                </a:lnTo>
                <a:lnTo>
                  <a:pt x="1782316" y="1946741"/>
                </a:lnTo>
                <a:cubicBezTo>
                  <a:pt x="1782316" y="2018001"/>
                  <a:pt x="1840083" y="2075768"/>
                  <a:pt x="1911343" y="2075768"/>
                </a:cubicBezTo>
                <a:lnTo>
                  <a:pt x="1911342" y="2075767"/>
                </a:lnTo>
                <a:cubicBezTo>
                  <a:pt x="1982602" y="2075767"/>
                  <a:pt x="2040369" y="2018000"/>
                  <a:pt x="2040369" y="1946740"/>
                </a:cubicBezTo>
                <a:lnTo>
                  <a:pt x="2040369" y="0"/>
                </a:lnTo>
                <a:lnTo>
                  <a:pt x="2040370" y="1049778"/>
                </a:lnTo>
                <a:lnTo>
                  <a:pt x="2050508" y="999559"/>
                </a:lnTo>
                <a:cubicBezTo>
                  <a:pt x="2070096" y="953249"/>
                  <a:pt x="2115951" y="920755"/>
                  <a:pt x="2169396" y="920755"/>
                </a:cubicBezTo>
                <a:cubicBezTo>
                  <a:pt x="2222841" y="920755"/>
                  <a:pt x="2268696" y="953249"/>
                  <a:pt x="2288283" y="999559"/>
                </a:cubicBezTo>
                <a:lnTo>
                  <a:pt x="2291881" y="1017378"/>
                </a:lnTo>
                <a:lnTo>
                  <a:pt x="2291881" y="1326324"/>
                </a:lnTo>
                <a:cubicBezTo>
                  <a:pt x="2291881" y="1397584"/>
                  <a:pt x="2349648" y="1455351"/>
                  <a:pt x="2420908" y="1455351"/>
                </a:cubicBezTo>
                <a:lnTo>
                  <a:pt x="2420907" y="1455350"/>
                </a:lnTo>
                <a:cubicBezTo>
                  <a:pt x="2492167" y="1455350"/>
                  <a:pt x="2549934" y="1397583"/>
                  <a:pt x="2549934" y="1326323"/>
                </a:cubicBezTo>
                <a:lnTo>
                  <a:pt x="2549934" y="1279585"/>
                </a:lnTo>
                <a:lnTo>
                  <a:pt x="2568603" y="1247043"/>
                </a:lnTo>
                <a:cubicBezTo>
                  <a:pt x="2587887" y="1223677"/>
                  <a:pt x="2614869" y="1206901"/>
                  <a:pt x="2645668" y="1200599"/>
                </a:cubicBezTo>
                <a:lnTo>
                  <a:pt x="2669148" y="1198232"/>
                </a:lnTo>
                <a:lnTo>
                  <a:pt x="2669148" y="1197494"/>
                </a:lnTo>
                <a:lnTo>
                  <a:pt x="2717218" y="1187790"/>
                </a:lnTo>
                <a:cubicBezTo>
                  <a:pt x="2763527" y="1168202"/>
                  <a:pt x="2796021" y="1122347"/>
                  <a:pt x="2796021" y="1068902"/>
                </a:cubicBezTo>
                <a:lnTo>
                  <a:pt x="2796021" y="954918"/>
                </a:lnTo>
                <a:lnTo>
                  <a:pt x="2804410" y="913368"/>
                </a:lnTo>
                <a:cubicBezTo>
                  <a:pt x="2823997" y="867058"/>
                  <a:pt x="2869852" y="834564"/>
                  <a:pt x="2923297" y="834564"/>
                </a:cubicBezTo>
                <a:cubicBezTo>
                  <a:pt x="2976742" y="834564"/>
                  <a:pt x="3022597" y="867058"/>
                  <a:pt x="3042184" y="913368"/>
                </a:cubicBezTo>
                <a:lnTo>
                  <a:pt x="3044374" y="924213"/>
                </a:lnTo>
                <a:lnTo>
                  <a:pt x="3044374" y="1077616"/>
                </a:lnTo>
                <a:cubicBezTo>
                  <a:pt x="3044374" y="1131061"/>
                  <a:pt x="3076868" y="1176916"/>
                  <a:pt x="3123177" y="1196504"/>
                </a:cubicBezTo>
                <a:lnTo>
                  <a:pt x="3171247" y="1206208"/>
                </a:lnTo>
                <a:lnTo>
                  <a:pt x="3171247" y="1206946"/>
                </a:lnTo>
                <a:lnTo>
                  <a:pt x="3194727" y="1209313"/>
                </a:lnTo>
                <a:cubicBezTo>
                  <a:pt x="3240925" y="1218766"/>
                  <a:pt x="3278537" y="1251786"/>
                  <a:pt x="3294455" y="1295262"/>
                </a:cubicBezTo>
                <a:lnTo>
                  <a:pt x="3296659" y="1307752"/>
                </a:lnTo>
                <a:lnTo>
                  <a:pt x="3296659" y="1441660"/>
                </a:lnTo>
                <a:cubicBezTo>
                  <a:pt x="3296659" y="1512920"/>
                  <a:pt x="3354426" y="1570687"/>
                  <a:pt x="3425686" y="1570687"/>
                </a:cubicBezTo>
                <a:lnTo>
                  <a:pt x="3425685" y="1570686"/>
                </a:lnTo>
                <a:cubicBezTo>
                  <a:pt x="3496945" y="1570686"/>
                  <a:pt x="3554712" y="1512919"/>
                  <a:pt x="3554712" y="1441659"/>
                </a:cubicBezTo>
                <a:lnTo>
                  <a:pt x="3554712" y="1076405"/>
                </a:lnTo>
                <a:lnTo>
                  <a:pt x="3556916" y="1063915"/>
                </a:lnTo>
                <a:cubicBezTo>
                  <a:pt x="3572835" y="1020439"/>
                  <a:pt x="3610447" y="987419"/>
                  <a:pt x="3656645" y="977966"/>
                </a:cubicBezTo>
                <a:lnTo>
                  <a:pt x="3680125" y="975599"/>
                </a:lnTo>
                <a:lnTo>
                  <a:pt x="3680125" y="974861"/>
                </a:lnTo>
                <a:lnTo>
                  <a:pt x="3728195" y="965157"/>
                </a:lnTo>
                <a:cubicBezTo>
                  <a:pt x="3774504" y="945569"/>
                  <a:pt x="3806998" y="899714"/>
                  <a:pt x="3806998" y="846269"/>
                </a:cubicBezTo>
                <a:lnTo>
                  <a:pt x="3806998" y="469894"/>
                </a:lnTo>
                <a:lnTo>
                  <a:pt x="3815387" y="428344"/>
                </a:lnTo>
                <a:cubicBezTo>
                  <a:pt x="3834974" y="382034"/>
                  <a:pt x="3880829" y="349540"/>
                  <a:pt x="3934274" y="349540"/>
                </a:cubicBezTo>
                <a:cubicBezTo>
                  <a:pt x="3974358" y="349540"/>
                  <a:pt x="4010172" y="367818"/>
                  <a:pt x="4033837" y="396494"/>
                </a:cubicBezTo>
                <a:lnTo>
                  <a:pt x="4047851" y="419592"/>
                </a:lnTo>
                <a:lnTo>
                  <a:pt x="4047851" y="2265528"/>
                </a:lnTo>
                <a:lnTo>
                  <a:pt x="4048838" y="2265528"/>
                </a:lnTo>
                <a:lnTo>
                  <a:pt x="4048838" y="3341998"/>
                </a:lnTo>
                <a:cubicBezTo>
                  <a:pt x="4048838" y="3395443"/>
                  <a:pt x="4016344" y="3441298"/>
                  <a:pt x="3970035" y="3460886"/>
                </a:cubicBezTo>
                <a:lnTo>
                  <a:pt x="3921965" y="3470590"/>
                </a:lnTo>
                <a:lnTo>
                  <a:pt x="3921965" y="3471328"/>
                </a:lnTo>
                <a:lnTo>
                  <a:pt x="3898485" y="3473695"/>
                </a:lnTo>
                <a:cubicBezTo>
                  <a:pt x="3867686" y="3479997"/>
                  <a:pt x="3840704" y="3496773"/>
                  <a:pt x="3821421" y="3520139"/>
                </a:cubicBezTo>
                <a:lnTo>
                  <a:pt x="3800256" y="3557030"/>
                </a:lnTo>
                <a:lnTo>
                  <a:pt x="3800256" y="3620344"/>
                </a:lnTo>
                <a:cubicBezTo>
                  <a:pt x="3800256" y="3673789"/>
                  <a:pt x="3767762" y="3719644"/>
                  <a:pt x="3721453" y="3739232"/>
                </a:cubicBezTo>
                <a:lnTo>
                  <a:pt x="3673383" y="3748936"/>
                </a:lnTo>
                <a:lnTo>
                  <a:pt x="3673383" y="3749674"/>
                </a:lnTo>
                <a:lnTo>
                  <a:pt x="3649903" y="3752041"/>
                </a:lnTo>
                <a:cubicBezTo>
                  <a:pt x="3603705" y="3761494"/>
                  <a:pt x="3566093" y="3794514"/>
                  <a:pt x="3550174" y="3837990"/>
                </a:cubicBezTo>
                <a:lnTo>
                  <a:pt x="3550154" y="3838103"/>
                </a:lnTo>
                <a:lnTo>
                  <a:pt x="3550154" y="4397896"/>
                </a:lnTo>
                <a:cubicBezTo>
                  <a:pt x="3550154" y="4451341"/>
                  <a:pt x="3517660" y="4497196"/>
                  <a:pt x="3471351" y="4516784"/>
                </a:cubicBezTo>
                <a:lnTo>
                  <a:pt x="3423281" y="4526488"/>
                </a:lnTo>
                <a:lnTo>
                  <a:pt x="3423281" y="4527226"/>
                </a:lnTo>
                <a:lnTo>
                  <a:pt x="3399801" y="4529593"/>
                </a:lnTo>
                <a:cubicBezTo>
                  <a:pt x="3353603" y="4539046"/>
                  <a:pt x="3315991" y="4572066"/>
                  <a:pt x="3300072" y="4615542"/>
                </a:cubicBezTo>
                <a:lnTo>
                  <a:pt x="3299821" y="4616965"/>
                </a:lnTo>
                <a:lnTo>
                  <a:pt x="3299821" y="4885290"/>
                </a:lnTo>
                <a:cubicBezTo>
                  <a:pt x="3299821" y="4956550"/>
                  <a:pt x="3242054" y="5014317"/>
                  <a:pt x="3170794" y="5014317"/>
                </a:cubicBezTo>
                <a:lnTo>
                  <a:pt x="3170795" y="5014316"/>
                </a:lnTo>
                <a:cubicBezTo>
                  <a:pt x="3099535" y="5014316"/>
                  <a:pt x="3041768" y="4956549"/>
                  <a:pt x="3041768" y="4885289"/>
                </a:cubicBezTo>
                <a:lnTo>
                  <a:pt x="3041768" y="4605270"/>
                </a:lnTo>
                <a:lnTo>
                  <a:pt x="3039765" y="4593919"/>
                </a:lnTo>
                <a:cubicBezTo>
                  <a:pt x="3023846" y="4550443"/>
                  <a:pt x="2986234" y="4517423"/>
                  <a:pt x="2940036" y="4507970"/>
                </a:cubicBezTo>
                <a:lnTo>
                  <a:pt x="2916556" y="4505603"/>
                </a:lnTo>
                <a:lnTo>
                  <a:pt x="2916556" y="4504865"/>
                </a:lnTo>
                <a:lnTo>
                  <a:pt x="2868486" y="4495161"/>
                </a:lnTo>
                <a:cubicBezTo>
                  <a:pt x="2822177" y="4475573"/>
                  <a:pt x="2789683" y="4429718"/>
                  <a:pt x="2789683" y="4376273"/>
                </a:cubicBezTo>
                <a:lnTo>
                  <a:pt x="2789683" y="4286143"/>
                </a:lnTo>
                <a:lnTo>
                  <a:pt x="2781294" y="4244593"/>
                </a:lnTo>
                <a:cubicBezTo>
                  <a:pt x="2761707" y="4198283"/>
                  <a:pt x="2715852" y="4165789"/>
                  <a:pt x="2662407" y="4165789"/>
                </a:cubicBezTo>
                <a:cubicBezTo>
                  <a:pt x="2608962" y="4165789"/>
                  <a:pt x="2563107" y="4198283"/>
                  <a:pt x="2543520" y="4244593"/>
                </a:cubicBezTo>
                <a:lnTo>
                  <a:pt x="2541330" y="4255437"/>
                </a:lnTo>
                <a:lnTo>
                  <a:pt x="2541330" y="4496307"/>
                </a:lnTo>
                <a:cubicBezTo>
                  <a:pt x="2541330" y="4549752"/>
                  <a:pt x="2508836" y="4595607"/>
                  <a:pt x="2462527" y="4615195"/>
                </a:cubicBezTo>
                <a:lnTo>
                  <a:pt x="2414457" y="4624899"/>
                </a:lnTo>
                <a:lnTo>
                  <a:pt x="2414457" y="4625637"/>
                </a:lnTo>
                <a:lnTo>
                  <a:pt x="2390977" y="4628004"/>
                </a:lnTo>
                <a:cubicBezTo>
                  <a:pt x="2344780" y="4637457"/>
                  <a:pt x="2307167" y="4670477"/>
                  <a:pt x="2291248" y="4713953"/>
                </a:cubicBezTo>
                <a:lnTo>
                  <a:pt x="2290996" y="4715382"/>
                </a:lnTo>
                <a:lnTo>
                  <a:pt x="2290996" y="4820023"/>
                </a:lnTo>
                <a:cubicBezTo>
                  <a:pt x="2290996" y="4891283"/>
                  <a:pt x="2233229" y="4949050"/>
                  <a:pt x="2161969" y="4949050"/>
                </a:cubicBezTo>
                <a:lnTo>
                  <a:pt x="2161970" y="4949049"/>
                </a:lnTo>
                <a:cubicBezTo>
                  <a:pt x="2090710" y="4949049"/>
                  <a:pt x="2032943" y="4891282"/>
                  <a:pt x="2032943" y="4820022"/>
                </a:cubicBezTo>
                <a:lnTo>
                  <a:pt x="2032943" y="2265528"/>
                </a:lnTo>
                <a:lnTo>
                  <a:pt x="2032942" y="4836545"/>
                </a:lnTo>
                <a:lnTo>
                  <a:pt x="2022804" y="4786326"/>
                </a:lnTo>
                <a:cubicBezTo>
                  <a:pt x="2003216" y="4740016"/>
                  <a:pt x="1957361" y="4707522"/>
                  <a:pt x="1903916" y="4707522"/>
                </a:cubicBezTo>
                <a:cubicBezTo>
                  <a:pt x="1850471" y="4707522"/>
                  <a:pt x="1804616" y="4740016"/>
                  <a:pt x="1785029" y="4786326"/>
                </a:cubicBezTo>
                <a:lnTo>
                  <a:pt x="1775265" y="4834686"/>
                </a:lnTo>
                <a:lnTo>
                  <a:pt x="1775265" y="5421088"/>
                </a:lnTo>
                <a:cubicBezTo>
                  <a:pt x="1775265" y="5492348"/>
                  <a:pt x="1717498" y="5550115"/>
                  <a:pt x="1646238" y="5550115"/>
                </a:cubicBezTo>
                <a:lnTo>
                  <a:pt x="1646239" y="5550114"/>
                </a:lnTo>
                <a:cubicBezTo>
                  <a:pt x="1574979" y="5550114"/>
                  <a:pt x="1517212" y="5492347"/>
                  <a:pt x="1517212" y="5421087"/>
                </a:cubicBezTo>
                <a:lnTo>
                  <a:pt x="1517212" y="2265528"/>
                </a:lnTo>
                <a:lnTo>
                  <a:pt x="1517211" y="4524125"/>
                </a:lnTo>
                <a:lnTo>
                  <a:pt x="1507073" y="4473906"/>
                </a:lnTo>
                <a:cubicBezTo>
                  <a:pt x="1487485" y="4427596"/>
                  <a:pt x="1441630" y="4395102"/>
                  <a:pt x="1388185" y="4395102"/>
                </a:cubicBezTo>
                <a:cubicBezTo>
                  <a:pt x="1334740" y="4395102"/>
                  <a:pt x="1288885" y="4427596"/>
                  <a:pt x="1269298" y="4473906"/>
                </a:cubicBezTo>
                <a:lnTo>
                  <a:pt x="1265700" y="4491725"/>
                </a:lnTo>
                <a:lnTo>
                  <a:pt x="1265700" y="4800671"/>
                </a:lnTo>
                <a:cubicBezTo>
                  <a:pt x="1265700" y="4871931"/>
                  <a:pt x="1207933" y="4929698"/>
                  <a:pt x="1136673" y="4929698"/>
                </a:cubicBezTo>
                <a:lnTo>
                  <a:pt x="1136674" y="4929697"/>
                </a:lnTo>
                <a:cubicBezTo>
                  <a:pt x="1065414" y="4929697"/>
                  <a:pt x="1007647" y="4871930"/>
                  <a:pt x="1007647" y="4800670"/>
                </a:cubicBezTo>
                <a:lnTo>
                  <a:pt x="1007647" y="4753932"/>
                </a:lnTo>
                <a:lnTo>
                  <a:pt x="988978" y="4721390"/>
                </a:lnTo>
                <a:cubicBezTo>
                  <a:pt x="969694" y="4698024"/>
                  <a:pt x="942712" y="4681248"/>
                  <a:pt x="911913" y="4674946"/>
                </a:cubicBezTo>
                <a:lnTo>
                  <a:pt x="888433" y="4672579"/>
                </a:lnTo>
                <a:lnTo>
                  <a:pt x="888433" y="4671841"/>
                </a:lnTo>
                <a:lnTo>
                  <a:pt x="840363" y="4662137"/>
                </a:lnTo>
                <a:cubicBezTo>
                  <a:pt x="794054" y="4642549"/>
                  <a:pt x="761560" y="4596694"/>
                  <a:pt x="761560" y="4543249"/>
                </a:cubicBezTo>
                <a:lnTo>
                  <a:pt x="761560" y="4429265"/>
                </a:lnTo>
                <a:lnTo>
                  <a:pt x="753171" y="4387715"/>
                </a:lnTo>
                <a:cubicBezTo>
                  <a:pt x="733584" y="4341405"/>
                  <a:pt x="687729" y="4308911"/>
                  <a:pt x="634284" y="4308911"/>
                </a:cubicBezTo>
                <a:cubicBezTo>
                  <a:pt x="580839" y="4308911"/>
                  <a:pt x="534984" y="4341405"/>
                  <a:pt x="515397" y="4387715"/>
                </a:cubicBezTo>
                <a:lnTo>
                  <a:pt x="513207" y="4398560"/>
                </a:lnTo>
                <a:lnTo>
                  <a:pt x="513207" y="4551963"/>
                </a:lnTo>
                <a:cubicBezTo>
                  <a:pt x="513207" y="4605408"/>
                  <a:pt x="480713" y="4651263"/>
                  <a:pt x="434404" y="4670851"/>
                </a:cubicBezTo>
                <a:lnTo>
                  <a:pt x="386334" y="4680555"/>
                </a:lnTo>
                <a:lnTo>
                  <a:pt x="386334" y="4681293"/>
                </a:lnTo>
                <a:lnTo>
                  <a:pt x="362854" y="4683660"/>
                </a:lnTo>
                <a:cubicBezTo>
                  <a:pt x="316656" y="4693113"/>
                  <a:pt x="279044" y="4726133"/>
                  <a:pt x="263125" y="4769609"/>
                </a:cubicBezTo>
                <a:lnTo>
                  <a:pt x="260921" y="4782099"/>
                </a:lnTo>
                <a:lnTo>
                  <a:pt x="260921" y="4916007"/>
                </a:lnTo>
                <a:cubicBezTo>
                  <a:pt x="260921" y="4987267"/>
                  <a:pt x="203154" y="5045034"/>
                  <a:pt x="131894" y="5045034"/>
                </a:cubicBezTo>
                <a:lnTo>
                  <a:pt x="131895" y="5045033"/>
                </a:lnTo>
                <a:cubicBezTo>
                  <a:pt x="60635" y="5045033"/>
                  <a:pt x="2868" y="4987266"/>
                  <a:pt x="2868" y="4916006"/>
                </a:cubicBezTo>
                <a:lnTo>
                  <a:pt x="2868" y="4550752"/>
                </a:lnTo>
                <a:lnTo>
                  <a:pt x="664" y="4538262"/>
                </a:lnTo>
                <a:lnTo>
                  <a:pt x="0" y="4536983"/>
                </a:lnTo>
                <a:lnTo>
                  <a:pt x="0" y="1043223"/>
                </a:lnTo>
                <a:lnTo>
                  <a:pt x="90123" y="1043223"/>
                </a:lnTo>
                <a:lnTo>
                  <a:pt x="134300" y="1052141"/>
                </a:lnTo>
                <a:lnTo>
                  <a:pt x="134300" y="1052879"/>
                </a:lnTo>
                <a:lnTo>
                  <a:pt x="157780" y="1055246"/>
                </a:lnTo>
                <a:cubicBezTo>
                  <a:pt x="203978" y="1064699"/>
                  <a:pt x="241590" y="1097719"/>
                  <a:pt x="257509" y="1141195"/>
                </a:cubicBezTo>
                <a:lnTo>
                  <a:pt x="257760" y="1142618"/>
                </a:lnTo>
                <a:lnTo>
                  <a:pt x="257760" y="1410943"/>
                </a:lnTo>
                <a:cubicBezTo>
                  <a:pt x="257760" y="1482203"/>
                  <a:pt x="315527" y="1539970"/>
                  <a:pt x="386787" y="1539970"/>
                </a:cubicBezTo>
                <a:lnTo>
                  <a:pt x="386786" y="1539969"/>
                </a:lnTo>
                <a:cubicBezTo>
                  <a:pt x="458046" y="1539969"/>
                  <a:pt x="515813" y="1482202"/>
                  <a:pt x="515813" y="1410942"/>
                </a:cubicBezTo>
                <a:lnTo>
                  <a:pt x="515813" y="1130923"/>
                </a:lnTo>
                <a:lnTo>
                  <a:pt x="517816" y="1119572"/>
                </a:lnTo>
                <a:cubicBezTo>
                  <a:pt x="533735" y="1076096"/>
                  <a:pt x="571347" y="1043076"/>
                  <a:pt x="617545" y="1033623"/>
                </a:cubicBezTo>
                <a:lnTo>
                  <a:pt x="641025" y="1031256"/>
                </a:lnTo>
                <a:lnTo>
                  <a:pt x="641025" y="1030518"/>
                </a:lnTo>
                <a:lnTo>
                  <a:pt x="689095" y="1020814"/>
                </a:lnTo>
                <a:cubicBezTo>
                  <a:pt x="735404" y="1001226"/>
                  <a:pt x="767898" y="955371"/>
                  <a:pt x="767898" y="901926"/>
                </a:cubicBezTo>
                <a:lnTo>
                  <a:pt x="767898" y="811796"/>
                </a:lnTo>
                <a:lnTo>
                  <a:pt x="776287" y="770246"/>
                </a:lnTo>
                <a:cubicBezTo>
                  <a:pt x="795874" y="723936"/>
                  <a:pt x="841729" y="691442"/>
                  <a:pt x="895174" y="691442"/>
                </a:cubicBezTo>
                <a:cubicBezTo>
                  <a:pt x="948619" y="691442"/>
                  <a:pt x="994474" y="723936"/>
                  <a:pt x="1014061" y="770246"/>
                </a:cubicBezTo>
                <a:lnTo>
                  <a:pt x="1016251" y="781090"/>
                </a:lnTo>
                <a:lnTo>
                  <a:pt x="1016251" y="1021960"/>
                </a:lnTo>
                <a:cubicBezTo>
                  <a:pt x="1016251" y="1075405"/>
                  <a:pt x="1048745" y="1121260"/>
                  <a:pt x="1095054" y="1140848"/>
                </a:cubicBezTo>
                <a:lnTo>
                  <a:pt x="1143124" y="1150552"/>
                </a:lnTo>
                <a:lnTo>
                  <a:pt x="1143124" y="1151290"/>
                </a:lnTo>
                <a:lnTo>
                  <a:pt x="1166604" y="1153657"/>
                </a:lnTo>
                <a:cubicBezTo>
                  <a:pt x="1212801" y="1163110"/>
                  <a:pt x="1250414" y="1196130"/>
                  <a:pt x="1266333" y="1239606"/>
                </a:cubicBezTo>
                <a:lnTo>
                  <a:pt x="1266585" y="1241035"/>
                </a:lnTo>
                <a:lnTo>
                  <a:pt x="1266585" y="1345676"/>
                </a:lnTo>
                <a:cubicBezTo>
                  <a:pt x="1266585" y="1416936"/>
                  <a:pt x="1324352" y="1474703"/>
                  <a:pt x="1395612" y="1474703"/>
                </a:cubicBezTo>
                <a:lnTo>
                  <a:pt x="1395611" y="1474702"/>
                </a:lnTo>
                <a:cubicBezTo>
                  <a:pt x="1466871" y="1474702"/>
                  <a:pt x="1524638" y="1416935"/>
                  <a:pt x="1524638" y="1345675"/>
                </a:cubicBezTo>
                <a:lnTo>
                  <a:pt x="152463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778" name="Agrupar 35"/>
          <p:cNvGrpSpPr/>
          <p:nvPr/>
        </p:nvGrpSpPr>
        <p:grpSpPr>
          <a:xfrm>
            <a:off x="173160" y="4819680"/>
            <a:ext cx="263520" cy="257040"/>
            <a:chOff x="173160" y="4819680"/>
            <a:chExt cx="263520" cy="257040"/>
          </a:xfrm>
        </p:grpSpPr>
        <p:sp>
          <p:nvSpPr>
            <p:cNvPr id="779" name="Forma libre 37"/>
            <p:cNvSpPr/>
            <p:nvPr/>
          </p:nvSpPr>
          <p:spPr>
            <a:xfrm>
              <a:off x="173160" y="4819680"/>
              <a:ext cx="131760" cy="257040"/>
            </a:xfrm>
            <a:custGeom>
              <a:avLst/>
              <a:gdLst/>
              <a:ahLst/>
              <a:rect l="l" t="t" r="r" b="b"/>
              <a:pathLst>
                <a:path w="511201" h="999853">
                  <a:moveTo>
                    <a:pt x="505313" y="0"/>
                  </a:moveTo>
                  <a:lnTo>
                    <a:pt x="511201" y="0"/>
                  </a:lnTo>
                  <a:lnTo>
                    <a:pt x="511201" y="999853"/>
                  </a:lnTo>
                  <a:cubicBezTo>
                    <a:pt x="511201" y="745744"/>
                    <a:pt x="330955" y="533734"/>
                    <a:pt x="91340" y="484702"/>
                  </a:cubicBezTo>
                  <a:lnTo>
                    <a:pt x="0" y="475494"/>
                  </a:lnTo>
                  <a:lnTo>
                    <a:pt x="0" y="466154"/>
                  </a:lnTo>
                  <a:lnTo>
                    <a:pt x="78447" y="459232"/>
                  </a:lnTo>
                  <a:cubicBezTo>
                    <a:pt x="289931" y="421456"/>
                    <a:pt x="457613" y="257247"/>
                    <a:pt x="500516" y="47584"/>
                  </a:cubicBezTo>
                  <a:lnTo>
                    <a:pt x="505313"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780" name="Forma libre 38"/>
            <p:cNvSpPr/>
            <p:nvPr/>
          </p:nvSpPr>
          <p:spPr>
            <a:xfrm flipH="1">
              <a:off x="304920" y="4819680"/>
              <a:ext cx="131760" cy="257040"/>
            </a:xfrm>
            <a:custGeom>
              <a:avLst/>
              <a:gdLst/>
              <a:ahLst/>
              <a:rect l="l" t="t" r="r" b="b"/>
              <a:pathLst>
                <a:path w="511201" h="999853">
                  <a:moveTo>
                    <a:pt x="505313" y="0"/>
                  </a:moveTo>
                  <a:lnTo>
                    <a:pt x="511201" y="0"/>
                  </a:lnTo>
                  <a:lnTo>
                    <a:pt x="511201" y="999853"/>
                  </a:lnTo>
                  <a:cubicBezTo>
                    <a:pt x="511201" y="745744"/>
                    <a:pt x="330955" y="533734"/>
                    <a:pt x="91340" y="484702"/>
                  </a:cubicBezTo>
                  <a:lnTo>
                    <a:pt x="0" y="475494"/>
                  </a:lnTo>
                  <a:lnTo>
                    <a:pt x="0" y="466154"/>
                  </a:lnTo>
                  <a:lnTo>
                    <a:pt x="78447" y="459232"/>
                  </a:lnTo>
                  <a:cubicBezTo>
                    <a:pt x="289931" y="421456"/>
                    <a:pt x="457613" y="257247"/>
                    <a:pt x="500516" y="47584"/>
                  </a:cubicBezTo>
                  <a:lnTo>
                    <a:pt x="505313" y="0"/>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sp>
        <p:nvSpPr>
          <p:cNvPr id="781" name="Rectángulo redondeado 39"/>
          <p:cNvSpPr/>
          <p:nvPr/>
        </p:nvSpPr>
        <p:spPr>
          <a:xfrm>
            <a:off x="3790800" y="3801960"/>
            <a:ext cx="257400" cy="255600"/>
          </a:xfrm>
          <a:prstGeom prst="roundRect">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82" name="PlaceHolder 1"/>
          <p:cNvSpPr>
            <a:spLocks noGrp="1"/>
          </p:cNvSpPr>
          <p:nvPr>
            <p:ph/>
          </p:nvPr>
        </p:nvSpPr>
        <p:spPr>
          <a:xfrm>
            <a:off x="457164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GALLERY</a:t>
            </a:r>
            <a:endParaRPr b="0" lang="en-US" sz="4000" spc="-1" strike="noStrike">
              <a:solidFill>
                <a:srgbClr val="000000"/>
              </a:solidFill>
              <a:latin typeface="Calibri"/>
            </a:endParaRPr>
          </a:p>
        </p:txBody>
      </p:sp>
      <p:sp>
        <p:nvSpPr>
          <p:cNvPr id="783" name="PlaceHolder 2"/>
          <p:cNvSpPr>
            <a:spLocks noGrp="1"/>
          </p:cNvSpPr>
          <p:nvPr>
            <p:ph/>
          </p:nvPr>
        </p:nvSpPr>
        <p:spPr>
          <a:xfrm>
            <a:off x="457164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784" name="Text Placeholder 20"/>
          <p:cNvSpPr/>
          <p:nvPr/>
        </p:nvSpPr>
        <p:spPr>
          <a:xfrm>
            <a:off x="5719680" y="19144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785" name="Text Placeholder 23"/>
          <p:cNvSpPr/>
          <p:nvPr/>
        </p:nvSpPr>
        <p:spPr>
          <a:xfrm>
            <a:off x="5719680" y="22176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86" name="Rectángulo redondeado 12"/>
          <p:cNvSpPr/>
          <p:nvPr/>
        </p:nvSpPr>
        <p:spPr>
          <a:xfrm>
            <a:off x="5538960" y="196056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87" name="Text Placeholder 20"/>
          <p:cNvSpPr/>
          <p:nvPr/>
        </p:nvSpPr>
        <p:spPr>
          <a:xfrm>
            <a:off x="5719680" y="26719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788" name="Text Placeholder 23"/>
          <p:cNvSpPr/>
          <p:nvPr/>
        </p:nvSpPr>
        <p:spPr>
          <a:xfrm>
            <a:off x="5719680" y="29750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89" name="Rectángulo redondeado 15"/>
          <p:cNvSpPr/>
          <p:nvPr/>
        </p:nvSpPr>
        <p:spPr>
          <a:xfrm>
            <a:off x="5538960" y="27176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90" name="Text Placeholder 20"/>
          <p:cNvSpPr/>
          <p:nvPr/>
        </p:nvSpPr>
        <p:spPr>
          <a:xfrm>
            <a:off x="5719680" y="34765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791" name="Text Placeholder 23"/>
          <p:cNvSpPr/>
          <p:nvPr/>
        </p:nvSpPr>
        <p:spPr>
          <a:xfrm>
            <a:off x="5719680" y="37800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792" name="Rectángulo redondeado 18"/>
          <p:cNvSpPr/>
          <p:nvPr/>
        </p:nvSpPr>
        <p:spPr>
          <a:xfrm>
            <a:off x="5538960" y="352260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793" name="Text Placeholder 20"/>
          <p:cNvSpPr/>
          <p:nvPr/>
        </p:nvSpPr>
        <p:spPr>
          <a:xfrm>
            <a:off x="4641840" y="1967040"/>
            <a:ext cx="80964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7f7f7f"/>
                </a:solidFill>
                <a:latin typeface="Raleway Light"/>
                <a:ea typeface="Raleway Light"/>
              </a:rPr>
              <a:t>01</a:t>
            </a:r>
            <a:endParaRPr b="0" lang="en-US" sz="5000" spc="-1" strike="noStrike">
              <a:solidFill>
                <a:srgbClr val="000000"/>
              </a:solidFill>
              <a:latin typeface="Calibri"/>
            </a:endParaRPr>
          </a:p>
        </p:txBody>
      </p:sp>
      <p:sp>
        <p:nvSpPr>
          <p:cNvPr id="794" name="Text Placeholder 20"/>
          <p:cNvSpPr/>
          <p:nvPr/>
        </p:nvSpPr>
        <p:spPr>
          <a:xfrm>
            <a:off x="4641840" y="273528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7f7f7f"/>
                </a:solidFill>
                <a:latin typeface="Raleway Light"/>
                <a:ea typeface="Raleway Light"/>
              </a:rPr>
              <a:t>02</a:t>
            </a:r>
            <a:endParaRPr b="0" lang="en-US" sz="5000" spc="-1" strike="noStrike">
              <a:solidFill>
                <a:srgbClr val="000000"/>
              </a:solidFill>
              <a:latin typeface="Calibri"/>
            </a:endParaRPr>
          </a:p>
        </p:txBody>
      </p:sp>
      <p:sp>
        <p:nvSpPr>
          <p:cNvPr id="795" name="Text Placeholder 20"/>
          <p:cNvSpPr/>
          <p:nvPr/>
        </p:nvSpPr>
        <p:spPr>
          <a:xfrm>
            <a:off x="4641840" y="349560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7f7f7f"/>
                </a:solidFill>
                <a:latin typeface="Raleway Light"/>
                <a:ea typeface="Raleway Light"/>
              </a:rPr>
              <a:t>03</a:t>
            </a:r>
            <a:endParaRPr b="0" lang="en-US" sz="5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797"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798" name="Text Placeholder 20"/>
          <p:cNvSpPr/>
          <p:nvPr/>
        </p:nvSpPr>
        <p:spPr>
          <a:xfrm>
            <a:off x="1270080" y="214308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799" name="Text Placeholder 23"/>
          <p:cNvSpPr/>
          <p:nvPr/>
        </p:nvSpPr>
        <p:spPr>
          <a:xfrm>
            <a:off x="1270080" y="244620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0" name="Text Placeholder 20"/>
          <p:cNvSpPr/>
          <p:nvPr/>
        </p:nvSpPr>
        <p:spPr>
          <a:xfrm>
            <a:off x="1270080" y="290052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01" name="Text Placeholder 23"/>
          <p:cNvSpPr/>
          <p:nvPr/>
        </p:nvSpPr>
        <p:spPr>
          <a:xfrm>
            <a:off x="1270080" y="320364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2" name="Text Placeholder 20"/>
          <p:cNvSpPr/>
          <p:nvPr/>
        </p:nvSpPr>
        <p:spPr>
          <a:xfrm>
            <a:off x="1270080" y="3705120"/>
            <a:ext cx="29574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3</a:t>
            </a:r>
            <a:endParaRPr b="0" lang="en-US" sz="1000" spc="-1" strike="noStrike">
              <a:solidFill>
                <a:srgbClr val="000000"/>
              </a:solidFill>
              <a:latin typeface="Calibri"/>
            </a:endParaRPr>
          </a:p>
        </p:txBody>
      </p:sp>
      <p:sp>
        <p:nvSpPr>
          <p:cNvPr id="803" name="Text Placeholder 23"/>
          <p:cNvSpPr/>
          <p:nvPr/>
        </p:nvSpPr>
        <p:spPr>
          <a:xfrm>
            <a:off x="1270080" y="40086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4" name="Text Placeholder 20"/>
          <p:cNvSpPr/>
          <p:nvPr/>
        </p:nvSpPr>
        <p:spPr>
          <a:xfrm>
            <a:off x="369720" y="2195640"/>
            <a:ext cx="80820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805" name="Text Placeholder 20"/>
          <p:cNvSpPr/>
          <p:nvPr/>
        </p:nvSpPr>
        <p:spPr>
          <a:xfrm>
            <a:off x="369720" y="296388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806" name="Text Placeholder 20"/>
          <p:cNvSpPr/>
          <p:nvPr/>
        </p:nvSpPr>
        <p:spPr>
          <a:xfrm>
            <a:off x="369720" y="372420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
        <p:nvSpPr>
          <p:cNvPr id="807" name="Text Placeholder 20"/>
          <p:cNvSpPr/>
          <p:nvPr/>
        </p:nvSpPr>
        <p:spPr>
          <a:xfrm>
            <a:off x="5719680" y="214308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808" name="Text Placeholder 23"/>
          <p:cNvSpPr/>
          <p:nvPr/>
        </p:nvSpPr>
        <p:spPr>
          <a:xfrm>
            <a:off x="5719680" y="24462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09" name="Text Placeholder 20"/>
          <p:cNvSpPr/>
          <p:nvPr/>
        </p:nvSpPr>
        <p:spPr>
          <a:xfrm>
            <a:off x="5719680" y="290052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10" name="Text Placeholder 23"/>
          <p:cNvSpPr/>
          <p:nvPr/>
        </p:nvSpPr>
        <p:spPr>
          <a:xfrm>
            <a:off x="5719680" y="32036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11" name="Text Placeholder 20"/>
          <p:cNvSpPr/>
          <p:nvPr/>
        </p:nvSpPr>
        <p:spPr>
          <a:xfrm>
            <a:off x="5719680" y="370512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3</a:t>
            </a:r>
            <a:endParaRPr b="0" lang="en-US" sz="1000" spc="-1" strike="noStrike">
              <a:solidFill>
                <a:srgbClr val="000000"/>
              </a:solidFill>
              <a:latin typeface="Calibri"/>
            </a:endParaRPr>
          </a:p>
        </p:txBody>
      </p:sp>
      <p:sp>
        <p:nvSpPr>
          <p:cNvPr id="812" name="Text Placeholder 23"/>
          <p:cNvSpPr/>
          <p:nvPr/>
        </p:nvSpPr>
        <p:spPr>
          <a:xfrm>
            <a:off x="5719680" y="40086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13" name="Text Placeholder 20"/>
          <p:cNvSpPr/>
          <p:nvPr/>
        </p:nvSpPr>
        <p:spPr>
          <a:xfrm>
            <a:off x="4818240" y="2195640"/>
            <a:ext cx="80928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fee419"/>
                </a:solidFill>
                <a:latin typeface="Raleway Light"/>
                <a:ea typeface="Raleway Light"/>
              </a:rPr>
              <a:t>04</a:t>
            </a:r>
            <a:endParaRPr b="0" lang="en-US" sz="5000" spc="-1" strike="noStrike">
              <a:solidFill>
                <a:srgbClr val="000000"/>
              </a:solidFill>
              <a:latin typeface="Calibri"/>
            </a:endParaRPr>
          </a:p>
        </p:txBody>
      </p:sp>
      <p:sp>
        <p:nvSpPr>
          <p:cNvPr id="814" name="Text Placeholder 20"/>
          <p:cNvSpPr/>
          <p:nvPr/>
        </p:nvSpPr>
        <p:spPr>
          <a:xfrm>
            <a:off x="4818240" y="296388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fd7f00"/>
                </a:solidFill>
                <a:latin typeface="Raleway Light"/>
                <a:ea typeface="Raleway Light"/>
              </a:rPr>
              <a:t>05</a:t>
            </a:r>
            <a:endParaRPr b="0" lang="en-US" sz="5000" spc="-1" strike="noStrike">
              <a:solidFill>
                <a:srgbClr val="000000"/>
              </a:solidFill>
              <a:latin typeface="Calibri"/>
            </a:endParaRPr>
          </a:p>
        </p:txBody>
      </p:sp>
      <p:sp>
        <p:nvSpPr>
          <p:cNvPr id="815" name="Text Placeholder 20"/>
          <p:cNvSpPr/>
          <p:nvPr/>
        </p:nvSpPr>
        <p:spPr>
          <a:xfrm>
            <a:off x="4818240" y="372420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ee3b42"/>
                </a:solidFill>
                <a:latin typeface="Raleway Light"/>
                <a:ea typeface="Raleway Light"/>
              </a:rPr>
              <a:t>06</a:t>
            </a:r>
            <a:endParaRPr b="0" lang="en-US" sz="5000" spc="-1" strike="noStrike">
              <a:solidFill>
                <a:srgbClr val="000000"/>
              </a:solidFill>
              <a:latin typeface="Calibri"/>
            </a:endParaRPr>
          </a:p>
        </p:txBody>
      </p:sp>
      <p:pic>
        <p:nvPicPr>
          <p:cNvPr id="816" name="" descr=""/>
          <p:cNvPicPr/>
          <p:nvPr/>
        </p:nvPicPr>
        <p:blipFill>
          <a:blip r:embed="rId1"/>
          <a:stretch/>
        </p:blipFill>
        <p:spPr>
          <a:xfrm>
            <a:off x="0" y="1406160"/>
            <a:ext cx="9144000" cy="3737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Placeholder 23"/>
          <p:cNvSpPr/>
          <p:nvPr/>
        </p:nvSpPr>
        <p:spPr>
          <a:xfrm>
            <a:off x="684360" y="2057400"/>
            <a:ext cx="7775280" cy="22748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Curabitur rhoncus, diam vel congue pulvinar, erat massa lacinia purus, in laoreet purus massa in nunc. Phasellus finibus malesuada lobortis. Sed quis tellus id nulla mollis iaculis. Nam nec auctor arcu. Aenean molestie lacus ut urna accumsan, a rhoncus orci rhoncus. Fusce orci velit, euismod quis pulvinar ac, ultrices vel dui. Praesent commodo, odio eu ullamcorper eleifend, magna metus euismod elit, in porttitor urna nisl ut nulla. Donec accumsan egestas nulla, ut sollicitudin nulla lacinia ac. Pellentesque felis est, tincidunt et suscipit id, rutrum at odio. Sed fringilla porttitor ipsum. Morbi cursus massa eget.</a:t>
            </a:r>
            <a:endParaRPr b="0" lang="en-US" sz="900" spc="-1" strike="noStrike">
              <a:solidFill>
                <a:srgbClr val="000000"/>
              </a:solidFill>
              <a:latin typeface="Calibri"/>
            </a:endParaRPr>
          </a:p>
        </p:txBody>
      </p:sp>
      <p:sp>
        <p:nvSpPr>
          <p:cNvPr id="598" name="Marcador de texto 13"/>
          <p:cNvSpPr/>
          <p:nvPr/>
        </p:nvSpPr>
        <p:spPr>
          <a:xfrm>
            <a:off x="2627280" y="961920"/>
            <a:ext cx="388944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Introduction</a:t>
            </a:r>
            <a:endParaRPr b="0" lang="en-US" sz="5000" spc="-1" strike="noStrike">
              <a:solidFill>
                <a:srgbClr val="000000"/>
              </a:solidFill>
              <a:latin typeface="Calibri"/>
            </a:endParaRPr>
          </a:p>
        </p:txBody>
      </p:sp>
      <p:sp>
        <p:nvSpPr>
          <p:cNvPr id="599"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A LITTLE INTRODUCTION TO OUR COMPANY</a:t>
            </a:r>
            <a:endParaRPr b="0" lang="en-US" sz="1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2496600" y="23148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Double images</a:t>
            </a:r>
            <a:endParaRPr b="0" lang="en-US" sz="4000" spc="-1" strike="noStrike">
              <a:solidFill>
                <a:srgbClr val="000000"/>
              </a:solidFill>
              <a:latin typeface="Calibri"/>
            </a:endParaRPr>
          </a:p>
        </p:txBody>
      </p:sp>
      <p:sp>
        <p:nvSpPr>
          <p:cNvPr id="818" name="PlaceHolder 2"/>
          <p:cNvSpPr>
            <a:spLocks noGrp="1"/>
          </p:cNvSpPr>
          <p:nvPr>
            <p:ph/>
          </p:nvPr>
        </p:nvSpPr>
        <p:spPr>
          <a:xfrm>
            <a:off x="2496600" y="85392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19" name="Text Placeholder 20"/>
          <p:cNvSpPr/>
          <p:nvPr/>
        </p:nvSpPr>
        <p:spPr>
          <a:xfrm>
            <a:off x="712800" y="3997440"/>
            <a:ext cx="231948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20" name="Text Placeholder 23"/>
          <p:cNvSpPr/>
          <p:nvPr/>
        </p:nvSpPr>
        <p:spPr>
          <a:xfrm>
            <a:off x="712800" y="4284720"/>
            <a:ext cx="369252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aecenas ut.</a:t>
            </a:r>
            <a:endParaRPr b="0" lang="en-US" sz="900" spc="-1" strike="noStrike">
              <a:solidFill>
                <a:srgbClr val="000000"/>
              </a:solidFill>
              <a:latin typeface="Calibri"/>
            </a:endParaRPr>
          </a:p>
        </p:txBody>
      </p:sp>
      <p:sp>
        <p:nvSpPr>
          <p:cNvPr id="821" name="Text Placeholder 20"/>
          <p:cNvSpPr/>
          <p:nvPr/>
        </p:nvSpPr>
        <p:spPr>
          <a:xfrm>
            <a:off x="4983120" y="3997440"/>
            <a:ext cx="232092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22" name="Text Placeholder 23"/>
          <p:cNvSpPr/>
          <p:nvPr/>
        </p:nvSpPr>
        <p:spPr>
          <a:xfrm>
            <a:off x="4983120" y="4284720"/>
            <a:ext cx="369252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aecenas ut.</a:t>
            </a:r>
            <a:endParaRPr b="0" lang="en-US" sz="900" spc="-1" strike="noStrike">
              <a:solidFill>
                <a:srgbClr val="000000"/>
              </a:solidFill>
              <a:latin typeface="Calibri"/>
            </a:endParaRPr>
          </a:p>
        </p:txBody>
      </p:sp>
      <p:sp>
        <p:nvSpPr>
          <p:cNvPr id="823" name="Rectángulo redondeado 47"/>
          <p:cNvSpPr/>
          <p:nvPr/>
        </p:nvSpPr>
        <p:spPr>
          <a:xfrm>
            <a:off x="482760" y="4038480"/>
            <a:ext cx="99720" cy="612720"/>
          </a:xfrm>
          <a:custGeom>
            <a:avLst/>
            <a:gdLst>
              <a:gd name="textAreaLeft" fmla="*/ 14400 w 99720"/>
              <a:gd name="textAreaRight" fmla="*/ 85320 w 99720"/>
              <a:gd name="textAreaTop" fmla="*/ 14400 h 612720"/>
              <a:gd name="textAreaBottom" fmla="*/ 598320 h 612720"/>
            </a:gdLst>
            <a:ahLst/>
            <a:rect l="textAreaLeft" t="textAreaTop" r="textAreaRight" b="textAreaBottom"/>
            <a:pathLst>
              <a:path w="21600" h="132319">
                <a:moveTo>
                  <a:pt x="10800" y="0"/>
                </a:moveTo>
                <a:arcTo wR="10800" hR="10800" stAng="16200000" swAng="-5400000"/>
                <a:lnTo>
                  <a:pt x="0" y="121519"/>
                </a:lnTo>
                <a:arcTo wR="10800" hR="10800" stAng="10800000" swAng="-5400000"/>
                <a:lnTo>
                  <a:pt x="10800" y="132319"/>
                </a:lnTo>
                <a:arcTo wR="10800" hR="10800" stAng="5400000" swAng="-5400000"/>
                <a:lnTo>
                  <a:pt x="21600" y="10800"/>
                </a:lnTo>
                <a:arcTo wR="10800" hR="10800"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24" name="Rectángulo redondeado 48"/>
          <p:cNvSpPr/>
          <p:nvPr/>
        </p:nvSpPr>
        <p:spPr>
          <a:xfrm>
            <a:off x="4738680" y="4038480"/>
            <a:ext cx="100080" cy="612720"/>
          </a:xfrm>
          <a:custGeom>
            <a:avLst/>
            <a:gdLst>
              <a:gd name="textAreaLeft" fmla="*/ 14400 w 100080"/>
              <a:gd name="textAreaRight" fmla="*/ 85680 w 100080"/>
              <a:gd name="textAreaTop" fmla="*/ 14400 h 612720"/>
              <a:gd name="textAreaBottom" fmla="*/ 598320 h 612720"/>
            </a:gdLst>
            <a:ahLst/>
            <a:rect l="textAreaLeft" t="textAreaTop" r="textAreaRight" b="textAreaBottom"/>
            <a:pathLst>
              <a:path w="21600" h="131845">
                <a:moveTo>
                  <a:pt x="10800" y="0"/>
                </a:moveTo>
                <a:arcTo wR="10800" hR="10800" stAng="16200000" swAng="-5400000"/>
                <a:lnTo>
                  <a:pt x="0" y="121045"/>
                </a:lnTo>
                <a:arcTo wR="10800" hR="10800" stAng="10800000" swAng="-5400000"/>
                <a:lnTo>
                  <a:pt x="10800" y="131845"/>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2496600" y="23148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riple images</a:t>
            </a:r>
            <a:endParaRPr b="0" lang="en-US" sz="4000" spc="-1" strike="noStrike">
              <a:solidFill>
                <a:srgbClr val="000000"/>
              </a:solidFill>
              <a:latin typeface="Calibri"/>
            </a:endParaRPr>
          </a:p>
        </p:txBody>
      </p:sp>
      <p:sp>
        <p:nvSpPr>
          <p:cNvPr id="826" name="PlaceHolder 2"/>
          <p:cNvSpPr>
            <a:spLocks noGrp="1"/>
          </p:cNvSpPr>
          <p:nvPr>
            <p:ph/>
          </p:nvPr>
        </p:nvSpPr>
        <p:spPr>
          <a:xfrm>
            <a:off x="2496600" y="85392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27" name="Text Placeholder 20"/>
          <p:cNvSpPr/>
          <p:nvPr/>
        </p:nvSpPr>
        <p:spPr>
          <a:xfrm>
            <a:off x="826920" y="4059360"/>
            <a:ext cx="22482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28" name="Text Placeholder 23"/>
          <p:cNvSpPr/>
          <p:nvPr/>
        </p:nvSpPr>
        <p:spPr>
          <a:xfrm>
            <a:off x="826920" y="4362480"/>
            <a:ext cx="22482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 piscing elit. Fusce diam tortor, mattis.</a:t>
            </a:r>
            <a:endParaRPr b="0" lang="en-US" sz="900" spc="-1" strike="noStrike">
              <a:solidFill>
                <a:srgbClr val="000000"/>
              </a:solidFill>
              <a:latin typeface="Calibri"/>
            </a:endParaRPr>
          </a:p>
        </p:txBody>
      </p:sp>
      <p:sp>
        <p:nvSpPr>
          <p:cNvPr id="829" name="Text Placeholder 20"/>
          <p:cNvSpPr/>
          <p:nvPr/>
        </p:nvSpPr>
        <p:spPr>
          <a:xfrm>
            <a:off x="3627360" y="4059360"/>
            <a:ext cx="22478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30" name="Text Placeholder 23"/>
          <p:cNvSpPr/>
          <p:nvPr/>
        </p:nvSpPr>
        <p:spPr>
          <a:xfrm>
            <a:off x="3627360" y="4362480"/>
            <a:ext cx="22478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 iscin g elit. Fusce diam tortor, m attis.</a:t>
            </a:r>
            <a:endParaRPr b="0" lang="en-US" sz="900" spc="-1" strike="noStrike">
              <a:solidFill>
                <a:srgbClr val="000000"/>
              </a:solidFill>
              <a:latin typeface="Calibri"/>
            </a:endParaRPr>
          </a:p>
        </p:txBody>
      </p:sp>
      <p:sp>
        <p:nvSpPr>
          <p:cNvPr id="831" name="Text Placeholder 20"/>
          <p:cNvSpPr/>
          <p:nvPr/>
        </p:nvSpPr>
        <p:spPr>
          <a:xfrm>
            <a:off x="6426360" y="4059360"/>
            <a:ext cx="22492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3</a:t>
            </a:r>
            <a:endParaRPr b="0" lang="en-US" sz="1000" spc="-1" strike="noStrike">
              <a:solidFill>
                <a:srgbClr val="000000"/>
              </a:solidFill>
              <a:latin typeface="Calibri"/>
            </a:endParaRPr>
          </a:p>
        </p:txBody>
      </p:sp>
      <p:sp>
        <p:nvSpPr>
          <p:cNvPr id="832" name="Text Placeholder 23"/>
          <p:cNvSpPr/>
          <p:nvPr/>
        </p:nvSpPr>
        <p:spPr>
          <a:xfrm>
            <a:off x="6426360" y="4362480"/>
            <a:ext cx="224928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 sum dolor sit amet, conse ctetur adip iscing elit. Fusce diam tor tor, mattis.</a:t>
            </a:r>
            <a:endParaRPr b="0" lang="en-US" sz="900" spc="-1" strike="noStrike">
              <a:solidFill>
                <a:srgbClr val="000000"/>
              </a:solidFill>
              <a:latin typeface="Calibri"/>
            </a:endParaRPr>
          </a:p>
        </p:txBody>
      </p:sp>
      <p:sp>
        <p:nvSpPr>
          <p:cNvPr id="833" name="Rectángulo redondeado 47"/>
          <p:cNvSpPr/>
          <p:nvPr/>
        </p:nvSpPr>
        <p:spPr>
          <a:xfrm>
            <a:off x="482760" y="41450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34" name="Rectángulo redondeado 48"/>
          <p:cNvSpPr/>
          <p:nvPr/>
        </p:nvSpPr>
        <p:spPr>
          <a:xfrm>
            <a:off x="3268800" y="41450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35" name="Rectángulo redondeado 49"/>
          <p:cNvSpPr/>
          <p:nvPr/>
        </p:nvSpPr>
        <p:spPr>
          <a:xfrm>
            <a:off x="6068880" y="41450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riple images</a:t>
            </a:r>
            <a:endParaRPr b="0" lang="en-US" sz="4000" spc="-1" strike="noStrike">
              <a:solidFill>
                <a:srgbClr val="000000"/>
              </a:solidFill>
              <a:latin typeface="Calibri"/>
            </a:endParaRPr>
          </a:p>
        </p:txBody>
      </p:sp>
      <p:sp>
        <p:nvSpPr>
          <p:cNvPr id="837"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38" name="Text Placeholder 20"/>
          <p:cNvSpPr/>
          <p:nvPr/>
        </p:nvSpPr>
        <p:spPr>
          <a:xfrm>
            <a:off x="870120" y="3848040"/>
            <a:ext cx="196200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9ac9"/>
                </a:solidFill>
                <a:latin typeface="Raleway Black"/>
                <a:ea typeface="Raleway Black"/>
              </a:rPr>
              <a:t>Gallery image feature 01</a:t>
            </a:r>
            <a:endParaRPr b="0" lang="en-US" sz="1000" spc="-1" strike="noStrike">
              <a:solidFill>
                <a:srgbClr val="000000"/>
              </a:solidFill>
              <a:latin typeface="Calibri"/>
            </a:endParaRPr>
          </a:p>
        </p:txBody>
      </p:sp>
      <p:sp>
        <p:nvSpPr>
          <p:cNvPr id="839" name="Text Placeholder 23"/>
          <p:cNvSpPr/>
          <p:nvPr/>
        </p:nvSpPr>
        <p:spPr>
          <a:xfrm>
            <a:off x="870120" y="4148280"/>
            <a:ext cx="1962000" cy="40932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40" name="Text Placeholder 20"/>
          <p:cNvSpPr/>
          <p:nvPr/>
        </p:nvSpPr>
        <p:spPr>
          <a:xfrm>
            <a:off x="3591000" y="3848040"/>
            <a:ext cx="196200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Gallery image feature 02</a:t>
            </a:r>
            <a:endParaRPr b="0" lang="en-US" sz="1000" spc="-1" strike="noStrike">
              <a:solidFill>
                <a:srgbClr val="000000"/>
              </a:solidFill>
              <a:latin typeface="Calibri"/>
            </a:endParaRPr>
          </a:p>
        </p:txBody>
      </p:sp>
      <p:sp>
        <p:nvSpPr>
          <p:cNvPr id="841" name="Text Placeholder 23"/>
          <p:cNvSpPr/>
          <p:nvPr/>
        </p:nvSpPr>
        <p:spPr>
          <a:xfrm>
            <a:off x="3591000" y="4148280"/>
            <a:ext cx="1962000" cy="40932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42" name="Text Placeholder 20"/>
          <p:cNvSpPr/>
          <p:nvPr/>
        </p:nvSpPr>
        <p:spPr>
          <a:xfrm>
            <a:off x="6242040" y="3848040"/>
            <a:ext cx="19605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a0ba1e"/>
                </a:solidFill>
                <a:latin typeface="Raleway Black"/>
                <a:ea typeface="Raleway Black"/>
              </a:rPr>
              <a:t>Gallery image feature 03</a:t>
            </a:r>
            <a:endParaRPr b="0" lang="en-US" sz="1000" spc="-1" strike="noStrike">
              <a:solidFill>
                <a:srgbClr val="000000"/>
              </a:solidFill>
              <a:latin typeface="Calibri"/>
            </a:endParaRPr>
          </a:p>
        </p:txBody>
      </p:sp>
      <p:sp>
        <p:nvSpPr>
          <p:cNvPr id="843" name="Text Placeholder 23"/>
          <p:cNvSpPr/>
          <p:nvPr/>
        </p:nvSpPr>
        <p:spPr>
          <a:xfrm>
            <a:off x="6242040" y="4148280"/>
            <a:ext cx="1960560" cy="40932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45"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46" name="Text Placeholder 20"/>
          <p:cNvSpPr/>
          <p:nvPr/>
        </p:nvSpPr>
        <p:spPr>
          <a:xfrm>
            <a:off x="46836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47" name="Text Placeholder 23"/>
          <p:cNvSpPr/>
          <p:nvPr/>
        </p:nvSpPr>
        <p:spPr>
          <a:xfrm>
            <a:off x="46836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48" name="Text Placeholder 20"/>
          <p:cNvSpPr/>
          <p:nvPr/>
        </p:nvSpPr>
        <p:spPr>
          <a:xfrm>
            <a:off x="26179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49" name="Text Placeholder 23"/>
          <p:cNvSpPr/>
          <p:nvPr/>
        </p:nvSpPr>
        <p:spPr>
          <a:xfrm>
            <a:off x="26179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50" name="Text Placeholder 20"/>
          <p:cNvSpPr/>
          <p:nvPr/>
        </p:nvSpPr>
        <p:spPr>
          <a:xfrm>
            <a:off x="47671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3</a:t>
            </a:r>
            <a:endParaRPr b="0" lang="en-US" sz="1000" spc="-1" strike="noStrike">
              <a:solidFill>
                <a:srgbClr val="000000"/>
              </a:solidFill>
              <a:latin typeface="Calibri"/>
            </a:endParaRPr>
          </a:p>
        </p:txBody>
      </p:sp>
      <p:sp>
        <p:nvSpPr>
          <p:cNvPr id="851" name="Text Placeholder 23"/>
          <p:cNvSpPr/>
          <p:nvPr/>
        </p:nvSpPr>
        <p:spPr>
          <a:xfrm>
            <a:off x="47671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52" name="Text Placeholder 20"/>
          <p:cNvSpPr/>
          <p:nvPr/>
        </p:nvSpPr>
        <p:spPr>
          <a:xfrm>
            <a:off x="691668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4</a:t>
            </a:r>
            <a:endParaRPr b="0" lang="en-US" sz="1000" spc="-1" strike="noStrike">
              <a:solidFill>
                <a:srgbClr val="000000"/>
              </a:solidFill>
              <a:latin typeface="Calibri"/>
            </a:endParaRPr>
          </a:p>
        </p:txBody>
      </p:sp>
      <p:sp>
        <p:nvSpPr>
          <p:cNvPr id="853" name="Text Placeholder 23"/>
          <p:cNvSpPr/>
          <p:nvPr/>
        </p:nvSpPr>
        <p:spPr>
          <a:xfrm>
            <a:off x="691668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55"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56" name="Text Placeholder 20"/>
          <p:cNvSpPr/>
          <p:nvPr/>
        </p:nvSpPr>
        <p:spPr>
          <a:xfrm>
            <a:off x="46836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57" name="Text Placeholder 23"/>
          <p:cNvSpPr/>
          <p:nvPr/>
        </p:nvSpPr>
        <p:spPr>
          <a:xfrm>
            <a:off x="46836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58" name="Text Placeholder 20"/>
          <p:cNvSpPr/>
          <p:nvPr/>
        </p:nvSpPr>
        <p:spPr>
          <a:xfrm>
            <a:off x="26179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2</a:t>
            </a:r>
            <a:endParaRPr b="0" lang="en-US" sz="1000" spc="-1" strike="noStrike">
              <a:solidFill>
                <a:srgbClr val="000000"/>
              </a:solidFill>
              <a:latin typeface="Calibri"/>
            </a:endParaRPr>
          </a:p>
        </p:txBody>
      </p:sp>
      <p:sp>
        <p:nvSpPr>
          <p:cNvPr id="859" name="Text Placeholder 23"/>
          <p:cNvSpPr/>
          <p:nvPr/>
        </p:nvSpPr>
        <p:spPr>
          <a:xfrm>
            <a:off x="26179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60" name="Text Placeholder 20"/>
          <p:cNvSpPr/>
          <p:nvPr/>
        </p:nvSpPr>
        <p:spPr>
          <a:xfrm>
            <a:off x="476712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3</a:t>
            </a:r>
            <a:endParaRPr b="0" lang="en-US" sz="1000" spc="-1" strike="noStrike">
              <a:solidFill>
                <a:srgbClr val="000000"/>
              </a:solidFill>
              <a:latin typeface="Calibri"/>
            </a:endParaRPr>
          </a:p>
        </p:txBody>
      </p:sp>
      <p:sp>
        <p:nvSpPr>
          <p:cNvPr id="861" name="Text Placeholder 23"/>
          <p:cNvSpPr/>
          <p:nvPr/>
        </p:nvSpPr>
        <p:spPr>
          <a:xfrm>
            <a:off x="476712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
        <p:nvSpPr>
          <p:cNvPr id="862" name="Text Placeholder 20"/>
          <p:cNvSpPr/>
          <p:nvPr/>
        </p:nvSpPr>
        <p:spPr>
          <a:xfrm>
            <a:off x="6916680" y="3522600"/>
            <a:ext cx="1758960" cy="35244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4</a:t>
            </a:r>
            <a:endParaRPr b="0" lang="en-US" sz="1000" spc="-1" strike="noStrike">
              <a:solidFill>
                <a:srgbClr val="000000"/>
              </a:solidFill>
              <a:latin typeface="Calibri"/>
            </a:endParaRPr>
          </a:p>
        </p:txBody>
      </p:sp>
      <p:sp>
        <p:nvSpPr>
          <p:cNvPr id="863" name="Text Placeholder 23"/>
          <p:cNvSpPr/>
          <p:nvPr/>
        </p:nvSpPr>
        <p:spPr>
          <a:xfrm>
            <a:off x="6916680" y="3822840"/>
            <a:ext cx="1758960" cy="73980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a:t>
            </a:r>
            <a:endParaRPr b="0" lang="en-US" sz="9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65"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66" name="Text Placeholder 20"/>
          <p:cNvSpPr/>
          <p:nvPr/>
        </p:nvSpPr>
        <p:spPr>
          <a:xfrm>
            <a:off x="2173320" y="1555920"/>
            <a:ext cx="2135160" cy="3538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67" name="Text Placeholder 23"/>
          <p:cNvSpPr/>
          <p:nvPr/>
        </p:nvSpPr>
        <p:spPr>
          <a:xfrm>
            <a:off x="2173320" y="1855800"/>
            <a:ext cx="213516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
        <p:nvSpPr>
          <p:cNvPr id="868" name="Text Placeholder 20"/>
          <p:cNvSpPr/>
          <p:nvPr/>
        </p:nvSpPr>
        <p:spPr>
          <a:xfrm>
            <a:off x="6245280" y="1555920"/>
            <a:ext cx="2133720" cy="3538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69" name="Text Placeholder 23"/>
          <p:cNvSpPr/>
          <p:nvPr/>
        </p:nvSpPr>
        <p:spPr>
          <a:xfrm>
            <a:off x="6245280" y="1855800"/>
            <a:ext cx="213372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
        <p:nvSpPr>
          <p:cNvPr id="870" name="Text Placeholder 20"/>
          <p:cNvSpPr/>
          <p:nvPr/>
        </p:nvSpPr>
        <p:spPr>
          <a:xfrm>
            <a:off x="2173320" y="3218040"/>
            <a:ext cx="2135160" cy="3520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71" name="Text Placeholder 23"/>
          <p:cNvSpPr/>
          <p:nvPr/>
        </p:nvSpPr>
        <p:spPr>
          <a:xfrm>
            <a:off x="2173320" y="3517920"/>
            <a:ext cx="213516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
        <p:nvSpPr>
          <p:cNvPr id="872" name="Text Placeholder 20"/>
          <p:cNvSpPr/>
          <p:nvPr/>
        </p:nvSpPr>
        <p:spPr>
          <a:xfrm>
            <a:off x="6245280" y="3218040"/>
            <a:ext cx="2133720" cy="3520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404040"/>
                </a:solidFill>
                <a:latin typeface="Raleway Black"/>
                <a:ea typeface="Raleway Black"/>
              </a:rPr>
              <a:t>Gallery image feature 01</a:t>
            </a:r>
            <a:endParaRPr b="0" lang="en-US" sz="1000" spc="-1" strike="noStrike">
              <a:solidFill>
                <a:srgbClr val="000000"/>
              </a:solidFill>
              <a:latin typeface="Calibri"/>
            </a:endParaRPr>
          </a:p>
        </p:txBody>
      </p:sp>
      <p:sp>
        <p:nvSpPr>
          <p:cNvPr id="873" name="Text Placeholder 23"/>
          <p:cNvSpPr/>
          <p:nvPr/>
        </p:nvSpPr>
        <p:spPr>
          <a:xfrm>
            <a:off x="6245280" y="3517920"/>
            <a:ext cx="2133720" cy="11858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amet, consectetur adipiscing elit. Fusce diam tortor, mattis quis dapibu purus. Maecenas ut lacus nec mauris feugiat tristique et in.</a:t>
            </a:r>
            <a:endParaRPr b="0" lang="en-US" sz="9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ángulo 9"/>
          <p:cNvSpPr/>
          <p:nvPr/>
        </p:nvSpPr>
        <p:spPr>
          <a:xfrm>
            <a:off x="2023920" y="0"/>
            <a:ext cx="1785960" cy="2481120"/>
          </a:xfrm>
          <a:prstGeom prst="rect">
            <a:avLst/>
          </a:pr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75" name="Forma libre 19"/>
          <p:cNvSpPr/>
          <p:nvPr/>
        </p:nvSpPr>
        <p:spPr>
          <a:xfrm>
            <a:off x="-506520" y="-496800"/>
            <a:ext cx="5564160" cy="5549760"/>
          </a:xfrm>
          <a:custGeom>
            <a:avLst/>
            <a:gdLst/>
            <a:ahLst/>
            <a:rect l="l" t="t" r="r" b="b"/>
            <a:pathLst>
              <a:path w="5563679" h="5550115">
                <a:moveTo>
                  <a:pt x="1087705" y="0"/>
                </a:moveTo>
                <a:lnTo>
                  <a:pt x="1157844" y="0"/>
                </a:lnTo>
                <a:lnTo>
                  <a:pt x="1161143" y="499"/>
                </a:lnTo>
                <a:cubicBezTo>
                  <a:pt x="1197505" y="11809"/>
                  <a:pt x="1226971" y="38770"/>
                  <a:pt x="1241661" y="73502"/>
                </a:cubicBezTo>
                <a:lnTo>
                  <a:pt x="1244335" y="86745"/>
                </a:lnTo>
                <a:lnTo>
                  <a:pt x="1244335" y="147409"/>
                </a:lnTo>
                <a:cubicBezTo>
                  <a:pt x="1244335" y="218669"/>
                  <a:pt x="1302102" y="276436"/>
                  <a:pt x="1373362" y="276436"/>
                </a:cubicBezTo>
                <a:lnTo>
                  <a:pt x="1373361" y="276435"/>
                </a:lnTo>
                <a:lnTo>
                  <a:pt x="1390772" y="272920"/>
                </a:lnTo>
                <a:lnTo>
                  <a:pt x="1399039" y="274589"/>
                </a:lnTo>
                <a:lnTo>
                  <a:pt x="1399039" y="275327"/>
                </a:lnTo>
                <a:lnTo>
                  <a:pt x="1422519" y="277694"/>
                </a:lnTo>
                <a:cubicBezTo>
                  <a:pt x="1468717" y="287147"/>
                  <a:pt x="1506329" y="320167"/>
                  <a:pt x="1522248" y="363643"/>
                </a:cubicBezTo>
                <a:lnTo>
                  <a:pt x="1522268" y="363756"/>
                </a:lnTo>
                <a:lnTo>
                  <a:pt x="1522268" y="923549"/>
                </a:lnTo>
                <a:cubicBezTo>
                  <a:pt x="1522268" y="976994"/>
                  <a:pt x="1554762" y="1022849"/>
                  <a:pt x="1601071" y="1042437"/>
                </a:cubicBezTo>
                <a:lnTo>
                  <a:pt x="1649141" y="1052141"/>
                </a:lnTo>
                <a:lnTo>
                  <a:pt x="1649141" y="1052879"/>
                </a:lnTo>
                <a:lnTo>
                  <a:pt x="1672621" y="1055246"/>
                </a:lnTo>
                <a:cubicBezTo>
                  <a:pt x="1718819" y="1064699"/>
                  <a:pt x="1756431" y="1097719"/>
                  <a:pt x="1772350" y="1141195"/>
                </a:cubicBezTo>
                <a:lnTo>
                  <a:pt x="1772601" y="1142618"/>
                </a:lnTo>
                <a:lnTo>
                  <a:pt x="1772601" y="1410943"/>
                </a:lnTo>
                <a:cubicBezTo>
                  <a:pt x="1772601" y="1482203"/>
                  <a:pt x="1830368" y="1539970"/>
                  <a:pt x="1901628" y="1539970"/>
                </a:cubicBezTo>
                <a:lnTo>
                  <a:pt x="1901627" y="1539969"/>
                </a:lnTo>
                <a:cubicBezTo>
                  <a:pt x="1972887" y="1539969"/>
                  <a:pt x="2030654" y="1482202"/>
                  <a:pt x="2030654" y="1410942"/>
                </a:cubicBezTo>
                <a:lnTo>
                  <a:pt x="2030654" y="1130923"/>
                </a:lnTo>
                <a:lnTo>
                  <a:pt x="2032657" y="1119572"/>
                </a:lnTo>
                <a:cubicBezTo>
                  <a:pt x="2048576" y="1076096"/>
                  <a:pt x="2086188" y="1043076"/>
                  <a:pt x="2132386" y="1033623"/>
                </a:cubicBezTo>
                <a:lnTo>
                  <a:pt x="2155866" y="1031256"/>
                </a:lnTo>
                <a:lnTo>
                  <a:pt x="2155866" y="1030518"/>
                </a:lnTo>
                <a:lnTo>
                  <a:pt x="2203936" y="1020814"/>
                </a:lnTo>
                <a:cubicBezTo>
                  <a:pt x="2250245" y="1001226"/>
                  <a:pt x="2282739" y="955371"/>
                  <a:pt x="2282739" y="901926"/>
                </a:cubicBezTo>
                <a:lnTo>
                  <a:pt x="2282739" y="811796"/>
                </a:lnTo>
                <a:lnTo>
                  <a:pt x="2291128" y="770246"/>
                </a:lnTo>
                <a:cubicBezTo>
                  <a:pt x="2310715" y="723936"/>
                  <a:pt x="2356570" y="691442"/>
                  <a:pt x="2410015" y="691442"/>
                </a:cubicBezTo>
                <a:cubicBezTo>
                  <a:pt x="2463460" y="691442"/>
                  <a:pt x="2509315" y="723936"/>
                  <a:pt x="2528902" y="770246"/>
                </a:cubicBezTo>
                <a:lnTo>
                  <a:pt x="2531092" y="781090"/>
                </a:lnTo>
                <a:lnTo>
                  <a:pt x="2531092" y="1021960"/>
                </a:lnTo>
                <a:cubicBezTo>
                  <a:pt x="2531092" y="1075405"/>
                  <a:pt x="2563586" y="1121260"/>
                  <a:pt x="2609895" y="1140848"/>
                </a:cubicBezTo>
                <a:lnTo>
                  <a:pt x="2657965" y="1150552"/>
                </a:lnTo>
                <a:lnTo>
                  <a:pt x="2657965" y="1151290"/>
                </a:lnTo>
                <a:lnTo>
                  <a:pt x="2681445" y="1153657"/>
                </a:lnTo>
                <a:cubicBezTo>
                  <a:pt x="2727642" y="1163110"/>
                  <a:pt x="2765255" y="1196130"/>
                  <a:pt x="2781174" y="1239606"/>
                </a:cubicBezTo>
                <a:lnTo>
                  <a:pt x="2781426" y="1241035"/>
                </a:lnTo>
                <a:lnTo>
                  <a:pt x="2781426" y="1345676"/>
                </a:lnTo>
                <a:cubicBezTo>
                  <a:pt x="2781426" y="1416936"/>
                  <a:pt x="2839193" y="1474703"/>
                  <a:pt x="2910453" y="1474703"/>
                </a:cubicBezTo>
                <a:lnTo>
                  <a:pt x="2910452" y="1474702"/>
                </a:lnTo>
                <a:cubicBezTo>
                  <a:pt x="2981712" y="1474702"/>
                  <a:pt x="3039479" y="1416935"/>
                  <a:pt x="3039479" y="1345675"/>
                </a:cubicBezTo>
                <a:lnTo>
                  <a:pt x="3039479" y="0"/>
                </a:lnTo>
                <a:lnTo>
                  <a:pt x="3039480" y="0"/>
                </a:lnTo>
                <a:lnTo>
                  <a:pt x="3039480" y="1362198"/>
                </a:lnTo>
                <a:lnTo>
                  <a:pt x="3049618" y="1311979"/>
                </a:lnTo>
                <a:cubicBezTo>
                  <a:pt x="3069206" y="1265669"/>
                  <a:pt x="3115061" y="1233175"/>
                  <a:pt x="3168506" y="1233175"/>
                </a:cubicBezTo>
                <a:cubicBezTo>
                  <a:pt x="3221951" y="1233175"/>
                  <a:pt x="3267806" y="1265669"/>
                  <a:pt x="3287393" y="1311979"/>
                </a:cubicBezTo>
                <a:lnTo>
                  <a:pt x="3297157" y="1360339"/>
                </a:lnTo>
                <a:lnTo>
                  <a:pt x="3297157" y="1946741"/>
                </a:lnTo>
                <a:cubicBezTo>
                  <a:pt x="3297157" y="2018001"/>
                  <a:pt x="3354924" y="2075768"/>
                  <a:pt x="3426184" y="2075768"/>
                </a:cubicBezTo>
                <a:lnTo>
                  <a:pt x="3426183" y="2075767"/>
                </a:lnTo>
                <a:cubicBezTo>
                  <a:pt x="3497443" y="2075767"/>
                  <a:pt x="3555210" y="2018000"/>
                  <a:pt x="3555210" y="1946740"/>
                </a:cubicBezTo>
                <a:lnTo>
                  <a:pt x="3555210" y="0"/>
                </a:lnTo>
                <a:lnTo>
                  <a:pt x="3555211" y="1049778"/>
                </a:lnTo>
                <a:lnTo>
                  <a:pt x="3565349" y="999559"/>
                </a:lnTo>
                <a:cubicBezTo>
                  <a:pt x="3584937" y="953249"/>
                  <a:pt x="3630792" y="920755"/>
                  <a:pt x="3684237" y="920755"/>
                </a:cubicBezTo>
                <a:cubicBezTo>
                  <a:pt x="3737682" y="920755"/>
                  <a:pt x="3783537" y="953249"/>
                  <a:pt x="3803124" y="999559"/>
                </a:cubicBezTo>
                <a:lnTo>
                  <a:pt x="3806722" y="1017378"/>
                </a:lnTo>
                <a:lnTo>
                  <a:pt x="3806722" y="1326324"/>
                </a:lnTo>
                <a:cubicBezTo>
                  <a:pt x="3806722" y="1397584"/>
                  <a:pt x="3864489" y="1455351"/>
                  <a:pt x="3935749" y="1455351"/>
                </a:cubicBezTo>
                <a:lnTo>
                  <a:pt x="3935748" y="1455350"/>
                </a:lnTo>
                <a:cubicBezTo>
                  <a:pt x="4007008" y="1455350"/>
                  <a:pt x="4064775" y="1397583"/>
                  <a:pt x="4064775" y="1326323"/>
                </a:cubicBezTo>
                <a:lnTo>
                  <a:pt x="4064775" y="1279585"/>
                </a:lnTo>
                <a:lnTo>
                  <a:pt x="4083444" y="1247043"/>
                </a:lnTo>
                <a:cubicBezTo>
                  <a:pt x="4102728" y="1223677"/>
                  <a:pt x="4129710" y="1206901"/>
                  <a:pt x="4160509" y="1200599"/>
                </a:cubicBezTo>
                <a:lnTo>
                  <a:pt x="4183989" y="1198232"/>
                </a:lnTo>
                <a:lnTo>
                  <a:pt x="4183989" y="1197494"/>
                </a:lnTo>
                <a:lnTo>
                  <a:pt x="4232059" y="1187790"/>
                </a:lnTo>
                <a:cubicBezTo>
                  <a:pt x="4278368" y="1168202"/>
                  <a:pt x="4310862" y="1122347"/>
                  <a:pt x="4310862" y="1068902"/>
                </a:cubicBezTo>
                <a:lnTo>
                  <a:pt x="4310862" y="954918"/>
                </a:lnTo>
                <a:lnTo>
                  <a:pt x="4319251" y="913368"/>
                </a:lnTo>
                <a:cubicBezTo>
                  <a:pt x="4338838" y="867058"/>
                  <a:pt x="4384693" y="834564"/>
                  <a:pt x="4438138" y="834564"/>
                </a:cubicBezTo>
                <a:cubicBezTo>
                  <a:pt x="4491583" y="834564"/>
                  <a:pt x="4537438" y="867058"/>
                  <a:pt x="4557025" y="913368"/>
                </a:cubicBezTo>
                <a:lnTo>
                  <a:pt x="4559215" y="924213"/>
                </a:lnTo>
                <a:lnTo>
                  <a:pt x="4559215" y="1077616"/>
                </a:lnTo>
                <a:cubicBezTo>
                  <a:pt x="4559215" y="1131061"/>
                  <a:pt x="4591709" y="1176916"/>
                  <a:pt x="4638018" y="1196504"/>
                </a:cubicBezTo>
                <a:lnTo>
                  <a:pt x="4686088" y="1206208"/>
                </a:lnTo>
                <a:lnTo>
                  <a:pt x="4686088" y="1206946"/>
                </a:lnTo>
                <a:lnTo>
                  <a:pt x="4709568" y="1209313"/>
                </a:lnTo>
                <a:cubicBezTo>
                  <a:pt x="4755766" y="1218766"/>
                  <a:pt x="4793378" y="1251786"/>
                  <a:pt x="4809296" y="1295262"/>
                </a:cubicBezTo>
                <a:lnTo>
                  <a:pt x="4811500" y="1307752"/>
                </a:lnTo>
                <a:lnTo>
                  <a:pt x="4811500" y="1441660"/>
                </a:lnTo>
                <a:cubicBezTo>
                  <a:pt x="4811500" y="1512920"/>
                  <a:pt x="4869267" y="1570687"/>
                  <a:pt x="4940527" y="1570687"/>
                </a:cubicBezTo>
                <a:lnTo>
                  <a:pt x="4940526" y="1570686"/>
                </a:lnTo>
                <a:cubicBezTo>
                  <a:pt x="5011786" y="1570686"/>
                  <a:pt x="5069553" y="1512919"/>
                  <a:pt x="5069553" y="1441659"/>
                </a:cubicBezTo>
                <a:lnTo>
                  <a:pt x="5069553" y="1076405"/>
                </a:lnTo>
                <a:lnTo>
                  <a:pt x="5071757" y="1063915"/>
                </a:lnTo>
                <a:cubicBezTo>
                  <a:pt x="5087676" y="1020439"/>
                  <a:pt x="5125288" y="987419"/>
                  <a:pt x="5171486" y="977966"/>
                </a:cubicBezTo>
                <a:lnTo>
                  <a:pt x="5194966" y="975599"/>
                </a:lnTo>
                <a:lnTo>
                  <a:pt x="5194966" y="974861"/>
                </a:lnTo>
                <a:lnTo>
                  <a:pt x="5243036" y="965157"/>
                </a:lnTo>
                <a:cubicBezTo>
                  <a:pt x="5289345" y="945569"/>
                  <a:pt x="5321839" y="899714"/>
                  <a:pt x="5321839" y="846269"/>
                </a:cubicBezTo>
                <a:lnTo>
                  <a:pt x="5321839" y="469894"/>
                </a:lnTo>
                <a:lnTo>
                  <a:pt x="5330228" y="428344"/>
                </a:lnTo>
                <a:cubicBezTo>
                  <a:pt x="5349815" y="382034"/>
                  <a:pt x="5395670" y="349540"/>
                  <a:pt x="5449115" y="349540"/>
                </a:cubicBezTo>
                <a:cubicBezTo>
                  <a:pt x="5489199" y="349540"/>
                  <a:pt x="5525013" y="367818"/>
                  <a:pt x="5548678" y="396494"/>
                </a:cubicBezTo>
                <a:lnTo>
                  <a:pt x="5562692" y="419592"/>
                </a:lnTo>
                <a:lnTo>
                  <a:pt x="5562692" y="2265528"/>
                </a:lnTo>
                <a:lnTo>
                  <a:pt x="5563679" y="2265528"/>
                </a:lnTo>
                <a:lnTo>
                  <a:pt x="5563679" y="3341998"/>
                </a:lnTo>
                <a:cubicBezTo>
                  <a:pt x="5563679" y="3395443"/>
                  <a:pt x="5531185" y="3441298"/>
                  <a:pt x="5484876" y="3460886"/>
                </a:cubicBezTo>
                <a:lnTo>
                  <a:pt x="5436806" y="3470590"/>
                </a:lnTo>
                <a:lnTo>
                  <a:pt x="5436806" y="3471328"/>
                </a:lnTo>
                <a:lnTo>
                  <a:pt x="5413326" y="3473695"/>
                </a:lnTo>
                <a:cubicBezTo>
                  <a:pt x="5382527" y="3479997"/>
                  <a:pt x="5355545" y="3496773"/>
                  <a:pt x="5336262" y="3520139"/>
                </a:cubicBezTo>
                <a:lnTo>
                  <a:pt x="5315097" y="3557030"/>
                </a:lnTo>
                <a:lnTo>
                  <a:pt x="5315097" y="3620344"/>
                </a:lnTo>
                <a:cubicBezTo>
                  <a:pt x="5315097" y="3673789"/>
                  <a:pt x="5282603" y="3719644"/>
                  <a:pt x="5236294" y="3739232"/>
                </a:cubicBezTo>
                <a:lnTo>
                  <a:pt x="5188224" y="3748936"/>
                </a:lnTo>
                <a:lnTo>
                  <a:pt x="5188224" y="3749674"/>
                </a:lnTo>
                <a:lnTo>
                  <a:pt x="5164744" y="3752041"/>
                </a:lnTo>
                <a:cubicBezTo>
                  <a:pt x="5118546" y="3761494"/>
                  <a:pt x="5080934" y="3794514"/>
                  <a:pt x="5065015" y="3837990"/>
                </a:cubicBezTo>
                <a:lnTo>
                  <a:pt x="5064995" y="3838103"/>
                </a:lnTo>
                <a:lnTo>
                  <a:pt x="5064995" y="4397896"/>
                </a:lnTo>
                <a:cubicBezTo>
                  <a:pt x="5064995" y="4451341"/>
                  <a:pt x="5032501" y="4497196"/>
                  <a:pt x="4986192" y="4516784"/>
                </a:cubicBezTo>
                <a:lnTo>
                  <a:pt x="4938122" y="4526488"/>
                </a:lnTo>
                <a:lnTo>
                  <a:pt x="4938122" y="4527226"/>
                </a:lnTo>
                <a:lnTo>
                  <a:pt x="4914642" y="4529593"/>
                </a:lnTo>
                <a:cubicBezTo>
                  <a:pt x="4868444" y="4539046"/>
                  <a:pt x="4830832" y="4572066"/>
                  <a:pt x="4814913" y="4615542"/>
                </a:cubicBezTo>
                <a:lnTo>
                  <a:pt x="4814662" y="4616965"/>
                </a:lnTo>
                <a:lnTo>
                  <a:pt x="4814662" y="4885290"/>
                </a:lnTo>
                <a:cubicBezTo>
                  <a:pt x="4814662" y="4956550"/>
                  <a:pt x="4756895" y="5014317"/>
                  <a:pt x="4685635" y="5014317"/>
                </a:cubicBezTo>
                <a:lnTo>
                  <a:pt x="4685636" y="5014316"/>
                </a:lnTo>
                <a:cubicBezTo>
                  <a:pt x="4614376" y="5014316"/>
                  <a:pt x="4556609" y="4956549"/>
                  <a:pt x="4556609" y="4885289"/>
                </a:cubicBezTo>
                <a:lnTo>
                  <a:pt x="4556609" y="4605270"/>
                </a:lnTo>
                <a:lnTo>
                  <a:pt x="4554606" y="4593919"/>
                </a:lnTo>
                <a:cubicBezTo>
                  <a:pt x="4538687" y="4550443"/>
                  <a:pt x="4501075" y="4517423"/>
                  <a:pt x="4454877" y="4507970"/>
                </a:cubicBezTo>
                <a:lnTo>
                  <a:pt x="4431397" y="4505603"/>
                </a:lnTo>
                <a:lnTo>
                  <a:pt x="4431397" y="4504865"/>
                </a:lnTo>
                <a:lnTo>
                  <a:pt x="4383327" y="4495161"/>
                </a:lnTo>
                <a:cubicBezTo>
                  <a:pt x="4337018" y="4475573"/>
                  <a:pt x="4304524" y="4429718"/>
                  <a:pt x="4304524" y="4376273"/>
                </a:cubicBezTo>
                <a:lnTo>
                  <a:pt x="4304524" y="4286143"/>
                </a:lnTo>
                <a:lnTo>
                  <a:pt x="4296135" y="4244593"/>
                </a:lnTo>
                <a:cubicBezTo>
                  <a:pt x="4276548" y="4198283"/>
                  <a:pt x="4230693" y="4165789"/>
                  <a:pt x="4177248" y="4165789"/>
                </a:cubicBezTo>
                <a:cubicBezTo>
                  <a:pt x="4123803" y="4165789"/>
                  <a:pt x="4077948" y="4198283"/>
                  <a:pt x="4058361" y="4244593"/>
                </a:cubicBezTo>
                <a:lnTo>
                  <a:pt x="4056171" y="4255437"/>
                </a:lnTo>
                <a:lnTo>
                  <a:pt x="4056171" y="4496307"/>
                </a:lnTo>
                <a:cubicBezTo>
                  <a:pt x="4056171" y="4549752"/>
                  <a:pt x="4023677" y="4595607"/>
                  <a:pt x="3977368" y="4615195"/>
                </a:cubicBezTo>
                <a:lnTo>
                  <a:pt x="3929298" y="4624899"/>
                </a:lnTo>
                <a:lnTo>
                  <a:pt x="3929298" y="4625637"/>
                </a:lnTo>
                <a:lnTo>
                  <a:pt x="3905818" y="4628004"/>
                </a:lnTo>
                <a:cubicBezTo>
                  <a:pt x="3859621" y="4637457"/>
                  <a:pt x="3822008" y="4670477"/>
                  <a:pt x="3806089" y="4713953"/>
                </a:cubicBezTo>
                <a:lnTo>
                  <a:pt x="3805837" y="4715382"/>
                </a:lnTo>
                <a:lnTo>
                  <a:pt x="3805837" y="4820023"/>
                </a:lnTo>
                <a:cubicBezTo>
                  <a:pt x="3805837" y="4891283"/>
                  <a:pt x="3748070" y="4949050"/>
                  <a:pt x="3676810" y="4949050"/>
                </a:cubicBezTo>
                <a:lnTo>
                  <a:pt x="3676811" y="4949049"/>
                </a:lnTo>
                <a:cubicBezTo>
                  <a:pt x="3605551" y="4949049"/>
                  <a:pt x="3547784" y="4891282"/>
                  <a:pt x="3547784" y="4820022"/>
                </a:cubicBezTo>
                <a:lnTo>
                  <a:pt x="3547784" y="2265528"/>
                </a:lnTo>
                <a:lnTo>
                  <a:pt x="3547783" y="4836545"/>
                </a:lnTo>
                <a:lnTo>
                  <a:pt x="3537645" y="4786326"/>
                </a:lnTo>
                <a:cubicBezTo>
                  <a:pt x="3518057" y="4740016"/>
                  <a:pt x="3472202" y="4707522"/>
                  <a:pt x="3418757" y="4707522"/>
                </a:cubicBezTo>
                <a:cubicBezTo>
                  <a:pt x="3365312" y="4707522"/>
                  <a:pt x="3319457" y="4740016"/>
                  <a:pt x="3299870" y="4786326"/>
                </a:cubicBezTo>
                <a:lnTo>
                  <a:pt x="3290106" y="4834686"/>
                </a:lnTo>
                <a:lnTo>
                  <a:pt x="3290106" y="5421088"/>
                </a:lnTo>
                <a:cubicBezTo>
                  <a:pt x="3290106" y="5492348"/>
                  <a:pt x="3232339" y="5550115"/>
                  <a:pt x="3161079" y="5550115"/>
                </a:cubicBezTo>
                <a:lnTo>
                  <a:pt x="3161080" y="5550114"/>
                </a:lnTo>
                <a:cubicBezTo>
                  <a:pt x="3089820" y="5550114"/>
                  <a:pt x="3032053" y="5492347"/>
                  <a:pt x="3032053" y="5421087"/>
                </a:cubicBezTo>
                <a:lnTo>
                  <a:pt x="3032053" y="2265528"/>
                </a:lnTo>
                <a:lnTo>
                  <a:pt x="3032052" y="4524125"/>
                </a:lnTo>
                <a:lnTo>
                  <a:pt x="3021914" y="4473906"/>
                </a:lnTo>
                <a:cubicBezTo>
                  <a:pt x="3002326" y="4427596"/>
                  <a:pt x="2956471" y="4395102"/>
                  <a:pt x="2903026" y="4395102"/>
                </a:cubicBezTo>
                <a:cubicBezTo>
                  <a:pt x="2849581" y="4395102"/>
                  <a:pt x="2803726" y="4427596"/>
                  <a:pt x="2784139" y="4473906"/>
                </a:cubicBezTo>
                <a:lnTo>
                  <a:pt x="2780541" y="4491725"/>
                </a:lnTo>
                <a:lnTo>
                  <a:pt x="2780541" y="4800671"/>
                </a:lnTo>
                <a:cubicBezTo>
                  <a:pt x="2780541" y="4871931"/>
                  <a:pt x="2722774" y="4929698"/>
                  <a:pt x="2651514" y="4929698"/>
                </a:cubicBezTo>
                <a:lnTo>
                  <a:pt x="2651515" y="4929697"/>
                </a:lnTo>
                <a:cubicBezTo>
                  <a:pt x="2580255" y="4929697"/>
                  <a:pt x="2522488" y="4871930"/>
                  <a:pt x="2522488" y="4800670"/>
                </a:cubicBezTo>
                <a:lnTo>
                  <a:pt x="2522488" y="4753932"/>
                </a:lnTo>
                <a:lnTo>
                  <a:pt x="2503819" y="4721390"/>
                </a:lnTo>
                <a:cubicBezTo>
                  <a:pt x="2484535" y="4698024"/>
                  <a:pt x="2457553" y="4681248"/>
                  <a:pt x="2426754" y="4674946"/>
                </a:cubicBezTo>
                <a:lnTo>
                  <a:pt x="2403274" y="4672579"/>
                </a:lnTo>
                <a:lnTo>
                  <a:pt x="2403274" y="4671841"/>
                </a:lnTo>
                <a:lnTo>
                  <a:pt x="2355204" y="4662137"/>
                </a:lnTo>
                <a:cubicBezTo>
                  <a:pt x="2308895" y="4642549"/>
                  <a:pt x="2276401" y="4596694"/>
                  <a:pt x="2276401" y="4543249"/>
                </a:cubicBezTo>
                <a:lnTo>
                  <a:pt x="2276401" y="4429265"/>
                </a:lnTo>
                <a:lnTo>
                  <a:pt x="2268012" y="4387715"/>
                </a:lnTo>
                <a:cubicBezTo>
                  <a:pt x="2248425" y="4341405"/>
                  <a:pt x="2202570" y="4308911"/>
                  <a:pt x="2149125" y="4308911"/>
                </a:cubicBezTo>
                <a:cubicBezTo>
                  <a:pt x="2095680" y="4308911"/>
                  <a:pt x="2049825" y="4341405"/>
                  <a:pt x="2030238" y="4387715"/>
                </a:cubicBezTo>
                <a:lnTo>
                  <a:pt x="2028048" y="4398560"/>
                </a:lnTo>
                <a:lnTo>
                  <a:pt x="2028048" y="4551963"/>
                </a:lnTo>
                <a:cubicBezTo>
                  <a:pt x="2028048" y="4605408"/>
                  <a:pt x="1995554" y="4651263"/>
                  <a:pt x="1949245" y="4670851"/>
                </a:cubicBezTo>
                <a:lnTo>
                  <a:pt x="1901175" y="4680555"/>
                </a:lnTo>
                <a:lnTo>
                  <a:pt x="1901175" y="4681293"/>
                </a:lnTo>
                <a:lnTo>
                  <a:pt x="1877695" y="4683660"/>
                </a:lnTo>
                <a:cubicBezTo>
                  <a:pt x="1831497" y="4693113"/>
                  <a:pt x="1793885" y="4726133"/>
                  <a:pt x="1777966" y="4769609"/>
                </a:cubicBezTo>
                <a:lnTo>
                  <a:pt x="1775762" y="4782099"/>
                </a:lnTo>
                <a:lnTo>
                  <a:pt x="1775762" y="4916007"/>
                </a:lnTo>
                <a:cubicBezTo>
                  <a:pt x="1775762" y="4987267"/>
                  <a:pt x="1717995" y="5045034"/>
                  <a:pt x="1646735" y="5045034"/>
                </a:cubicBezTo>
                <a:lnTo>
                  <a:pt x="1646736" y="5045033"/>
                </a:lnTo>
                <a:cubicBezTo>
                  <a:pt x="1575476" y="5045033"/>
                  <a:pt x="1517709" y="4987266"/>
                  <a:pt x="1517709" y="4916006"/>
                </a:cubicBezTo>
                <a:lnTo>
                  <a:pt x="1517709" y="4550752"/>
                </a:lnTo>
                <a:lnTo>
                  <a:pt x="1515505" y="4538262"/>
                </a:lnTo>
                <a:cubicBezTo>
                  <a:pt x="1499586" y="4494786"/>
                  <a:pt x="1461974" y="4461766"/>
                  <a:pt x="1415776" y="4452313"/>
                </a:cubicBezTo>
                <a:lnTo>
                  <a:pt x="1392296" y="4449946"/>
                </a:lnTo>
                <a:lnTo>
                  <a:pt x="1392296" y="4449208"/>
                </a:lnTo>
                <a:lnTo>
                  <a:pt x="1344226" y="4439504"/>
                </a:lnTo>
                <a:cubicBezTo>
                  <a:pt x="1297917" y="4419916"/>
                  <a:pt x="1265423" y="4374061"/>
                  <a:pt x="1265423" y="4320616"/>
                </a:cubicBezTo>
                <a:lnTo>
                  <a:pt x="1265423" y="3944241"/>
                </a:lnTo>
                <a:lnTo>
                  <a:pt x="1257034" y="3902691"/>
                </a:lnTo>
                <a:cubicBezTo>
                  <a:pt x="1237447" y="3856381"/>
                  <a:pt x="1191592" y="3823887"/>
                  <a:pt x="1138147" y="3823887"/>
                </a:cubicBezTo>
                <a:cubicBezTo>
                  <a:pt x="1084702" y="3823887"/>
                  <a:pt x="1038847" y="3856381"/>
                  <a:pt x="1019260" y="3902691"/>
                </a:cubicBezTo>
                <a:lnTo>
                  <a:pt x="1016586" y="3915934"/>
                </a:lnTo>
                <a:lnTo>
                  <a:pt x="1016586" y="3976598"/>
                </a:lnTo>
                <a:cubicBezTo>
                  <a:pt x="1016586" y="4047858"/>
                  <a:pt x="958819" y="4105625"/>
                  <a:pt x="887559" y="4105625"/>
                </a:cubicBezTo>
                <a:lnTo>
                  <a:pt x="887560" y="4105624"/>
                </a:lnTo>
                <a:cubicBezTo>
                  <a:pt x="816300" y="4105624"/>
                  <a:pt x="758533" y="4047857"/>
                  <a:pt x="758533" y="3976597"/>
                </a:cubicBezTo>
                <a:lnTo>
                  <a:pt x="758533" y="3835817"/>
                </a:lnTo>
                <a:lnTo>
                  <a:pt x="737116" y="3798485"/>
                </a:lnTo>
                <a:cubicBezTo>
                  <a:pt x="717833" y="3775119"/>
                  <a:pt x="690850" y="3758343"/>
                  <a:pt x="660051" y="3752041"/>
                </a:cubicBezTo>
                <a:lnTo>
                  <a:pt x="636571" y="3749674"/>
                </a:lnTo>
                <a:lnTo>
                  <a:pt x="636571" y="3748936"/>
                </a:lnTo>
                <a:lnTo>
                  <a:pt x="588501" y="3739232"/>
                </a:lnTo>
                <a:cubicBezTo>
                  <a:pt x="542192" y="3719644"/>
                  <a:pt x="509698" y="3673789"/>
                  <a:pt x="509698" y="3620344"/>
                </a:cubicBezTo>
                <a:lnTo>
                  <a:pt x="509698" y="2675086"/>
                </a:lnTo>
                <a:lnTo>
                  <a:pt x="501309" y="2633537"/>
                </a:lnTo>
                <a:cubicBezTo>
                  <a:pt x="481722" y="2587227"/>
                  <a:pt x="435867" y="2554733"/>
                  <a:pt x="382422" y="2554733"/>
                </a:cubicBezTo>
                <a:cubicBezTo>
                  <a:pt x="328977" y="2554733"/>
                  <a:pt x="283122" y="2587227"/>
                  <a:pt x="263535" y="2633537"/>
                </a:cubicBezTo>
                <a:lnTo>
                  <a:pt x="258053" y="2660688"/>
                </a:lnTo>
                <a:lnTo>
                  <a:pt x="258053" y="2715723"/>
                </a:lnTo>
                <a:cubicBezTo>
                  <a:pt x="258053" y="2786983"/>
                  <a:pt x="200286" y="2844750"/>
                  <a:pt x="129026" y="2844750"/>
                </a:cubicBezTo>
                <a:lnTo>
                  <a:pt x="129027" y="2844749"/>
                </a:lnTo>
                <a:cubicBezTo>
                  <a:pt x="57767" y="2844749"/>
                  <a:pt x="0" y="2786982"/>
                  <a:pt x="0" y="2715722"/>
                </a:cubicBezTo>
                <a:lnTo>
                  <a:pt x="0" y="2265528"/>
                </a:lnTo>
                <a:lnTo>
                  <a:pt x="0" y="546839"/>
                </a:lnTo>
                <a:lnTo>
                  <a:pt x="12233" y="526676"/>
                </a:lnTo>
                <a:cubicBezTo>
                  <a:pt x="35899" y="498000"/>
                  <a:pt x="71713" y="479722"/>
                  <a:pt x="111797" y="479722"/>
                </a:cubicBezTo>
                <a:cubicBezTo>
                  <a:pt x="165242" y="479722"/>
                  <a:pt x="211097" y="512216"/>
                  <a:pt x="230684" y="558526"/>
                </a:cubicBezTo>
                <a:lnTo>
                  <a:pt x="232874" y="569371"/>
                </a:lnTo>
                <a:lnTo>
                  <a:pt x="232874" y="722774"/>
                </a:lnTo>
                <a:cubicBezTo>
                  <a:pt x="232874" y="776219"/>
                  <a:pt x="265368" y="822074"/>
                  <a:pt x="311677" y="841662"/>
                </a:cubicBezTo>
                <a:lnTo>
                  <a:pt x="359747" y="851366"/>
                </a:lnTo>
                <a:lnTo>
                  <a:pt x="359747" y="852104"/>
                </a:lnTo>
                <a:lnTo>
                  <a:pt x="383227" y="854471"/>
                </a:lnTo>
                <a:cubicBezTo>
                  <a:pt x="429425" y="863924"/>
                  <a:pt x="467037" y="896944"/>
                  <a:pt x="482956" y="940420"/>
                </a:cubicBezTo>
                <a:lnTo>
                  <a:pt x="485160" y="952910"/>
                </a:lnTo>
                <a:lnTo>
                  <a:pt x="485160" y="1086818"/>
                </a:lnTo>
                <a:cubicBezTo>
                  <a:pt x="485160" y="1158078"/>
                  <a:pt x="542926" y="1215845"/>
                  <a:pt x="614186" y="1215845"/>
                </a:cubicBezTo>
                <a:lnTo>
                  <a:pt x="614185" y="1215844"/>
                </a:lnTo>
                <a:cubicBezTo>
                  <a:pt x="685445" y="1215844"/>
                  <a:pt x="743212" y="1158077"/>
                  <a:pt x="743212" y="1086817"/>
                </a:cubicBezTo>
                <a:lnTo>
                  <a:pt x="743212" y="721563"/>
                </a:lnTo>
                <a:lnTo>
                  <a:pt x="745416" y="709073"/>
                </a:lnTo>
                <a:cubicBezTo>
                  <a:pt x="761335" y="665597"/>
                  <a:pt x="798947" y="632577"/>
                  <a:pt x="845145" y="623124"/>
                </a:cubicBezTo>
                <a:lnTo>
                  <a:pt x="868625" y="620757"/>
                </a:lnTo>
                <a:lnTo>
                  <a:pt x="868625" y="620019"/>
                </a:lnTo>
                <a:lnTo>
                  <a:pt x="916695" y="610315"/>
                </a:lnTo>
                <a:cubicBezTo>
                  <a:pt x="963004" y="590727"/>
                  <a:pt x="995498" y="544872"/>
                  <a:pt x="995498" y="491427"/>
                </a:cubicBezTo>
                <a:lnTo>
                  <a:pt x="995498" y="115052"/>
                </a:lnTo>
                <a:lnTo>
                  <a:pt x="1003887" y="73502"/>
                </a:lnTo>
                <a:cubicBezTo>
                  <a:pt x="1018578" y="38770"/>
                  <a:pt x="1048044" y="11809"/>
                  <a:pt x="1084406" y="499"/>
                </a:cubicBezTo>
                <a:lnTo>
                  <a:pt x="1087705" y="0"/>
                </a:lnTo>
                <a:close/>
              </a:path>
            </a:pathLst>
          </a:custGeom>
          <a:solidFill>
            <a:srgbClr val="006b8b"/>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876" name="Marcador de texto 4"/>
          <p:cNvSpPr/>
          <p:nvPr/>
        </p:nvSpPr>
        <p:spPr>
          <a:xfrm>
            <a:off x="793800" y="1606680"/>
            <a:ext cx="3887640" cy="173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f2f2"/>
                </a:solidFill>
                <a:latin typeface="Raleway Light"/>
                <a:ea typeface="Raleway Light"/>
              </a:rPr>
              <a:t>“</a:t>
            </a:r>
            <a:r>
              <a:rPr b="0" lang="en-US" sz="3000" spc="-1" strike="noStrike">
                <a:solidFill>
                  <a:srgbClr val="f2f2f2"/>
                </a:solidFill>
                <a:latin typeface="Raleway Light"/>
                <a:ea typeface="Raleway Light"/>
              </a:rPr>
              <a:t>Ideas will convert in reality when you do something to convert in reality”</a:t>
            </a:r>
            <a:endParaRPr b="0" lang="en-US" sz="3000" spc="-1" strike="noStrike">
              <a:solidFill>
                <a:srgbClr val="000000"/>
              </a:solidFill>
              <a:latin typeface="Calibri"/>
            </a:endParaRPr>
          </a:p>
        </p:txBody>
      </p:sp>
      <p:sp>
        <p:nvSpPr>
          <p:cNvPr id="877" name="Marcador de texto 14"/>
          <p:cNvSpPr/>
          <p:nvPr/>
        </p:nvSpPr>
        <p:spPr>
          <a:xfrm>
            <a:off x="793800" y="3360600"/>
            <a:ext cx="3578040" cy="22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1cfff"/>
                </a:solidFill>
                <a:latin typeface="Raleway Black"/>
                <a:ea typeface="Raleway Black"/>
              </a:rPr>
              <a:t>- ISAAC RIVERA</a:t>
            </a:r>
            <a:endParaRPr b="0" lang="en-US" sz="1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mage with info</a:t>
            </a:r>
            <a:endParaRPr b="0" lang="en-US" sz="4000" spc="-1" strike="noStrike">
              <a:solidFill>
                <a:srgbClr val="000000"/>
              </a:solidFill>
              <a:latin typeface="Calibri"/>
            </a:endParaRPr>
          </a:p>
        </p:txBody>
      </p:sp>
      <p:sp>
        <p:nvSpPr>
          <p:cNvPr id="879"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PORTFOLIO IMAGES HERE</a:t>
            </a:r>
            <a:endParaRPr b="0" lang="en-US" sz="1000" spc="-1" strike="noStrike">
              <a:solidFill>
                <a:srgbClr val="000000"/>
              </a:solidFill>
              <a:latin typeface="Calibri"/>
            </a:endParaRPr>
          </a:p>
        </p:txBody>
      </p:sp>
      <p:sp>
        <p:nvSpPr>
          <p:cNvPr id="880" name="Text Placeholder 20"/>
          <p:cNvSpPr/>
          <p:nvPr/>
        </p:nvSpPr>
        <p:spPr>
          <a:xfrm>
            <a:off x="1270080" y="179064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881" name="Text Placeholder 23"/>
          <p:cNvSpPr/>
          <p:nvPr/>
        </p:nvSpPr>
        <p:spPr>
          <a:xfrm>
            <a:off x="1270080" y="209376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82" name="Text Placeholder 20"/>
          <p:cNvSpPr/>
          <p:nvPr/>
        </p:nvSpPr>
        <p:spPr>
          <a:xfrm>
            <a:off x="1270080" y="254808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83" name="Text Placeholder 23"/>
          <p:cNvSpPr/>
          <p:nvPr/>
        </p:nvSpPr>
        <p:spPr>
          <a:xfrm>
            <a:off x="1270080" y="285264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84" name="Text Placeholder 20"/>
          <p:cNvSpPr/>
          <p:nvPr/>
        </p:nvSpPr>
        <p:spPr>
          <a:xfrm>
            <a:off x="369720" y="1843200"/>
            <a:ext cx="80820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885" name="Text Placeholder 20"/>
          <p:cNvSpPr/>
          <p:nvPr/>
        </p:nvSpPr>
        <p:spPr>
          <a:xfrm>
            <a:off x="369720" y="261288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886" name="Text Placeholder 20"/>
          <p:cNvSpPr/>
          <p:nvPr/>
        </p:nvSpPr>
        <p:spPr>
          <a:xfrm>
            <a:off x="5719680" y="179064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1</a:t>
            </a:r>
            <a:endParaRPr b="0" lang="en-US" sz="1000" spc="-1" strike="noStrike">
              <a:solidFill>
                <a:srgbClr val="000000"/>
              </a:solidFill>
              <a:latin typeface="Calibri"/>
            </a:endParaRPr>
          </a:p>
        </p:txBody>
      </p:sp>
      <p:sp>
        <p:nvSpPr>
          <p:cNvPr id="887" name="Text Placeholder 23"/>
          <p:cNvSpPr/>
          <p:nvPr/>
        </p:nvSpPr>
        <p:spPr>
          <a:xfrm>
            <a:off x="5719680" y="20937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88" name="Text Placeholder 20"/>
          <p:cNvSpPr/>
          <p:nvPr/>
        </p:nvSpPr>
        <p:spPr>
          <a:xfrm>
            <a:off x="5719680" y="254808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Gallery image feature 02</a:t>
            </a:r>
            <a:endParaRPr b="0" lang="en-US" sz="1000" spc="-1" strike="noStrike">
              <a:solidFill>
                <a:srgbClr val="000000"/>
              </a:solidFill>
              <a:latin typeface="Calibri"/>
            </a:endParaRPr>
          </a:p>
        </p:txBody>
      </p:sp>
      <p:sp>
        <p:nvSpPr>
          <p:cNvPr id="889" name="Text Placeholder 23"/>
          <p:cNvSpPr/>
          <p:nvPr/>
        </p:nvSpPr>
        <p:spPr>
          <a:xfrm>
            <a:off x="5719680" y="285264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90" name="Text Placeholder 20"/>
          <p:cNvSpPr/>
          <p:nvPr/>
        </p:nvSpPr>
        <p:spPr>
          <a:xfrm>
            <a:off x="4818240" y="1843200"/>
            <a:ext cx="80928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
        <p:nvSpPr>
          <p:cNvPr id="891" name="Text Placeholder 20"/>
          <p:cNvSpPr/>
          <p:nvPr/>
        </p:nvSpPr>
        <p:spPr>
          <a:xfrm>
            <a:off x="4818240" y="261288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ee3b42"/>
                </a:solidFill>
                <a:latin typeface="Raleway Light"/>
                <a:ea typeface="Raleway Light"/>
              </a:rPr>
              <a:t>04</a:t>
            </a:r>
            <a:endParaRPr b="0" lang="en-US" sz="5000" spc="-1" strike="noStrike">
              <a:solidFill>
                <a:srgbClr val="000000"/>
              </a:solidFill>
              <a:latin typeface="Calibri"/>
            </a:endParaRPr>
          </a:p>
        </p:txBody>
      </p:sp>
      <p:sp>
        <p:nvSpPr>
          <p:cNvPr id="892" name="Text Placeholder 20"/>
          <p:cNvSpPr/>
          <p:nvPr/>
        </p:nvSpPr>
        <p:spPr>
          <a:xfrm>
            <a:off x="5410080" y="390996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893" name="Text Placeholder 23"/>
          <p:cNvSpPr/>
          <p:nvPr/>
        </p:nvSpPr>
        <p:spPr>
          <a:xfrm>
            <a:off x="5410080" y="416232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894" name="Rectángulo redondeado 36"/>
          <p:cNvSpPr/>
          <p:nvPr/>
        </p:nvSpPr>
        <p:spPr>
          <a:xfrm>
            <a:off x="4605480" y="396396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95" name="Rectángulo redondeado 37"/>
          <p:cNvSpPr/>
          <p:nvPr/>
        </p:nvSpPr>
        <p:spPr>
          <a:xfrm>
            <a:off x="479520" y="396072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896" name="AutoShape 14"/>
          <p:cNvSpPr/>
          <p:nvPr/>
        </p:nvSpPr>
        <p:spPr>
          <a:xfrm>
            <a:off x="636480" y="408456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7f3f00"/>
                </a:solidFill>
                <a:latin typeface="FontAwesome"/>
                <a:ea typeface="FontAwesome"/>
              </a:rPr>
              <a:t></a:t>
            </a:r>
            <a:endParaRPr b="0" lang="en-US" sz="1800" spc="-1" strike="noStrike">
              <a:solidFill>
                <a:srgbClr val="000000"/>
              </a:solidFill>
              <a:latin typeface="Calibri"/>
            </a:endParaRPr>
          </a:p>
        </p:txBody>
      </p:sp>
      <p:sp>
        <p:nvSpPr>
          <p:cNvPr id="897" name="AutoShape 14"/>
          <p:cNvSpPr/>
          <p:nvPr/>
        </p:nvSpPr>
        <p:spPr>
          <a:xfrm>
            <a:off x="4765680" y="40845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8b7b01"/>
                </a:solidFill>
                <a:latin typeface="FontAwesome"/>
                <a:ea typeface="FontAwesome"/>
              </a:rPr>
              <a:t></a:t>
            </a:r>
            <a:endParaRPr b="0" lang="en-US" sz="1800" spc="-1" strike="noStrike">
              <a:solidFill>
                <a:srgbClr val="000000"/>
              </a:solidFill>
              <a:latin typeface="Calibri"/>
            </a:endParaRPr>
          </a:p>
        </p:txBody>
      </p:sp>
      <p:sp>
        <p:nvSpPr>
          <p:cNvPr id="898" name="Text Placeholder 20"/>
          <p:cNvSpPr/>
          <p:nvPr/>
        </p:nvSpPr>
        <p:spPr>
          <a:xfrm>
            <a:off x="1224000" y="390996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899" name="Text Placeholder 23"/>
          <p:cNvSpPr/>
          <p:nvPr/>
        </p:nvSpPr>
        <p:spPr>
          <a:xfrm>
            <a:off x="1224000" y="416232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pic>
        <p:nvPicPr>
          <p:cNvPr id="900" name="" descr=""/>
          <p:cNvPicPr/>
          <p:nvPr/>
        </p:nvPicPr>
        <p:blipFill>
          <a:blip r:embed="rId1"/>
          <a:stretch/>
        </p:blipFill>
        <p:spPr>
          <a:xfrm>
            <a:off x="0" y="1406160"/>
            <a:ext cx="9144000" cy="2198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ángulo redondeado 80"/>
          <p:cNvSpPr/>
          <p:nvPr/>
        </p:nvSpPr>
        <p:spPr>
          <a:xfrm>
            <a:off x="488880" y="2892600"/>
            <a:ext cx="258840" cy="255240"/>
          </a:xfrm>
          <a:prstGeom prst="roundRect">
            <a:avLst>
              <a:gd name="adj" fmla="val 50000"/>
            </a:avLst>
          </a:prstGeom>
          <a:solidFill>
            <a:srgbClr val="31c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902" name="Agrupar 81" descr=""/>
          <p:cNvPicPr/>
          <p:nvPr/>
        </p:nvPicPr>
        <p:blipFill>
          <a:blip r:embed="rId1"/>
          <a:stretch/>
        </p:blipFill>
        <p:spPr>
          <a:xfrm>
            <a:off x="1311120" y="2835360"/>
            <a:ext cx="268560" cy="261720"/>
          </a:xfrm>
          <a:prstGeom prst="rect">
            <a:avLst/>
          </a:prstGeom>
          <a:ln w="0">
            <a:noFill/>
          </a:ln>
        </p:spPr>
      </p:pic>
      <p:sp>
        <p:nvSpPr>
          <p:cNvPr id="903" name="Rectángulo redondeado 84"/>
          <p:cNvSpPr/>
          <p:nvPr/>
        </p:nvSpPr>
        <p:spPr>
          <a:xfrm>
            <a:off x="6076800" y="2503440"/>
            <a:ext cx="257400" cy="255600"/>
          </a:xfrm>
          <a:prstGeom prst="roundRect">
            <a:avLst>
              <a:gd name="adj" fmla="val 50000"/>
            </a:avLst>
          </a:pr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904" name="Agrupar 85" descr=""/>
          <p:cNvPicPr/>
          <p:nvPr/>
        </p:nvPicPr>
        <p:blipFill>
          <a:blip r:embed="rId2"/>
          <a:stretch/>
        </p:blipFill>
        <p:spPr>
          <a:xfrm>
            <a:off x="7669080" y="2335320"/>
            <a:ext cx="262080" cy="255600"/>
          </a:xfrm>
          <a:prstGeom prst="rect">
            <a:avLst/>
          </a:prstGeom>
          <a:ln w="0">
            <a:noFill/>
          </a:ln>
        </p:spPr>
      </p:pic>
      <p:sp>
        <p:nvSpPr>
          <p:cNvPr id="905" name="Forma libre 91"/>
          <p:cNvSpPr/>
          <p:nvPr/>
        </p:nvSpPr>
        <p:spPr>
          <a:xfrm>
            <a:off x="3808440" y="2832120"/>
            <a:ext cx="2570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a0ba1e"/>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906" name="Text Placeholder 20"/>
          <p:cNvSpPr/>
          <p:nvPr/>
        </p:nvSpPr>
        <p:spPr>
          <a:xfrm>
            <a:off x="5504040" y="379584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907" name="Text Placeholder 23"/>
          <p:cNvSpPr/>
          <p:nvPr/>
        </p:nvSpPr>
        <p:spPr>
          <a:xfrm>
            <a:off x="5504040" y="4048200"/>
            <a:ext cx="29556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908" name="Rectángulo redondeado 15"/>
          <p:cNvSpPr/>
          <p:nvPr/>
        </p:nvSpPr>
        <p:spPr>
          <a:xfrm>
            <a:off x="4699080" y="3849840"/>
            <a:ext cx="611280" cy="610920"/>
          </a:xfrm>
          <a:prstGeom prst="roundRect">
            <a:avLst>
              <a:gd name="adj" fmla="val 50000"/>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09" name="Rectángulo redondeado 16"/>
          <p:cNvSpPr/>
          <p:nvPr/>
        </p:nvSpPr>
        <p:spPr>
          <a:xfrm>
            <a:off x="684360" y="384660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10" name="AutoShape 14"/>
          <p:cNvSpPr/>
          <p:nvPr/>
        </p:nvSpPr>
        <p:spPr>
          <a:xfrm>
            <a:off x="851040" y="3952800"/>
            <a:ext cx="2826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114a3e"/>
                </a:solidFill>
                <a:latin typeface="FontAwesome"/>
                <a:ea typeface="FontAwesome"/>
              </a:rPr>
              <a:t></a:t>
            </a:r>
            <a:endParaRPr b="0" lang="en-US" sz="1800" spc="-1" strike="noStrike">
              <a:solidFill>
                <a:srgbClr val="000000"/>
              </a:solidFill>
              <a:latin typeface="Calibri"/>
            </a:endParaRPr>
          </a:p>
        </p:txBody>
      </p:sp>
      <p:sp>
        <p:nvSpPr>
          <p:cNvPr id="911" name="AutoShape 14"/>
          <p:cNvSpPr/>
          <p:nvPr/>
        </p:nvSpPr>
        <p:spPr>
          <a:xfrm>
            <a:off x="4869000" y="395280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6b7c14"/>
                </a:solidFill>
                <a:latin typeface="FontAwesome"/>
                <a:ea typeface="FontAwesome"/>
              </a:rPr>
              <a:t></a:t>
            </a:r>
            <a:endParaRPr b="0" lang="en-US" sz="1800" spc="-1" strike="noStrike">
              <a:solidFill>
                <a:srgbClr val="000000"/>
              </a:solidFill>
              <a:latin typeface="Calibri"/>
            </a:endParaRPr>
          </a:p>
        </p:txBody>
      </p:sp>
      <p:sp>
        <p:nvSpPr>
          <p:cNvPr id="912" name="Text Placeholder 20"/>
          <p:cNvSpPr/>
          <p:nvPr/>
        </p:nvSpPr>
        <p:spPr>
          <a:xfrm>
            <a:off x="1430280" y="379584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913" name="Text Placeholder 23"/>
          <p:cNvSpPr/>
          <p:nvPr/>
        </p:nvSpPr>
        <p:spPr>
          <a:xfrm>
            <a:off x="1430280" y="40482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Placeholder 23"/>
          <p:cNvSpPr/>
          <p:nvPr/>
        </p:nvSpPr>
        <p:spPr>
          <a:xfrm>
            <a:off x="484200" y="1776240"/>
            <a:ext cx="4103640" cy="8654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a:t>
            </a:r>
            <a:endParaRPr b="0" lang="en-US" sz="900" spc="-1" strike="noStrike">
              <a:solidFill>
                <a:srgbClr val="000000"/>
              </a:solidFill>
              <a:latin typeface="Calibri"/>
            </a:endParaRPr>
          </a:p>
        </p:txBody>
      </p:sp>
      <p:sp>
        <p:nvSpPr>
          <p:cNvPr id="915" name="Text Placeholder 20"/>
          <p:cNvSpPr/>
          <p:nvPr/>
        </p:nvSpPr>
        <p:spPr>
          <a:xfrm>
            <a:off x="703440" y="283212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16" name="Text Placeholder 23"/>
          <p:cNvSpPr/>
          <p:nvPr/>
        </p:nvSpPr>
        <p:spPr>
          <a:xfrm>
            <a:off x="703440" y="308448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17" name="Rectángulo redondeado 36"/>
          <p:cNvSpPr/>
          <p:nvPr/>
        </p:nvSpPr>
        <p:spPr>
          <a:xfrm>
            <a:off x="498600" y="2851200"/>
            <a:ext cx="99720" cy="612720"/>
          </a:xfrm>
          <a:custGeom>
            <a:avLst/>
            <a:gdLst>
              <a:gd name="textAreaLeft" fmla="*/ 14400 w 99720"/>
              <a:gd name="textAreaRight" fmla="*/ 85320 w 99720"/>
              <a:gd name="textAreaTop" fmla="*/ 14400 h 612720"/>
              <a:gd name="textAreaBottom" fmla="*/ 598320 h 612720"/>
            </a:gdLst>
            <a:ahLst/>
            <a:rect l="textAreaLeft" t="textAreaTop" r="textAreaRight" b="textAreaBottom"/>
            <a:pathLst>
              <a:path w="21600" h="132319">
                <a:moveTo>
                  <a:pt x="10800" y="0"/>
                </a:moveTo>
                <a:arcTo wR="10800" hR="10800" stAng="16200000" swAng="-5400000"/>
                <a:lnTo>
                  <a:pt x="0" y="121519"/>
                </a:lnTo>
                <a:arcTo wR="10800" hR="10800" stAng="10800000" swAng="-5400000"/>
                <a:lnTo>
                  <a:pt x="10800" y="132319"/>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18" name="Text Placeholder 20"/>
          <p:cNvSpPr/>
          <p:nvPr/>
        </p:nvSpPr>
        <p:spPr>
          <a:xfrm>
            <a:off x="2822400" y="2832120"/>
            <a:ext cx="1562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19" name="Text Placeholder 23"/>
          <p:cNvSpPr/>
          <p:nvPr/>
        </p:nvSpPr>
        <p:spPr>
          <a:xfrm>
            <a:off x="2822400" y="3084480"/>
            <a:ext cx="1562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20" name="Rectángulo redondeado 39"/>
          <p:cNvSpPr/>
          <p:nvPr/>
        </p:nvSpPr>
        <p:spPr>
          <a:xfrm>
            <a:off x="2617920" y="2851200"/>
            <a:ext cx="99720" cy="612720"/>
          </a:xfrm>
          <a:custGeom>
            <a:avLst/>
            <a:gdLst>
              <a:gd name="textAreaLeft" fmla="*/ 14400 w 99720"/>
              <a:gd name="textAreaRight" fmla="*/ 85320 w 99720"/>
              <a:gd name="textAreaTop" fmla="*/ 14400 h 612720"/>
              <a:gd name="textAreaBottom" fmla="*/ 598320 h 612720"/>
            </a:gdLst>
            <a:ahLst/>
            <a:rect l="textAreaLeft" t="textAreaTop" r="textAreaRight" b="textAreaBottom"/>
            <a:pathLst>
              <a:path w="21600" h="132319">
                <a:moveTo>
                  <a:pt x="10800" y="0"/>
                </a:moveTo>
                <a:arcTo wR="10800" hR="10800" stAng="16200000" swAng="-5400000"/>
                <a:lnTo>
                  <a:pt x="0" y="121519"/>
                </a:lnTo>
                <a:arcTo wR="10800" hR="10800" stAng="10800000" swAng="-5400000"/>
                <a:lnTo>
                  <a:pt x="10800" y="132319"/>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21" name="Text Placeholder 20"/>
          <p:cNvSpPr/>
          <p:nvPr/>
        </p:nvSpPr>
        <p:spPr>
          <a:xfrm>
            <a:off x="703440" y="3713040"/>
            <a:ext cx="156204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22" name="Text Placeholder 23"/>
          <p:cNvSpPr/>
          <p:nvPr/>
        </p:nvSpPr>
        <p:spPr>
          <a:xfrm>
            <a:off x="703440" y="39654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23" name="Rectángulo redondeado 42"/>
          <p:cNvSpPr/>
          <p:nvPr/>
        </p:nvSpPr>
        <p:spPr>
          <a:xfrm>
            <a:off x="498600" y="3733920"/>
            <a:ext cx="99720" cy="610920"/>
          </a:xfrm>
          <a:custGeom>
            <a:avLst/>
            <a:gdLst>
              <a:gd name="textAreaLeft" fmla="*/ 14400 w 99720"/>
              <a:gd name="textAreaRight" fmla="*/ 85320 w 99720"/>
              <a:gd name="textAreaTop" fmla="*/ 14400 h 610920"/>
              <a:gd name="textAreaBottom" fmla="*/ 596520 h 610920"/>
            </a:gdLst>
            <a:ahLst/>
            <a:rect l="textAreaLeft" t="textAreaTop" r="textAreaRight" b="textAreaBottom"/>
            <a:pathLst>
              <a:path w="21600" h="131931">
                <a:moveTo>
                  <a:pt x="10800" y="0"/>
                </a:moveTo>
                <a:arcTo wR="10800" hR="10800" stAng="16200000" swAng="-5400000"/>
                <a:lnTo>
                  <a:pt x="0" y="121131"/>
                </a:lnTo>
                <a:arcTo wR="10800" hR="10800" stAng="10800000" swAng="-5400000"/>
                <a:lnTo>
                  <a:pt x="10800" y="131931"/>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24" name="Text Placeholder 20"/>
          <p:cNvSpPr/>
          <p:nvPr/>
        </p:nvSpPr>
        <p:spPr>
          <a:xfrm>
            <a:off x="2822400" y="3713040"/>
            <a:ext cx="15624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25" name="Text Placeholder 23"/>
          <p:cNvSpPr/>
          <p:nvPr/>
        </p:nvSpPr>
        <p:spPr>
          <a:xfrm>
            <a:off x="2822400" y="3965400"/>
            <a:ext cx="1562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26" name="Rectángulo redondeado 45"/>
          <p:cNvSpPr/>
          <p:nvPr/>
        </p:nvSpPr>
        <p:spPr>
          <a:xfrm>
            <a:off x="2617920" y="3733920"/>
            <a:ext cx="99720" cy="610920"/>
          </a:xfrm>
          <a:custGeom>
            <a:avLst/>
            <a:gdLst>
              <a:gd name="textAreaLeft" fmla="*/ 14400 w 99720"/>
              <a:gd name="textAreaRight" fmla="*/ 85320 w 99720"/>
              <a:gd name="textAreaTop" fmla="*/ 14400 h 610920"/>
              <a:gd name="textAreaBottom" fmla="*/ 596520 h 610920"/>
            </a:gdLst>
            <a:ahLst/>
            <a:rect l="textAreaLeft" t="textAreaTop" r="textAreaRight" b="textAreaBottom"/>
            <a:pathLst>
              <a:path w="21600" h="131931">
                <a:moveTo>
                  <a:pt x="10800" y="0"/>
                </a:moveTo>
                <a:arcTo wR="10800" hR="10800" stAng="16200000" swAng="-5400000"/>
                <a:lnTo>
                  <a:pt x="0" y="121131"/>
                </a:lnTo>
                <a:arcTo wR="10800" hR="10800" stAng="10800000" swAng="-5400000"/>
                <a:lnTo>
                  <a:pt x="10800" y="131931"/>
                </a:lnTo>
                <a:arcTo wR="10800" hR="10800" stAng="5400000" swAng="-5400000"/>
                <a:lnTo>
                  <a:pt x="21600" y="10800"/>
                </a:lnTo>
                <a:arcTo wR="10800" hR="10800" stAng="0" swAng="-5400000"/>
                <a:close/>
              </a:path>
            </a:pathLst>
          </a:cu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927" name="Agrupar 1"/>
          <p:cNvGrpSpPr/>
          <p:nvPr/>
        </p:nvGrpSpPr>
        <p:grpSpPr>
          <a:xfrm>
            <a:off x="4757760" y="620640"/>
            <a:ext cx="3833640" cy="3738600"/>
            <a:chOff x="4757760" y="620640"/>
            <a:chExt cx="3833640" cy="3738600"/>
          </a:xfrm>
        </p:grpSpPr>
        <p:sp>
          <p:nvSpPr>
            <p:cNvPr id="928" name="Freeform 5"/>
            <p:cNvSpPr/>
            <p:nvPr/>
          </p:nvSpPr>
          <p:spPr>
            <a:xfrm>
              <a:off x="5406840" y="620640"/>
              <a:ext cx="2535480" cy="1310760"/>
            </a:xfrm>
            <a:custGeom>
              <a:avLst/>
              <a:gdLst/>
              <a:ahLst/>
              <a:rect l="l" t="t" r="r" b="b"/>
              <a:pathLst>
                <a:path w="871" h="450">
                  <a:moveTo>
                    <a:pt x="435" y="450"/>
                  </a:moveTo>
                  <a:cubicBezTo>
                    <a:pt x="501" y="413"/>
                    <a:pt x="577" y="391"/>
                    <a:pt x="658" y="391"/>
                  </a:cubicBezTo>
                  <a:cubicBezTo>
                    <a:pt x="735" y="391"/>
                    <a:pt x="807" y="410"/>
                    <a:pt x="870" y="444"/>
                  </a:cubicBezTo>
                  <a:cubicBezTo>
                    <a:pt x="870" y="441"/>
                    <a:pt x="871" y="438"/>
                    <a:pt x="871" y="436"/>
                  </a:cubicBezTo>
                  <a:cubicBezTo>
                    <a:pt x="871" y="196"/>
                    <a:pt x="675" y="0"/>
                    <a:pt x="435" y="0"/>
                  </a:cubicBezTo>
                  <a:cubicBezTo>
                    <a:pt x="195" y="0"/>
                    <a:pt x="0" y="196"/>
                    <a:pt x="0" y="436"/>
                  </a:cubicBezTo>
                  <a:cubicBezTo>
                    <a:pt x="0" y="438"/>
                    <a:pt x="0" y="441"/>
                    <a:pt x="0" y="444"/>
                  </a:cubicBezTo>
                  <a:cubicBezTo>
                    <a:pt x="63" y="410"/>
                    <a:pt x="136" y="391"/>
                    <a:pt x="212" y="391"/>
                  </a:cubicBezTo>
                  <a:cubicBezTo>
                    <a:pt x="293" y="391"/>
                    <a:pt x="369" y="413"/>
                    <a:pt x="435" y="450"/>
                  </a:cubicBezTo>
                  <a:close/>
                </a:path>
              </a:pathLst>
            </a:custGeom>
            <a:solidFill>
              <a:srgbClr val="004b62"/>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29" name="Freeform 6"/>
            <p:cNvSpPr/>
            <p:nvPr/>
          </p:nvSpPr>
          <p:spPr>
            <a:xfrm>
              <a:off x="6735960" y="2018880"/>
              <a:ext cx="1855440" cy="2340360"/>
            </a:xfrm>
            <a:custGeom>
              <a:avLst/>
              <a:gdLst/>
              <a:ahLst/>
              <a:rect l="l" t="t" r="r" b="b"/>
              <a:pathLst>
                <a:path w="637" h="804">
                  <a:moveTo>
                    <a:pt x="211" y="348"/>
                  </a:moveTo>
                  <a:cubicBezTo>
                    <a:pt x="212" y="355"/>
                    <a:pt x="212" y="361"/>
                    <a:pt x="212" y="368"/>
                  </a:cubicBezTo>
                  <a:cubicBezTo>
                    <a:pt x="212" y="530"/>
                    <a:pt x="127" y="673"/>
                    <a:pt x="0" y="754"/>
                  </a:cubicBezTo>
                  <a:cubicBezTo>
                    <a:pt x="60" y="786"/>
                    <a:pt x="128" y="804"/>
                    <a:pt x="201" y="804"/>
                  </a:cubicBezTo>
                  <a:cubicBezTo>
                    <a:pt x="441" y="804"/>
                    <a:pt x="637" y="608"/>
                    <a:pt x="637" y="368"/>
                  </a:cubicBezTo>
                  <a:cubicBezTo>
                    <a:pt x="637" y="213"/>
                    <a:pt x="555" y="77"/>
                    <a:pt x="433" y="0"/>
                  </a:cubicBezTo>
                  <a:cubicBezTo>
                    <a:pt x="419" y="148"/>
                    <a:pt x="333" y="276"/>
                    <a:pt x="211" y="348"/>
                  </a:cubicBezTo>
                  <a:close/>
                </a:path>
              </a:pathLst>
            </a:custGeom>
            <a:solidFill>
              <a:srgbClr val="22957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0" name="Freeform 7"/>
            <p:cNvSpPr/>
            <p:nvPr/>
          </p:nvSpPr>
          <p:spPr>
            <a:xfrm>
              <a:off x="6735960" y="1823400"/>
              <a:ext cx="1199880" cy="1138680"/>
            </a:xfrm>
            <a:custGeom>
              <a:avLst/>
              <a:gdLst/>
              <a:ahLst/>
              <a:rect l="l" t="t" r="r" b="b"/>
              <a:pathLst>
                <a:path w="412" h="391">
                  <a:moveTo>
                    <a:pt x="0" y="49"/>
                  </a:moveTo>
                  <a:cubicBezTo>
                    <a:pt x="115" y="123"/>
                    <a:pt x="196" y="247"/>
                    <a:pt x="210" y="391"/>
                  </a:cubicBezTo>
                  <a:cubicBezTo>
                    <a:pt x="324" y="319"/>
                    <a:pt x="402" y="196"/>
                    <a:pt x="412" y="55"/>
                  </a:cubicBezTo>
                  <a:cubicBezTo>
                    <a:pt x="350" y="20"/>
                    <a:pt x="278" y="0"/>
                    <a:pt x="201" y="0"/>
                  </a:cubicBezTo>
                  <a:cubicBezTo>
                    <a:pt x="128" y="0"/>
                    <a:pt x="60" y="18"/>
                    <a:pt x="0" y="49"/>
                  </a:cubicBezTo>
                  <a:close/>
                </a:path>
              </a:pathLst>
            </a:custGeom>
            <a:solidFill>
              <a:srgbClr val="22957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1" name="Freeform 8"/>
            <p:cNvSpPr/>
            <p:nvPr/>
          </p:nvSpPr>
          <p:spPr>
            <a:xfrm>
              <a:off x="4757760" y="2018880"/>
              <a:ext cx="1854000" cy="2340360"/>
            </a:xfrm>
            <a:custGeom>
              <a:avLst/>
              <a:gdLst/>
              <a:ahLst/>
              <a:rect l="l" t="t" r="r" b="b"/>
              <a:pathLst>
                <a:path w="637" h="804">
                  <a:moveTo>
                    <a:pt x="424" y="368"/>
                  </a:moveTo>
                  <a:cubicBezTo>
                    <a:pt x="424" y="361"/>
                    <a:pt x="425" y="355"/>
                    <a:pt x="425" y="348"/>
                  </a:cubicBezTo>
                  <a:cubicBezTo>
                    <a:pt x="303" y="276"/>
                    <a:pt x="218" y="148"/>
                    <a:pt x="204" y="0"/>
                  </a:cubicBezTo>
                  <a:cubicBezTo>
                    <a:pt x="81" y="77"/>
                    <a:pt x="0" y="213"/>
                    <a:pt x="0" y="368"/>
                  </a:cubicBezTo>
                  <a:cubicBezTo>
                    <a:pt x="0" y="608"/>
                    <a:pt x="195" y="804"/>
                    <a:pt x="435" y="804"/>
                  </a:cubicBezTo>
                  <a:cubicBezTo>
                    <a:pt x="508" y="804"/>
                    <a:pt x="576" y="786"/>
                    <a:pt x="637" y="754"/>
                  </a:cubicBezTo>
                  <a:cubicBezTo>
                    <a:pt x="509" y="673"/>
                    <a:pt x="424" y="530"/>
                    <a:pt x="424" y="368"/>
                  </a:cubicBezTo>
                  <a:close/>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2" name="Freeform 9"/>
            <p:cNvSpPr/>
            <p:nvPr/>
          </p:nvSpPr>
          <p:spPr>
            <a:xfrm>
              <a:off x="5409360" y="1823400"/>
              <a:ext cx="1202400" cy="1138680"/>
            </a:xfrm>
            <a:custGeom>
              <a:avLst/>
              <a:gdLst/>
              <a:ahLst/>
              <a:rect l="l" t="t" r="r" b="b"/>
              <a:pathLst>
                <a:path w="413" h="391">
                  <a:moveTo>
                    <a:pt x="203" y="391"/>
                  </a:moveTo>
                  <a:cubicBezTo>
                    <a:pt x="216" y="247"/>
                    <a:pt x="297" y="123"/>
                    <a:pt x="413" y="49"/>
                  </a:cubicBezTo>
                  <a:cubicBezTo>
                    <a:pt x="352" y="18"/>
                    <a:pt x="284" y="0"/>
                    <a:pt x="211" y="0"/>
                  </a:cubicBezTo>
                  <a:cubicBezTo>
                    <a:pt x="135" y="0"/>
                    <a:pt x="63" y="20"/>
                    <a:pt x="0" y="55"/>
                  </a:cubicBezTo>
                  <a:cubicBezTo>
                    <a:pt x="10" y="196"/>
                    <a:pt x="89" y="319"/>
                    <a:pt x="203" y="391"/>
                  </a:cubicBezTo>
                  <a:close/>
                </a:path>
              </a:pathLst>
            </a:custGeom>
            <a:solidFill>
              <a:srgbClr val="004b62"/>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933" name="Freeform 10"/>
            <p:cNvSpPr/>
            <p:nvPr/>
          </p:nvSpPr>
          <p:spPr>
            <a:xfrm>
              <a:off x="6054840" y="3066840"/>
              <a:ext cx="1234440" cy="1112760"/>
            </a:xfrm>
            <a:custGeom>
              <a:avLst/>
              <a:gdLst/>
              <a:ahLst/>
              <a:rect l="l" t="t" r="r" b="b"/>
              <a:pathLst>
                <a:path w="424" h="382">
                  <a:moveTo>
                    <a:pt x="424" y="8"/>
                  </a:moveTo>
                  <a:cubicBezTo>
                    <a:pt x="424" y="5"/>
                    <a:pt x="424" y="3"/>
                    <a:pt x="424" y="0"/>
                  </a:cubicBezTo>
                  <a:cubicBezTo>
                    <a:pt x="361" y="33"/>
                    <a:pt x="289" y="52"/>
                    <a:pt x="212" y="52"/>
                  </a:cubicBezTo>
                  <a:cubicBezTo>
                    <a:pt x="136" y="52"/>
                    <a:pt x="63" y="33"/>
                    <a:pt x="0" y="0"/>
                  </a:cubicBezTo>
                  <a:cubicBezTo>
                    <a:pt x="0" y="3"/>
                    <a:pt x="0" y="5"/>
                    <a:pt x="0" y="8"/>
                  </a:cubicBezTo>
                  <a:cubicBezTo>
                    <a:pt x="0" y="167"/>
                    <a:pt x="85" y="306"/>
                    <a:pt x="212" y="382"/>
                  </a:cubicBezTo>
                  <a:cubicBezTo>
                    <a:pt x="339" y="306"/>
                    <a:pt x="424" y="167"/>
                    <a:pt x="424" y="8"/>
                  </a:cubicBezTo>
                  <a:close/>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grpSp>
      <p:sp>
        <p:nvSpPr>
          <p:cNvPr id="934" name="PlaceHolder 1"/>
          <p:cNvSpPr>
            <a:spLocks noGrp="1"/>
          </p:cNvSpPr>
          <p:nvPr>
            <p:ph/>
          </p:nvPr>
        </p:nvSpPr>
        <p:spPr>
          <a:xfrm>
            <a:off x="473040" y="372600"/>
            <a:ext cx="4162320" cy="57636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Business model</a:t>
            </a:r>
            <a:endParaRPr b="0" lang="en-US" sz="4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5" name="PlaceHolder 2"/>
          <p:cNvSpPr>
            <a:spLocks noGrp="1"/>
          </p:cNvSpPr>
          <p:nvPr>
            <p:ph/>
          </p:nvPr>
        </p:nvSpPr>
        <p:spPr>
          <a:xfrm>
            <a:off x="473040" y="993600"/>
            <a:ext cx="4162320" cy="222480"/>
          </a:xfrm>
          <a:prstGeom prst="rect">
            <a:avLst/>
          </a:prstGeom>
          <a:noFill/>
          <a:ln w="0">
            <a:noFill/>
          </a:ln>
        </p:spPr>
        <p:txBody>
          <a:bodyPr lIns="0" rIns="90000" tIns="46800" bIns="46800" anchor="t">
            <a:normAutofit fontScale="95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SUBTITLE EXAMPLE HERE</a:t>
            </a:r>
            <a:endParaRPr b="0" lang="en-US" sz="1000" spc="-1" strike="noStrike">
              <a:solidFill>
                <a:srgbClr val="000000"/>
              </a:solidFill>
              <a:latin typeface="Calibri"/>
            </a:endParaRPr>
          </a:p>
        </p:txBody>
      </p:sp>
      <p:sp>
        <p:nvSpPr>
          <p:cNvPr id="936" name="Text Placeholder 5"/>
          <p:cNvSpPr/>
          <p:nvPr/>
        </p:nvSpPr>
        <p:spPr>
          <a:xfrm>
            <a:off x="5580000" y="2119320"/>
            <a:ext cx="592200" cy="276120"/>
          </a:xfrm>
          <a:prstGeom prst="rect">
            <a:avLst/>
          </a:prstGeom>
          <a:noFill/>
          <a:ln w="0">
            <a:noFill/>
          </a:ln>
        </p:spPr>
        <p:style>
          <a:lnRef idx="0"/>
          <a:fillRef idx="0"/>
          <a:effectRef idx="0"/>
          <a:fontRef idx="minor"/>
        </p:style>
        <p:txBody>
          <a:bodyPr lIns="68760" rIns="68760" tIns="34200" bIns="34200" anchor="t">
            <a:no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trade</a:t>
            </a:r>
            <a:endParaRPr b="0" lang="en-US" sz="1000" spc="-1" strike="noStrike">
              <a:solidFill>
                <a:srgbClr val="000000"/>
              </a:solidFill>
              <a:latin typeface="Calibri"/>
            </a:endParaRPr>
          </a:p>
        </p:txBody>
      </p:sp>
      <p:sp>
        <p:nvSpPr>
          <p:cNvPr id="937" name="Text Placeholder 5"/>
          <p:cNvSpPr/>
          <p:nvPr/>
        </p:nvSpPr>
        <p:spPr>
          <a:xfrm>
            <a:off x="6975360" y="2103480"/>
            <a:ext cx="978120" cy="25236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PRODUCT</a:t>
            </a:r>
            <a:endParaRPr b="0" lang="en-US" sz="1000" spc="-1" strike="noStrike">
              <a:solidFill>
                <a:srgbClr val="000000"/>
              </a:solidFill>
              <a:latin typeface="Calibri"/>
            </a:endParaRPr>
          </a:p>
        </p:txBody>
      </p:sp>
      <p:sp>
        <p:nvSpPr>
          <p:cNvPr id="938" name="Text Placeholder 5"/>
          <p:cNvSpPr/>
          <p:nvPr/>
        </p:nvSpPr>
        <p:spPr>
          <a:xfrm>
            <a:off x="6183360" y="3446640"/>
            <a:ext cx="1028520" cy="27144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service</a:t>
            </a:r>
            <a:endParaRPr b="0" lang="en-US" sz="1000" spc="-1" strike="noStrike">
              <a:solidFill>
                <a:srgbClr val="000000"/>
              </a:solidFill>
              <a:latin typeface="Calibri"/>
            </a:endParaRPr>
          </a:p>
        </p:txBody>
      </p:sp>
      <p:sp>
        <p:nvSpPr>
          <p:cNvPr id="939" name="Text Placeholder 5"/>
          <p:cNvSpPr/>
          <p:nvPr/>
        </p:nvSpPr>
        <p:spPr>
          <a:xfrm>
            <a:off x="5938920" y="1263600"/>
            <a:ext cx="146664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marketplace</a:t>
            </a:r>
            <a:endParaRPr b="0" lang="en-US" sz="1000" spc="-1" strike="noStrike">
              <a:solidFill>
                <a:srgbClr val="000000"/>
              </a:solidFill>
              <a:latin typeface="Calibri"/>
            </a:endParaRPr>
          </a:p>
        </p:txBody>
      </p:sp>
      <p:sp>
        <p:nvSpPr>
          <p:cNvPr id="940" name="Text Placeholder 5"/>
          <p:cNvSpPr/>
          <p:nvPr/>
        </p:nvSpPr>
        <p:spPr>
          <a:xfrm>
            <a:off x="4816440" y="3191040"/>
            <a:ext cx="118260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BOOKERAGE</a:t>
            </a:r>
            <a:endParaRPr b="0" lang="en-US" sz="1000" spc="-1" strike="noStrike">
              <a:solidFill>
                <a:srgbClr val="000000"/>
              </a:solidFill>
              <a:latin typeface="Calibri"/>
            </a:endParaRPr>
          </a:p>
        </p:txBody>
      </p:sp>
      <p:sp>
        <p:nvSpPr>
          <p:cNvPr id="941" name="Text Placeholder 5"/>
          <p:cNvSpPr/>
          <p:nvPr/>
        </p:nvSpPr>
        <p:spPr>
          <a:xfrm>
            <a:off x="7412040" y="3232080"/>
            <a:ext cx="104616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ffffff"/>
                </a:solidFill>
                <a:latin typeface="Lato Regular"/>
                <a:ea typeface="Lato Regular"/>
              </a:rPr>
              <a:t>SUSCRPTION</a:t>
            </a:r>
            <a:endParaRPr b="0" lang="en-US" sz="1000" spc="-1" strike="noStrike">
              <a:solidFill>
                <a:srgbClr val="000000"/>
              </a:solidFill>
              <a:latin typeface="Calibri"/>
            </a:endParaRPr>
          </a:p>
        </p:txBody>
      </p:sp>
      <p:sp>
        <p:nvSpPr>
          <p:cNvPr id="942" name="Text Placeholder 5"/>
          <p:cNvSpPr/>
          <p:nvPr/>
        </p:nvSpPr>
        <p:spPr>
          <a:xfrm>
            <a:off x="5958000" y="2624040"/>
            <a:ext cx="1466640" cy="349200"/>
          </a:xfrm>
          <a:prstGeom prst="rect">
            <a:avLst/>
          </a:prstGeom>
          <a:noFill/>
          <a:ln w="0">
            <a:noFill/>
          </a:ln>
        </p:spPr>
        <p:style>
          <a:lnRef idx="0"/>
          <a:fillRef idx="0"/>
          <a:effectRef idx="0"/>
          <a:fontRef idx="minor"/>
        </p:style>
        <p:txBody>
          <a:bodyPr lIns="68760" rIns="68760" tIns="34200" bIns="34200" anchor="t">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22957b"/>
                </a:solidFill>
                <a:latin typeface="Lato Regular"/>
                <a:ea typeface="Lato Regular"/>
              </a:rPr>
              <a:t>EcOSYSTEM</a:t>
            </a:r>
            <a:endParaRPr b="0" lang="en-US" sz="1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rma libre 13"/>
          <p:cNvSpPr/>
          <p:nvPr/>
        </p:nvSpPr>
        <p:spPr>
          <a:xfrm flipV="1">
            <a:off x="3421080" y="-1015200"/>
            <a:ext cx="5564160" cy="5550120"/>
          </a:xfrm>
          <a:custGeom>
            <a:avLst/>
            <a:gdLst/>
            <a:ahLst/>
            <a:rect l="l" t="t" r="r" b="b"/>
            <a:pathLst>
              <a:path w="5563679" h="5550115">
                <a:moveTo>
                  <a:pt x="1087705" y="0"/>
                </a:moveTo>
                <a:lnTo>
                  <a:pt x="1157844" y="0"/>
                </a:lnTo>
                <a:lnTo>
                  <a:pt x="1161143" y="499"/>
                </a:lnTo>
                <a:cubicBezTo>
                  <a:pt x="1197505" y="11809"/>
                  <a:pt x="1226971" y="38770"/>
                  <a:pt x="1241661" y="73502"/>
                </a:cubicBezTo>
                <a:lnTo>
                  <a:pt x="1244335" y="86745"/>
                </a:lnTo>
                <a:lnTo>
                  <a:pt x="1244335" y="147409"/>
                </a:lnTo>
                <a:cubicBezTo>
                  <a:pt x="1244335" y="218669"/>
                  <a:pt x="1302102" y="276436"/>
                  <a:pt x="1373362" y="276436"/>
                </a:cubicBezTo>
                <a:lnTo>
                  <a:pt x="1373361" y="276435"/>
                </a:lnTo>
                <a:lnTo>
                  <a:pt x="1390772" y="272920"/>
                </a:lnTo>
                <a:lnTo>
                  <a:pt x="1399039" y="274589"/>
                </a:lnTo>
                <a:lnTo>
                  <a:pt x="1399039" y="275327"/>
                </a:lnTo>
                <a:lnTo>
                  <a:pt x="1422519" y="277694"/>
                </a:lnTo>
                <a:cubicBezTo>
                  <a:pt x="1468717" y="287147"/>
                  <a:pt x="1506329" y="320167"/>
                  <a:pt x="1522248" y="363643"/>
                </a:cubicBezTo>
                <a:lnTo>
                  <a:pt x="1522268" y="363756"/>
                </a:lnTo>
                <a:lnTo>
                  <a:pt x="1522268" y="923549"/>
                </a:lnTo>
                <a:cubicBezTo>
                  <a:pt x="1522268" y="976994"/>
                  <a:pt x="1554762" y="1022849"/>
                  <a:pt x="1601071" y="1042437"/>
                </a:cubicBezTo>
                <a:lnTo>
                  <a:pt x="1649141" y="1052141"/>
                </a:lnTo>
                <a:lnTo>
                  <a:pt x="1649141" y="1052879"/>
                </a:lnTo>
                <a:lnTo>
                  <a:pt x="1672621" y="1055246"/>
                </a:lnTo>
                <a:cubicBezTo>
                  <a:pt x="1718819" y="1064699"/>
                  <a:pt x="1756431" y="1097719"/>
                  <a:pt x="1772350" y="1141195"/>
                </a:cubicBezTo>
                <a:lnTo>
                  <a:pt x="1772601" y="1142618"/>
                </a:lnTo>
                <a:lnTo>
                  <a:pt x="1772601" y="1410943"/>
                </a:lnTo>
                <a:cubicBezTo>
                  <a:pt x="1772601" y="1482203"/>
                  <a:pt x="1830368" y="1539970"/>
                  <a:pt x="1901628" y="1539970"/>
                </a:cubicBezTo>
                <a:lnTo>
                  <a:pt x="1901627" y="1539969"/>
                </a:lnTo>
                <a:cubicBezTo>
                  <a:pt x="1972887" y="1539969"/>
                  <a:pt x="2030654" y="1482202"/>
                  <a:pt x="2030654" y="1410942"/>
                </a:cubicBezTo>
                <a:lnTo>
                  <a:pt x="2030654" y="1130923"/>
                </a:lnTo>
                <a:lnTo>
                  <a:pt x="2032657" y="1119572"/>
                </a:lnTo>
                <a:cubicBezTo>
                  <a:pt x="2048576" y="1076096"/>
                  <a:pt x="2086188" y="1043076"/>
                  <a:pt x="2132386" y="1033623"/>
                </a:cubicBezTo>
                <a:lnTo>
                  <a:pt x="2155866" y="1031256"/>
                </a:lnTo>
                <a:lnTo>
                  <a:pt x="2155866" y="1030518"/>
                </a:lnTo>
                <a:lnTo>
                  <a:pt x="2203936" y="1020814"/>
                </a:lnTo>
                <a:cubicBezTo>
                  <a:pt x="2250245" y="1001226"/>
                  <a:pt x="2282739" y="955371"/>
                  <a:pt x="2282739" y="901926"/>
                </a:cubicBezTo>
                <a:lnTo>
                  <a:pt x="2282739" y="811796"/>
                </a:lnTo>
                <a:lnTo>
                  <a:pt x="2291128" y="770246"/>
                </a:lnTo>
                <a:cubicBezTo>
                  <a:pt x="2310715" y="723936"/>
                  <a:pt x="2356570" y="691442"/>
                  <a:pt x="2410015" y="691442"/>
                </a:cubicBezTo>
                <a:cubicBezTo>
                  <a:pt x="2463460" y="691442"/>
                  <a:pt x="2509315" y="723936"/>
                  <a:pt x="2528902" y="770246"/>
                </a:cubicBezTo>
                <a:lnTo>
                  <a:pt x="2531092" y="781090"/>
                </a:lnTo>
                <a:lnTo>
                  <a:pt x="2531092" y="1021960"/>
                </a:lnTo>
                <a:cubicBezTo>
                  <a:pt x="2531092" y="1075405"/>
                  <a:pt x="2563586" y="1121260"/>
                  <a:pt x="2609895" y="1140848"/>
                </a:cubicBezTo>
                <a:lnTo>
                  <a:pt x="2657965" y="1150552"/>
                </a:lnTo>
                <a:lnTo>
                  <a:pt x="2657965" y="1151290"/>
                </a:lnTo>
                <a:lnTo>
                  <a:pt x="2681445" y="1153657"/>
                </a:lnTo>
                <a:cubicBezTo>
                  <a:pt x="2727642" y="1163110"/>
                  <a:pt x="2765255" y="1196130"/>
                  <a:pt x="2781174" y="1239606"/>
                </a:cubicBezTo>
                <a:lnTo>
                  <a:pt x="2781426" y="1241035"/>
                </a:lnTo>
                <a:lnTo>
                  <a:pt x="2781426" y="1345676"/>
                </a:lnTo>
                <a:cubicBezTo>
                  <a:pt x="2781426" y="1416936"/>
                  <a:pt x="2839193" y="1474703"/>
                  <a:pt x="2910453" y="1474703"/>
                </a:cubicBezTo>
                <a:lnTo>
                  <a:pt x="2910452" y="1474702"/>
                </a:lnTo>
                <a:cubicBezTo>
                  <a:pt x="2981712" y="1474702"/>
                  <a:pt x="3039479" y="1416935"/>
                  <a:pt x="3039479" y="1345675"/>
                </a:cubicBezTo>
                <a:lnTo>
                  <a:pt x="3039479" y="0"/>
                </a:lnTo>
                <a:lnTo>
                  <a:pt x="3039480" y="0"/>
                </a:lnTo>
                <a:lnTo>
                  <a:pt x="3039480" y="1362198"/>
                </a:lnTo>
                <a:lnTo>
                  <a:pt x="3049618" y="1311979"/>
                </a:lnTo>
                <a:cubicBezTo>
                  <a:pt x="3069206" y="1265669"/>
                  <a:pt x="3115061" y="1233175"/>
                  <a:pt x="3168506" y="1233175"/>
                </a:cubicBezTo>
                <a:cubicBezTo>
                  <a:pt x="3221951" y="1233175"/>
                  <a:pt x="3267806" y="1265669"/>
                  <a:pt x="3287393" y="1311979"/>
                </a:cubicBezTo>
                <a:lnTo>
                  <a:pt x="3297157" y="1360339"/>
                </a:lnTo>
                <a:lnTo>
                  <a:pt x="3297157" y="1946741"/>
                </a:lnTo>
                <a:cubicBezTo>
                  <a:pt x="3297157" y="2018001"/>
                  <a:pt x="3354924" y="2075768"/>
                  <a:pt x="3426184" y="2075768"/>
                </a:cubicBezTo>
                <a:lnTo>
                  <a:pt x="3426183" y="2075767"/>
                </a:lnTo>
                <a:cubicBezTo>
                  <a:pt x="3497443" y="2075767"/>
                  <a:pt x="3555210" y="2018000"/>
                  <a:pt x="3555210" y="1946740"/>
                </a:cubicBezTo>
                <a:lnTo>
                  <a:pt x="3555210" y="0"/>
                </a:lnTo>
                <a:lnTo>
                  <a:pt x="3555211" y="1049778"/>
                </a:lnTo>
                <a:lnTo>
                  <a:pt x="3565349" y="999559"/>
                </a:lnTo>
                <a:cubicBezTo>
                  <a:pt x="3584937" y="953249"/>
                  <a:pt x="3630792" y="920755"/>
                  <a:pt x="3684237" y="920755"/>
                </a:cubicBezTo>
                <a:cubicBezTo>
                  <a:pt x="3737682" y="920755"/>
                  <a:pt x="3783537" y="953249"/>
                  <a:pt x="3803124" y="999559"/>
                </a:cubicBezTo>
                <a:lnTo>
                  <a:pt x="3806722" y="1017378"/>
                </a:lnTo>
                <a:lnTo>
                  <a:pt x="3806722" y="1326324"/>
                </a:lnTo>
                <a:cubicBezTo>
                  <a:pt x="3806722" y="1397584"/>
                  <a:pt x="3864489" y="1455351"/>
                  <a:pt x="3935749" y="1455351"/>
                </a:cubicBezTo>
                <a:lnTo>
                  <a:pt x="3935748" y="1455350"/>
                </a:lnTo>
                <a:cubicBezTo>
                  <a:pt x="4007008" y="1455350"/>
                  <a:pt x="4064775" y="1397583"/>
                  <a:pt x="4064775" y="1326323"/>
                </a:cubicBezTo>
                <a:lnTo>
                  <a:pt x="4064775" y="1279585"/>
                </a:lnTo>
                <a:lnTo>
                  <a:pt x="4083444" y="1247043"/>
                </a:lnTo>
                <a:cubicBezTo>
                  <a:pt x="4102728" y="1223677"/>
                  <a:pt x="4129710" y="1206901"/>
                  <a:pt x="4160509" y="1200599"/>
                </a:cubicBezTo>
                <a:lnTo>
                  <a:pt x="4183989" y="1198232"/>
                </a:lnTo>
                <a:lnTo>
                  <a:pt x="4183989" y="1197494"/>
                </a:lnTo>
                <a:lnTo>
                  <a:pt x="4232059" y="1187790"/>
                </a:lnTo>
                <a:cubicBezTo>
                  <a:pt x="4278368" y="1168202"/>
                  <a:pt x="4310862" y="1122347"/>
                  <a:pt x="4310862" y="1068902"/>
                </a:cubicBezTo>
                <a:lnTo>
                  <a:pt x="4310862" y="954918"/>
                </a:lnTo>
                <a:lnTo>
                  <a:pt x="4319251" y="913368"/>
                </a:lnTo>
                <a:cubicBezTo>
                  <a:pt x="4338838" y="867058"/>
                  <a:pt x="4384693" y="834564"/>
                  <a:pt x="4438138" y="834564"/>
                </a:cubicBezTo>
                <a:cubicBezTo>
                  <a:pt x="4491583" y="834564"/>
                  <a:pt x="4537438" y="867058"/>
                  <a:pt x="4557025" y="913368"/>
                </a:cubicBezTo>
                <a:lnTo>
                  <a:pt x="4559215" y="924213"/>
                </a:lnTo>
                <a:lnTo>
                  <a:pt x="4559215" y="1077616"/>
                </a:lnTo>
                <a:cubicBezTo>
                  <a:pt x="4559215" y="1131061"/>
                  <a:pt x="4591709" y="1176916"/>
                  <a:pt x="4638018" y="1196504"/>
                </a:cubicBezTo>
                <a:lnTo>
                  <a:pt x="4686088" y="1206208"/>
                </a:lnTo>
                <a:lnTo>
                  <a:pt x="4686088" y="1206946"/>
                </a:lnTo>
                <a:lnTo>
                  <a:pt x="4709568" y="1209313"/>
                </a:lnTo>
                <a:cubicBezTo>
                  <a:pt x="4755766" y="1218766"/>
                  <a:pt x="4793378" y="1251786"/>
                  <a:pt x="4809296" y="1295262"/>
                </a:cubicBezTo>
                <a:lnTo>
                  <a:pt x="4811500" y="1307752"/>
                </a:lnTo>
                <a:lnTo>
                  <a:pt x="4811500" y="1441660"/>
                </a:lnTo>
                <a:cubicBezTo>
                  <a:pt x="4811500" y="1512920"/>
                  <a:pt x="4869267" y="1570687"/>
                  <a:pt x="4940527" y="1570687"/>
                </a:cubicBezTo>
                <a:lnTo>
                  <a:pt x="4940526" y="1570686"/>
                </a:lnTo>
                <a:cubicBezTo>
                  <a:pt x="5011786" y="1570686"/>
                  <a:pt x="5069553" y="1512919"/>
                  <a:pt x="5069553" y="1441659"/>
                </a:cubicBezTo>
                <a:lnTo>
                  <a:pt x="5069553" y="1076405"/>
                </a:lnTo>
                <a:lnTo>
                  <a:pt x="5071757" y="1063915"/>
                </a:lnTo>
                <a:cubicBezTo>
                  <a:pt x="5087676" y="1020439"/>
                  <a:pt x="5125288" y="987419"/>
                  <a:pt x="5171486" y="977966"/>
                </a:cubicBezTo>
                <a:lnTo>
                  <a:pt x="5194966" y="975599"/>
                </a:lnTo>
                <a:lnTo>
                  <a:pt x="5194966" y="974861"/>
                </a:lnTo>
                <a:lnTo>
                  <a:pt x="5243036" y="965157"/>
                </a:lnTo>
                <a:cubicBezTo>
                  <a:pt x="5289345" y="945569"/>
                  <a:pt x="5321839" y="899714"/>
                  <a:pt x="5321839" y="846269"/>
                </a:cubicBezTo>
                <a:lnTo>
                  <a:pt x="5321839" y="469894"/>
                </a:lnTo>
                <a:lnTo>
                  <a:pt x="5330228" y="428344"/>
                </a:lnTo>
                <a:cubicBezTo>
                  <a:pt x="5349815" y="382034"/>
                  <a:pt x="5395670" y="349540"/>
                  <a:pt x="5449115" y="349540"/>
                </a:cubicBezTo>
                <a:cubicBezTo>
                  <a:pt x="5489199" y="349540"/>
                  <a:pt x="5525013" y="367818"/>
                  <a:pt x="5548678" y="396494"/>
                </a:cubicBezTo>
                <a:lnTo>
                  <a:pt x="5562692" y="419592"/>
                </a:lnTo>
                <a:lnTo>
                  <a:pt x="5562692" y="2265528"/>
                </a:lnTo>
                <a:lnTo>
                  <a:pt x="5563679" y="2265528"/>
                </a:lnTo>
                <a:lnTo>
                  <a:pt x="5563679" y="3341998"/>
                </a:lnTo>
                <a:cubicBezTo>
                  <a:pt x="5563679" y="3395443"/>
                  <a:pt x="5531185" y="3441298"/>
                  <a:pt x="5484876" y="3460886"/>
                </a:cubicBezTo>
                <a:lnTo>
                  <a:pt x="5436806" y="3470590"/>
                </a:lnTo>
                <a:lnTo>
                  <a:pt x="5436806" y="3471328"/>
                </a:lnTo>
                <a:lnTo>
                  <a:pt x="5413326" y="3473695"/>
                </a:lnTo>
                <a:cubicBezTo>
                  <a:pt x="5382527" y="3479997"/>
                  <a:pt x="5355545" y="3496773"/>
                  <a:pt x="5336262" y="3520139"/>
                </a:cubicBezTo>
                <a:lnTo>
                  <a:pt x="5315097" y="3557030"/>
                </a:lnTo>
                <a:lnTo>
                  <a:pt x="5315097" y="3620344"/>
                </a:lnTo>
                <a:cubicBezTo>
                  <a:pt x="5315097" y="3673789"/>
                  <a:pt x="5282603" y="3719644"/>
                  <a:pt x="5236294" y="3739232"/>
                </a:cubicBezTo>
                <a:lnTo>
                  <a:pt x="5188224" y="3748936"/>
                </a:lnTo>
                <a:lnTo>
                  <a:pt x="5188224" y="3749674"/>
                </a:lnTo>
                <a:lnTo>
                  <a:pt x="5164744" y="3752041"/>
                </a:lnTo>
                <a:cubicBezTo>
                  <a:pt x="5118546" y="3761494"/>
                  <a:pt x="5080934" y="3794514"/>
                  <a:pt x="5065015" y="3837990"/>
                </a:cubicBezTo>
                <a:lnTo>
                  <a:pt x="5064995" y="3838103"/>
                </a:lnTo>
                <a:lnTo>
                  <a:pt x="5064995" y="4397896"/>
                </a:lnTo>
                <a:cubicBezTo>
                  <a:pt x="5064995" y="4451341"/>
                  <a:pt x="5032501" y="4497196"/>
                  <a:pt x="4986192" y="4516784"/>
                </a:cubicBezTo>
                <a:lnTo>
                  <a:pt x="4938122" y="4526488"/>
                </a:lnTo>
                <a:lnTo>
                  <a:pt x="4938122" y="4527226"/>
                </a:lnTo>
                <a:lnTo>
                  <a:pt x="4914642" y="4529593"/>
                </a:lnTo>
                <a:cubicBezTo>
                  <a:pt x="4868444" y="4539046"/>
                  <a:pt x="4830832" y="4572066"/>
                  <a:pt x="4814913" y="4615542"/>
                </a:cubicBezTo>
                <a:lnTo>
                  <a:pt x="4814662" y="4616965"/>
                </a:lnTo>
                <a:lnTo>
                  <a:pt x="4814662" y="4885290"/>
                </a:lnTo>
                <a:cubicBezTo>
                  <a:pt x="4814662" y="4956550"/>
                  <a:pt x="4756895" y="5014317"/>
                  <a:pt x="4685635" y="5014317"/>
                </a:cubicBezTo>
                <a:lnTo>
                  <a:pt x="4685636" y="5014316"/>
                </a:lnTo>
                <a:cubicBezTo>
                  <a:pt x="4614376" y="5014316"/>
                  <a:pt x="4556609" y="4956549"/>
                  <a:pt x="4556609" y="4885289"/>
                </a:cubicBezTo>
                <a:lnTo>
                  <a:pt x="4556609" y="4605270"/>
                </a:lnTo>
                <a:lnTo>
                  <a:pt x="4554606" y="4593919"/>
                </a:lnTo>
                <a:cubicBezTo>
                  <a:pt x="4538687" y="4550443"/>
                  <a:pt x="4501075" y="4517423"/>
                  <a:pt x="4454877" y="4507970"/>
                </a:cubicBezTo>
                <a:lnTo>
                  <a:pt x="4431397" y="4505603"/>
                </a:lnTo>
                <a:lnTo>
                  <a:pt x="4431397" y="4504865"/>
                </a:lnTo>
                <a:lnTo>
                  <a:pt x="4383327" y="4495161"/>
                </a:lnTo>
                <a:cubicBezTo>
                  <a:pt x="4337018" y="4475573"/>
                  <a:pt x="4304524" y="4429718"/>
                  <a:pt x="4304524" y="4376273"/>
                </a:cubicBezTo>
                <a:lnTo>
                  <a:pt x="4304524" y="4286143"/>
                </a:lnTo>
                <a:lnTo>
                  <a:pt x="4296135" y="4244593"/>
                </a:lnTo>
                <a:cubicBezTo>
                  <a:pt x="4276548" y="4198283"/>
                  <a:pt x="4230693" y="4165789"/>
                  <a:pt x="4177248" y="4165789"/>
                </a:cubicBezTo>
                <a:cubicBezTo>
                  <a:pt x="4123803" y="4165789"/>
                  <a:pt x="4077948" y="4198283"/>
                  <a:pt x="4058361" y="4244593"/>
                </a:cubicBezTo>
                <a:lnTo>
                  <a:pt x="4056171" y="4255437"/>
                </a:lnTo>
                <a:lnTo>
                  <a:pt x="4056171" y="4496307"/>
                </a:lnTo>
                <a:cubicBezTo>
                  <a:pt x="4056171" y="4549752"/>
                  <a:pt x="4023677" y="4595607"/>
                  <a:pt x="3977368" y="4615195"/>
                </a:cubicBezTo>
                <a:lnTo>
                  <a:pt x="3929298" y="4624899"/>
                </a:lnTo>
                <a:lnTo>
                  <a:pt x="3929298" y="4625637"/>
                </a:lnTo>
                <a:lnTo>
                  <a:pt x="3905818" y="4628004"/>
                </a:lnTo>
                <a:cubicBezTo>
                  <a:pt x="3859621" y="4637457"/>
                  <a:pt x="3822008" y="4670477"/>
                  <a:pt x="3806089" y="4713953"/>
                </a:cubicBezTo>
                <a:lnTo>
                  <a:pt x="3805837" y="4715382"/>
                </a:lnTo>
                <a:lnTo>
                  <a:pt x="3805837" y="4820023"/>
                </a:lnTo>
                <a:cubicBezTo>
                  <a:pt x="3805837" y="4891283"/>
                  <a:pt x="3748070" y="4949050"/>
                  <a:pt x="3676810" y="4949050"/>
                </a:cubicBezTo>
                <a:lnTo>
                  <a:pt x="3676811" y="4949049"/>
                </a:lnTo>
                <a:cubicBezTo>
                  <a:pt x="3605551" y="4949049"/>
                  <a:pt x="3547784" y="4891282"/>
                  <a:pt x="3547784" y="4820022"/>
                </a:cubicBezTo>
                <a:lnTo>
                  <a:pt x="3547784" y="2265528"/>
                </a:lnTo>
                <a:lnTo>
                  <a:pt x="3547783" y="4836545"/>
                </a:lnTo>
                <a:lnTo>
                  <a:pt x="3537645" y="4786326"/>
                </a:lnTo>
                <a:cubicBezTo>
                  <a:pt x="3518057" y="4740016"/>
                  <a:pt x="3472202" y="4707522"/>
                  <a:pt x="3418757" y="4707522"/>
                </a:cubicBezTo>
                <a:cubicBezTo>
                  <a:pt x="3365312" y="4707522"/>
                  <a:pt x="3319457" y="4740016"/>
                  <a:pt x="3299870" y="4786326"/>
                </a:cubicBezTo>
                <a:lnTo>
                  <a:pt x="3290106" y="4834686"/>
                </a:lnTo>
                <a:lnTo>
                  <a:pt x="3290106" y="5421088"/>
                </a:lnTo>
                <a:cubicBezTo>
                  <a:pt x="3290106" y="5492348"/>
                  <a:pt x="3232339" y="5550115"/>
                  <a:pt x="3161079" y="5550115"/>
                </a:cubicBezTo>
                <a:lnTo>
                  <a:pt x="3161080" y="5550114"/>
                </a:lnTo>
                <a:cubicBezTo>
                  <a:pt x="3089820" y="5550114"/>
                  <a:pt x="3032053" y="5492347"/>
                  <a:pt x="3032053" y="5421087"/>
                </a:cubicBezTo>
                <a:lnTo>
                  <a:pt x="3032053" y="2265528"/>
                </a:lnTo>
                <a:lnTo>
                  <a:pt x="3032052" y="4524125"/>
                </a:lnTo>
                <a:lnTo>
                  <a:pt x="3021914" y="4473906"/>
                </a:lnTo>
                <a:cubicBezTo>
                  <a:pt x="3002326" y="4427596"/>
                  <a:pt x="2956471" y="4395102"/>
                  <a:pt x="2903026" y="4395102"/>
                </a:cubicBezTo>
                <a:cubicBezTo>
                  <a:pt x="2849581" y="4395102"/>
                  <a:pt x="2803726" y="4427596"/>
                  <a:pt x="2784139" y="4473906"/>
                </a:cubicBezTo>
                <a:lnTo>
                  <a:pt x="2780541" y="4491725"/>
                </a:lnTo>
                <a:lnTo>
                  <a:pt x="2780541" y="4800671"/>
                </a:lnTo>
                <a:cubicBezTo>
                  <a:pt x="2780541" y="4871931"/>
                  <a:pt x="2722774" y="4929698"/>
                  <a:pt x="2651514" y="4929698"/>
                </a:cubicBezTo>
                <a:lnTo>
                  <a:pt x="2651515" y="4929697"/>
                </a:lnTo>
                <a:cubicBezTo>
                  <a:pt x="2580255" y="4929697"/>
                  <a:pt x="2522488" y="4871930"/>
                  <a:pt x="2522488" y="4800670"/>
                </a:cubicBezTo>
                <a:lnTo>
                  <a:pt x="2522488" y="4753932"/>
                </a:lnTo>
                <a:lnTo>
                  <a:pt x="2503819" y="4721390"/>
                </a:lnTo>
                <a:cubicBezTo>
                  <a:pt x="2484535" y="4698024"/>
                  <a:pt x="2457553" y="4681248"/>
                  <a:pt x="2426754" y="4674946"/>
                </a:cubicBezTo>
                <a:lnTo>
                  <a:pt x="2403274" y="4672579"/>
                </a:lnTo>
                <a:lnTo>
                  <a:pt x="2403274" y="4671841"/>
                </a:lnTo>
                <a:lnTo>
                  <a:pt x="2355204" y="4662137"/>
                </a:lnTo>
                <a:cubicBezTo>
                  <a:pt x="2308895" y="4642549"/>
                  <a:pt x="2276401" y="4596694"/>
                  <a:pt x="2276401" y="4543249"/>
                </a:cubicBezTo>
                <a:lnTo>
                  <a:pt x="2276401" y="4429265"/>
                </a:lnTo>
                <a:lnTo>
                  <a:pt x="2268012" y="4387715"/>
                </a:lnTo>
                <a:cubicBezTo>
                  <a:pt x="2248425" y="4341405"/>
                  <a:pt x="2202570" y="4308911"/>
                  <a:pt x="2149125" y="4308911"/>
                </a:cubicBezTo>
                <a:cubicBezTo>
                  <a:pt x="2095680" y="4308911"/>
                  <a:pt x="2049825" y="4341405"/>
                  <a:pt x="2030238" y="4387715"/>
                </a:cubicBezTo>
                <a:lnTo>
                  <a:pt x="2028048" y="4398560"/>
                </a:lnTo>
                <a:lnTo>
                  <a:pt x="2028048" y="4551963"/>
                </a:lnTo>
                <a:cubicBezTo>
                  <a:pt x="2028048" y="4605408"/>
                  <a:pt x="1995554" y="4651263"/>
                  <a:pt x="1949245" y="4670851"/>
                </a:cubicBezTo>
                <a:lnTo>
                  <a:pt x="1901175" y="4680555"/>
                </a:lnTo>
                <a:lnTo>
                  <a:pt x="1901175" y="4681293"/>
                </a:lnTo>
                <a:lnTo>
                  <a:pt x="1877695" y="4683660"/>
                </a:lnTo>
                <a:cubicBezTo>
                  <a:pt x="1831497" y="4693113"/>
                  <a:pt x="1793885" y="4726133"/>
                  <a:pt x="1777966" y="4769609"/>
                </a:cubicBezTo>
                <a:lnTo>
                  <a:pt x="1775762" y="4782099"/>
                </a:lnTo>
                <a:lnTo>
                  <a:pt x="1775762" y="4916007"/>
                </a:lnTo>
                <a:cubicBezTo>
                  <a:pt x="1775762" y="4987267"/>
                  <a:pt x="1717995" y="5045034"/>
                  <a:pt x="1646735" y="5045034"/>
                </a:cubicBezTo>
                <a:lnTo>
                  <a:pt x="1646736" y="5045033"/>
                </a:lnTo>
                <a:cubicBezTo>
                  <a:pt x="1575476" y="5045033"/>
                  <a:pt x="1517709" y="4987266"/>
                  <a:pt x="1517709" y="4916006"/>
                </a:cubicBezTo>
                <a:lnTo>
                  <a:pt x="1517709" y="4550752"/>
                </a:lnTo>
                <a:lnTo>
                  <a:pt x="1515505" y="4538262"/>
                </a:lnTo>
                <a:cubicBezTo>
                  <a:pt x="1499586" y="4494786"/>
                  <a:pt x="1461974" y="4461766"/>
                  <a:pt x="1415776" y="4452313"/>
                </a:cubicBezTo>
                <a:lnTo>
                  <a:pt x="1392296" y="4449946"/>
                </a:lnTo>
                <a:lnTo>
                  <a:pt x="1392296" y="4449208"/>
                </a:lnTo>
                <a:lnTo>
                  <a:pt x="1344226" y="4439504"/>
                </a:lnTo>
                <a:cubicBezTo>
                  <a:pt x="1297917" y="4419916"/>
                  <a:pt x="1265423" y="4374061"/>
                  <a:pt x="1265423" y="4320616"/>
                </a:cubicBezTo>
                <a:lnTo>
                  <a:pt x="1265423" y="3944241"/>
                </a:lnTo>
                <a:lnTo>
                  <a:pt x="1257034" y="3902691"/>
                </a:lnTo>
                <a:cubicBezTo>
                  <a:pt x="1237447" y="3856381"/>
                  <a:pt x="1191592" y="3823887"/>
                  <a:pt x="1138147" y="3823887"/>
                </a:cubicBezTo>
                <a:cubicBezTo>
                  <a:pt x="1084702" y="3823887"/>
                  <a:pt x="1038847" y="3856381"/>
                  <a:pt x="1019260" y="3902691"/>
                </a:cubicBezTo>
                <a:lnTo>
                  <a:pt x="1016586" y="3915934"/>
                </a:lnTo>
                <a:lnTo>
                  <a:pt x="1016586" y="3976598"/>
                </a:lnTo>
                <a:cubicBezTo>
                  <a:pt x="1016586" y="4047858"/>
                  <a:pt x="958819" y="4105625"/>
                  <a:pt x="887559" y="4105625"/>
                </a:cubicBezTo>
                <a:lnTo>
                  <a:pt x="887560" y="4105624"/>
                </a:lnTo>
                <a:cubicBezTo>
                  <a:pt x="816300" y="4105624"/>
                  <a:pt x="758533" y="4047857"/>
                  <a:pt x="758533" y="3976597"/>
                </a:cubicBezTo>
                <a:lnTo>
                  <a:pt x="758533" y="3835817"/>
                </a:lnTo>
                <a:lnTo>
                  <a:pt x="737116" y="3798485"/>
                </a:lnTo>
                <a:cubicBezTo>
                  <a:pt x="717833" y="3775119"/>
                  <a:pt x="690850" y="3758343"/>
                  <a:pt x="660051" y="3752041"/>
                </a:cubicBezTo>
                <a:lnTo>
                  <a:pt x="636571" y="3749674"/>
                </a:lnTo>
                <a:lnTo>
                  <a:pt x="636571" y="3748936"/>
                </a:lnTo>
                <a:lnTo>
                  <a:pt x="588501" y="3739232"/>
                </a:lnTo>
                <a:cubicBezTo>
                  <a:pt x="542192" y="3719644"/>
                  <a:pt x="509698" y="3673789"/>
                  <a:pt x="509698" y="3620344"/>
                </a:cubicBezTo>
                <a:lnTo>
                  <a:pt x="509698" y="2675086"/>
                </a:lnTo>
                <a:lnTo>
                  <a:pt x="501309" y="2633537"/>
                </a:lnTo>
                <a:cubicBezTo>
                  <a:pt x="481722" y="2587227"/>
                  <a:pt x="435867" y="2554733"/>
                  <a:pt x="382422" y="2554733"/>
                </a:cubicBezTo>
                <a:cubicBezTo>
                  <a:pt x="328977" y="2554733"/>
                  <a:pt x="283122" y="2587227"/>
                  <a:pt x="263535" y="2633537"/>
                </a:cubicBezTo>
                <a:lnTo>
                  <a:pt x="258053" y="2660688"/>
                </a:lnTo>
                <a:lnTo>
                  <a:pt x="258053" y="2715723"/>
                </a:lnTo>
                <a:cubicBezTo>
                  <a:pt x="258053" y="2786983"/>
                  <a:pt x="200286" y="2844750"/>
                  <a:pt x="129026" y="2844750"/>
                </a:cubicBezTo>
                <a:lnTo>
                  <a:pt x="129027" y="2844749"/>
                </a:lnTo>
                <a:cubicBezTo>
                  <a:pt x="57767" y="2844749"/>
                  <a:pt x="0" y="2786982"/>
                  <a:pt x="0" y="2715722"/>
                </a:cubicBezTo>
                <a:lnTo>
                  <a:pt x="0" y="2265528"/>
                </a:lnTo>
                <a:lnTo>
                  <a:pt x="0" y="546839"/>
                </a:lnTo>
                <a:lnTo>
                  <a:pt x="12233" y="526676"/>
                </a:lnTo>
                <a:cubicBezTo>
                  <a:pt x="35899" y="498000"/>
                  <a:pt x="71713" y="479722"/>
                  <a:pt x="111797" y="479722"/>
                </a:cubicBezTo>
                <a:cubicBezTo>
                  <a:pt x="165242" y="479722"/>
                  <a:pt x="211097" y="512216"/>
                  <a:pt x="230684" y="558526"/>
                </a:cubicBezTo>
                <a:lnTo>
                  <a:pt x="232874" y="569371"/>
                </a:lnTo>
                <a:lnTo>
                  <a:pt x="232874" y="722774"/>
                </a:lnTo>
                <a:cubicBezTo>
                  <a:pt x="232874" y="776219"/>
                  <a:pt x="265368" y="822074"/>
                  <a:pt x="311677" y="841662"/>
                </a:cubicBezTo>
                <a:lnTo>
                  <a:pt x="359747" y="851366"/>
                </a:lnTo>
                <a:lnTo>
                  <a:pt x="359747" y="852104"/>
                </a:lnTo>
                <a:lnTo>
                  <a:pt x="383227" y="854471"/>
                </a:lnTo>
                <a:cubicBezTo>
                  <a:pt x="429425" y="863924"/>
                  <a:pt x="467037" y="896944"/>
                  <a:pt x="482956" y="940420"/>
                </a:cubicBezTo>
                <a:lnTo>
                  <a:pt x="485160" y="952910"/>
                </a:lnTo>
                <a:lnTo>
                  <a:pt x="485160" y="1086818"/>
                </a:lnTo>
                <a:cubicBezTo>
                  <a:pt x="485160" y="1158078"/>
                  <a:pt x="542926" y="1215845"/>
                  <a:pt x="614186" y="1215845"/>
                </a:cubicBezTo>
                <a:lnTo>
                  <a:pt x="614185" y="1215844"/>
                </a:lnTo>
                <a:cubicBezTo>
                  <a:pt x="685445" y="1215844"/>
                  <a:pt x="743212" y="1158077"/>
                  <a:pt x="743212" y="1086817"/>
                </a:cubicBezTo>
                <a:lnTo>
                  <a:pt x="743212" y="721563"/>
                </a:lnTo>
                <a:lnTo>
                  <a:pt x="745416" y="709073"/>
                </a:lnTo>
                <a:cubicBezTo>
                  <a:pt x="761335" y="665597"/>
                  <a:pt x="798947" y="632577"/>
                  <a:pt x="845145" y="623124"/>
                </a:cubicBezTo>
                <a:lnTo>
                  <a:pt x="868625" y="620757"/>
                </a:lnTo>
                <a:lnTo>
                  <a:pt x="868625" y="620019"/>
                </a:lnTo>
                <a:lnTo>
                  <a:pt x="916695" y="610315"/>
                </a:lnTo>
                <a:cubicBezTo>
                  <a:pt x="963004" y="590727"/>
                  <a:pt x="995498" y="544872"/>
                  <a:pt x="995498" y="491427"/>
                </a:cubicBezTo>
                <a:lnTo>
                  <a:pt x="995498" y="115052"/>
                </a:lnTo>
                <a:lnTo>
                  <a:pt x="1003887" y="73502"/>
                </a:lnTo>
                <a:cubicBezTo>
                  <a:pt x="1018578" y="38770"/>
                  <a:pt x="1048044" y="11809"/>
                  <a:pt x="1084406" y="499"/>
                </a:cubicBezTo>
                <a:lnTo>
                  <a:pt x="108770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601" name="Agrupar 6" descr=""/>
          <p:cNvPicPr/>
          <p:nvPr/>
        </p:nvPicPr>
        <p:blipFill>
          <a:blip r:embed="rId1"/>
          <a:stretch/>
        </p:blipFill>
        <p:spPr>
          <a:xfrm>
            <a:off x="5364000" y="4694400"/>
            <a:ext cx="262080" cy="255600"/>
          </a:xfrm>
          <a:prstGeom prst="rect">
            <a:avLst/>
          </a:prstGeom>
          <a:ln w="0">
            <a:noFill/>
          </a:ln>
        </p:spPr>
      </p:pic>
      <p:sp>
        <p:nvSpPr>
          <p:cNvPr id="602" name="Rectángulo redondeado 11"/>
          <p:cNvSpPr/>
          <p:nvPr/>
        </p:nvSpPr>
        <p:spPr>
          <a:xfrm>
            <a:off x="8978760" y="3479760"/>
            <a:ext cx="258840" cy="255600"/>
          </a:xfrm>
          <a:prstGeom prst="roundRect">
            <a:avLst>
              <a:gd name="adj" fmla="val 50000"/>
            </a:avLst>
          </a:pr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03" name="Forma libre 12"/>
          <p:cNvSpPr/>
          <p:nvPr/>
        </p:nvSpPr>
        <p:spPr>
          <a:xfrm>
            <a:off x="3673440" y="2639880"/>
            <a:ext cx="2588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009ac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04" name="PlaceHolder 1"/>
          <p:cNvSpPr>
            <a:spLocks noGrp="1"/>
          </p:cNvSpPr>
          <p:nvPr>
            <p:ph/>
          </p:nvPr>
        </p:nvSpPr>
        <p:spPr>
          <a:xfrm>
            <a:off x="506160" y="1858680"/>
            <a:ext cx="2955960" cy="5778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Inspire</a:t>
            </a:r>
            <a:endParaRPr b="0" lang="en-US" sz="4000" spc="-1" strike="noStrike">
              <a:solidFill>
                <a:srgbClr val="000000"/>
              </a:solidFill>
              <a:latin typeface="Calibri"/>
            </a:endParaRPr>
          </a:p>
        </p:txBody>
      </p:sp>
      <p:sp>
        <p:nvSpPr>
          <p:cNvPr id="605" name="PlaceHolder 2"/>
          <p:cNvSpPr>
            <a:spLocks noGrp="1"/>
          </p:cNvSpPr>
          <p:nvPr>
            <p:ph/>
          </p:nvPr>
        </p:nvSpPr>
        <p:spPr>
          <a:xfrm>
            <a:off x="506160" y="2480760"/>
            <a:ext cx="2955960" cy="22068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SMART SUBTITLE HERE</a:t>
            </a:r>
            <a:endParaRPr b="0" lang="en-US" sz="1000" spc="-1" strike="noStrike">
              <a:solidFill>
                <a:srgbClr val="000000"/>
              </a:solidFill>
              <a:latin typeface="Calibri"/>
            </a:endParaRPr>
          </a:p>
        </p:txBody>
      </p:sp>
      <p:sp>
        <p:nvSpPr>
          <p:cNvPr id="606" name="Text Placeholder 23"/>
          <p:cNvSpPr/>
          <p:nvPr/>
        </p:nvSpPr>
        <p:spPr>
          <a:xfrm>
            <a:off x="506520" y="2809800"/>
            <a:ext cx="2955960" cy="6904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euismod non purus. Maecenas ut lacus nec mauris feugiat tristique.</a:t>
            </a:r>
            <a:endParaRPr b="0" lang="en-US" sz="9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Marcador de texto 13"/>
          <p:cNvSpPr/>
          <p:nvPr/>
        </p:nvSpPr>
        <p:spPr>
          <a:xfrm>
            <a:off x="2438280" y="258840"/>
            <a:ext cx="42674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Bar charts</a:t>
            </a:r>
            <a:endParaRPr b="0" lang="en-US" sz="5000" spc="-1" strike="noStrike">
              <a:solidFill>
                <a:srgbClr val="000000"/>
              </a:solidFill>
              <a:latin typeface="Calibri"/>
            </a:endParaRPr>
          </a:p>
        </p:txBody>
      </p:sp>
      <p:sp>
        <p:nvSpPr>
          <p:cNvPr id="944"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graphicFrame>
        <p:nvGraphicFramePr>
          <p:cNvPr id="945" name="Chart 8"/>
          <p:cNvGraphicFramePr/>
          <p:nvPr/>
        </p:nvGraphicFramePr>
        <p:xfrm>
          <a:off x="652320" y="1251000"/>
          <a:ext cx="7839360" cy="2712960"/>
        </p:xfrm>
        <a:graphic>
          <a:graphicData uri="http://schemas.openxmlformats.org/presentationml/2006/ole">
            <p:oleObj progId="Excel.Sheet.12" r:id="rId1" spid="">
              <p:embed/>
              <p:pic>
                <p:nvPicPr>
                  <p:cNvPr id="946" name="Chart 8" descr=""/>
                  <p:cNvPicPr/>
                  <p:nvPr/>
                </p:nvPicPr>
                <p:blipFill>
                  <a:blip r:embed="rId2"/>
                  <a:stretch/>
                </p:blipFill>
                <p:spPr>
                  <a:xfrm>
                    <a:off x="652320" y="1251000"/>
                    <a:ext cx="7839360" cy="2712960"/>
                  </a:xfrm>
                  <a:prstGeom prst="rect">
                    <a:avLst/>
                  </a:prstGeom>
                  <a:ln w="0">
                    <a:noFill/>
                  </a:ln>
                </p:spPr>
              </p:pic>
            </p:oleObj>
          </a:graphicData>
        </a:graphic>
      </p:graphicFrame>
      <p:sp>
        <p:nvSpPr>
          <p:cNvPr id="947"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48"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49"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0"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51"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2"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53"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4"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Marcador de texto 13"/>
          <p:cNvSpPr/>
          <p:nvPr/>
        </p:nvSpPr>
        <p:spPr>
          <a:xfrm>
            <a:off x="1471680" y="258840"/>
            <a:ext cx="62006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Sharp line chart</a:t>
            </a:r>
            <a:endParaRPr b="0" lang="en-US" sz="5000" spc="-1" strike="noStrike">
              <a:solidFill>
                <a:srgbClr val="000000"/>
              </a:solidFill>
              <a:latin typeface="Calibri"/>
            </a:endParaRPr>
          </a:p>
        </p:txBody>
      </p:sp>
      <p:sp>
        <p:nvSpPr>
          <p:cNvPr id="956"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957"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58"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59"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0"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61"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2"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63"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4"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965" name="Chart 8" descr=""/>
          <p:cNvPicPr/>
          <p:nvPr/>
        </p:nvPicPr>
        <p:blipFill>
          <a:blip r:embed="rId1"/>
          <a:stretch/>
        </p:blipFill>
        <p:spPr>
          <a:xfrm>
            <a:off x="701640" y="1298520"/>
            <a:ext cx="7740720" cy="261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Marcador de texto 13"/>
          <p:cNvSpPr/>
          <p:nvPr/>
        </p:nvSpPr>
        <p:spPr>
          <a:xfrm>
            <a:off x="1868400" y="258840"/>
            <a:ext cx="540720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Area chart</a:t>
            </a:r>
            <a:endParaRPr b="0" lang="en-US" sz="5000" spc="-1" strike="noStrike">
              <a:solidFill>
                <a:srgbClr val="000000"/>
              </a:solidFill>
              <a:latin typeface="Calibri"/>
            </a:endParaRPr>
          </a:p>
        </p:txBody>
      </p:sp>
      <p:sp>
        <p:nvSpPr>
          <p:cNvPr id="967"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968"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69"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70"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71"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72"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73"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74"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75"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976" name="Chart 8" descr=""/>
          <p:cNvPicPr/>
          <p:nvPr/>
        </p:nvPicPr>
        <p:blipFill>
          <a:blip r:embed="rId1"/>
          <a:stretch/>
        </p:blipFill>
        <p:spPr>
          <a:xfrm>
            <a:off x="755640" y="1298520"/>
            <a:ext cx="7736040" cy="2560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Marcador de texto 13"/>
          <p:cNvSpPr/>
          <p:nvPr/>
        </p:nvSpPr>
        <p:spPr>
          <a:xfrm>
            <a:off x="1855800" y="258840"/>
            <a:ext cx="543240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Curve line chart</a:t>
            </a:r>
            <a:endParaRPr b="0" lang="en-US" sz="5000" spc="-1" strike="noStrike">
              <a:solidFill>
                <a:srgbClr val="000000"/>
              </a:solidFill>
              <a:latin typeface="Calibri"/>
            </a:endParaRPr>
          </a:p>
        </p:txBody>
      </p:sp>
      <p:sp>
        <p:nvSpPr>
          <p:cNvPr id="978"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979" name="Text Placeholder 20"/>
          <p:cNvSpPr/>
          <p:nvPr/>
        </p:nvSpPr>
        <p:spPr>
          <a:xfrm>
            <a:off x="8413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0" name="Text Placeholder 23"/>
          <p:cNvSpPr/>
          <p:nvPr/>
        </p:nvSpPr>
        <p:spPr>
          <a:xfrm>
            <a:off x="8413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81" name="Text Placeholder 20"/>
          <p:cNvSpPr/>
          <p:nvPr/>
        </p:nvSpPr>
        <p:spPr>
          <a:xfrm>
            <a:off x="281772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2" name="Text Placeholder 23"/>
          <p:cNvSpPr/>
          <p:nvPr/>
        </p:nvSpPr>
        <p:spPr>
          <a:xfrm>
            <a:off x="281772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83" name="Text Placeholder 20"/>
          <p:cNvSpPr/>
          <p:nvPr/>
        </p:nvSpPr>
        <p:spPr>
          <a:xfrm>
            <a:off x="47880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4" name="Text Placeholder 23"/>
          <p:cNvSpPr/>
          <p:nvPr/>
        </p:nvSpPr>
        <p:spPr>
          <a:xfrm>
            <a:off x="47880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85" name="Text Placeholder 20"/>
          <p:cNvSpPr/>
          <p:nvPr/>
        </p:nvSpPr>
        <p:spPr>
          <a:xfrm>
            <a:off x="6764400" y="41324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86" name="Text Placeholder 23"/>
          <p:cNvSpPr/>
          <p:nvPr/>
        </p:nvSpPr>
        <p:spPr>
          <a:xfrm>
            <a:off x="6764400" y="438480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987" name="Chart 8" descr=""/>
          <p:cNvPicPr/>
          <p:nvPr/>
        </p:nvPicPr>
        <p:blipFill>
          <a:blip r:embed="rId1"/>
          <a:stretch/>
        </p:blipFill>
        <p:spPr>
          <a:xfrm>
            <a:off x="755640" y="1298520"/>
            <a:ext cx="7736040" cy="2560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Marcador de texto 13"/>
          <p:cNvSpPr/>
          <p:nvPr/>
        </p:nvSpPr>
        <p:spPr>
          <a:xfrm>
            <a:off x="1868400" y="249120"/>
            <a:ext cx="540720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Pie chart</a:t>
            </a:r>
            <a:endParaRPr b="0" lang="en-US" sz="5000" spc="-1" strike="noStrike">
              <a:solidFill>
                <a:srgbClr val="000000"/>
              </a:solidFill>
              <a:latin typeface="Calibri"/>
            </a:endParaRPr>
          </a:p>
        </p:txBody>
      </p:sp>
      <p:sp>
        <p:nvSpPr>
          <p:cNvPr id="989" name="Text Placeholder 20"/>
          <p:cNvSpPr/>
          <p:nvPr/>
        </p:nvSpPr>
        <p:spPr>
          <a:xfrm>
            <a:off x="3205080" y="866880"/>
            <a:ext cx="27338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pic>
        <p:nvPicPr>
          <p:cNvPr id="990" name="Chart 8" descr=""/>
          <p:cNvPicPr/>
          <p:nvPr/>
        </p:nvPicPr>
        <p:blipFill>
          <a:blip r:embed="rId1"/>
          <a:stretch/>
        </p:blipFill>
        <p:spPr>
          <a:xfrm>
            <a:off x="401760" y="1170000"/>
            <a:ext cx="3828960" cy="3610080"/>
          </a:xfrm>
          <a:prstGeom prst="rect">
            <a:avLst/>
          </a:prstGeom>
          <a:ln w="0">
            <a:noFill/>
          </a:ln>
        </p:spPr>
      </p:pic>
      <p:sp>
        <p:nvSpPr>
          <p:cNvPr id="991" name="Text Placeholder 23"/>
          <p:cNvSpPr/>
          <p:nvPr/>
        </p:nvSpPr>
        <p:spPr>
          <a:xfrm>
            <a:off x="4572000" y="1824120"/>
            <a:ext cx="4103640" cy="86652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a:t>
            </a:r>
            <a:endParaRPr b="0" lang="en-US" sz="900" spc="-1" strike="noStrike">
              <a:solidFill>
                <a:srgbClr val="000000"/>
              </a:solidFill>
              <a:latin typeface="Calibri"/>
            </a:endParaRPr>
          </a:p>
        </p:txBody>
      </p:sp>
      <p:sp>
        <p:nvSpPr>
          <p:cNvPr id="992" name="Text Placeholder 20"/>
          <p:cNvSpPr/>
          <p:nvPr/>
        </p:nvSpPr>
        <p:spPr>
          <a:xfrm>
            <a:off x="4791240" y="2879640"/>
            <a:ext cx="15634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93" name="Text Placeholder 23"/>
          <p:cNvSpPr/>
          <p:nvPr/>
        </p:nvSpPr>
        <p:spPr>
          <a:xfrm>
            <a:off x="4791240" y="3132000"/>
            <a:ext cx="156348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94" name="Rectángulo redondeado 36"/>
          <p:cNvSpPr/>
          <p:nvPr/>
        </p:nvSpPr>
        <p:spPr>
          <a:xfrm>
            <a:off x="4586400" y="2900520"/>
            <a:ext cx="100080" cy="610920"/>
          </a:xfrm>
          <a:custGeom>
            <a:avLst/>
            <a:gdLst>
              <a:gd name="textAreaLeft" fmla="*/ 14400 w 100080"/>
              <a:gd name="textAreaRight" fmla="*/ 85680 w 100080"/>
              <a:gd name="textAreaTop" fmla="*/ 14400 h 610920"/>
              <a:gd name="textAreaBottom" fmla="*/ 596520 h 610920"/>
            </a:gdLst>
            <a:ahLst/>
            <a:rect l="textAreaLeft" t="textAreaTop" r="textAreaRight" b="textAreaBottom"/>
            <a:pathLst>
              <a:path w="21600" h="131458">
                <a:moveTo>
                  <a:pt x="10800" y="0"/>
                </a:moveTo>
                <a:arcTo wR="10800" hR="10800" stAng="16200000" swAng="-5400000"/>
                <a:lnTo>
                  <a:pt x="0" y="120658"/>
                </a:lnTo>
                <a:arcTo wR="10800" hR="10800" stAng="10800000" swAng="-5400000"/>
                <a:lnTo>
                  <a:pt x="10800" y="131458"/>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95" name="Text Placeholder 20"/>
          <p:cNvSpPr/>
          <p:nvPr/>
        </p:nvSpPr>
        <p:spPr>
          <a:xfrm>
            <a:off x="6910560" y="287964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96" name="Text Placeholder 23"/>
          <p:cNvSpPr/>
          <p:nvPr/>
        </p:nvSpPr>
        <p:spPr>
          <a:xfrm>
            <a:off x="6910560" y="31320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997" name="Rectángulo redondeado 39"/>
          <p:cNvSpPr/>
          <p:nvPr/>
        </p:nvSpPr>
        <p:spPr>
          <a:xfrm>
            <a:off x="6705720" y="2900520"/>
            <a:ext cx="99720" cy="610920"/>
          </a:xfrm>
          <a:custGeom>
            <a:avLst/>
            <a:gdLst>
              <a:gd name="textAreaLeft" fmla="*/ 14400 w 99720"/>
              <a:gd name="textAreaRight" fmla="*/ 85320 w 99720"/>
              <a:gd name="textAreaTop" fmla="*/ 14400 h 610920"/>
              <a:gd name="textAreaBottom" fmla="*/ 596520 h 610920"/>
            </a:gdLst>
            <a:ahLst/>
            <a:rect l="textAreaLeft" t="textAreaTop" r="textAreaRight" b="textAreaBottom"/>
            <a:pathLst>
              <a:path w="21600" h="131931">
                <a:moveTo>
                  <a:pt x="10800" y="0"/>
                </a:moveTo>
                <a:arcTo wR="10800" hR="10800" stAng="16200000" swAng="-5400000"/>
                <a:lnTo>
                  <a:pt x="0" y="121131"/>
                </a:lnTo>
                <a:arcTo wR="10800" hR="10800" stAng="10800000" swAng="-5400000"/>
                <a:lnTo>
                  <a:pt x="10800" y="131931"/>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98" name="Text Placeholder 20"/>
          <p:cNvSpPr/>
          <p:nvPr/>
        </p:nvSpPr>
        <p:spPr>
          <a:xfrm>
            <a:off x="4791240" y="3760920"/>
            <a:ext cx="156348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999" name="Text Placeholder 23"/>
          <p:cNvSpPr/>
          <p:nvPr/>
        </p:nvSpPr>
        <p:spPr>
          <a:xfrm>
            <a:off x="4791240" y="4013280"/>
            <a:ext cx="156348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00" name="Rectángulo redondeado 42"/>
          <p:cNvSpPr/>
          <p:nvPr/>
        </p:nvSpPr>
        <p:spPr>
          <a:xfrm>
            <a:off x="4586400" y="3781440"/>
            <a:ext cx="100080" cy="611280"/>
          </a:xfrm>
          <a:custGeom>
            <a:avLst/>
            <a:gdLst>
              <a:gd name="textAreaLeft" fmla="*/ 14400 w 100080"/>
              <a:gd name="textAreaRight" fmla="*/ 85680 w 100080"/>
              <a:gd name="textAreaTop" fmla="*/ 14400 h 611280"/>
              <a:gd name="textAreaBottom" fmla="*/ 596880 h 611280"/>
            </a:gdLst>
            <a:ahLst/>
            <a:rect l="textAreaLeft" t="textAreaTop" r="textAreaRight" b="textAreaBottom"/>
            <a:pathLst>
              <a:path w="21600" h="131535">
                <a:moveTo>
                  <a:pt x="10800" y="0"/>
                </a:moveTo>
                <a:arcTo wR="10800" hR="10800" stAng="16200000" swAng="-5400000"/>
                <a:lnTo>
                  <a:pt x="0" y="120735"/>
                </a:lnTo>
                <a:arcTo wR="10800" hR="10800" stAng="10800000" swAng="-5400000"/>
                <a:lnTo>
                  <a:pt x="10800" y="131535"/>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01" name="Text Placeholder 20"/>
          <p:cNvSpPr/>
          <p:nvPr/>
        </p:nvSpPr>
        <p:spPr>
          <a:xfrm>
            <a:off x="6910560" y="3760920"/>
            <a:ext cx="156204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02" name="Text Placeholder 23"/>
          <p:cNvSpPr/>
          <p:nvPr/>
        </p:nvSpPr>
        <p:spPr>
          <a:xfrm>
            <a:off x="6910560" y="401328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03" name="Rectángulo redondeado 45"/>
          <p:cNvSpPr/>
          <p:nvPr/>
        </p:nvSpPr>
        <p:spPr>
          <a:xfrm>
            <a:off x="6705720" y="3781440"/>
            <a:ext cx="99720" cy="611280"/>
          </a:xfrm>
          <a:custGeom>
            <a:avLst/>
            <a:gdLst>
              <a:gd name="textAreaLeft" fmla="*/ 14400 w 99720"/>
              <a:gd name="textAreaRight" fmla="*/ 85320 w 99720"/>
              <a:gd name="textAreaTop" fmla="*/ 14400 h 611280"/>
              <a:gd name="textAreaBottom" fmla="*/ 596880 h 611280"/>
            </a:gdLst>
            <a:ahLst/>
            <a:rect l="textAreaLeft" t="textAreaTop" r="textAreaRight" b="textAreaBottom"/>
            <a:pathLst>
              <a:path w="21600" h="132009">
                <a:moveTo>
                  <a:pt x="10800" y="0"/>
                </a:moveTo>
                <a:arcTo wR="10800" hR="10800" stAng="16200000" swAng="-5400000"/>
                <a:lnTo>
                  <a:pt x="0" y="121209"/>
                </a:lnTo>
                <a:arcTo wR="10800" hR="10800" stAng="10800000" swAng="-5400000"/>
                <a:lnTo>
                  <a:pt x="10800" y="132009"/>
                </a:lnTo>
                <a:arcTo wR="10800" hR="10800" stAng="5400000" swAng="-5400000"/>
                <a:lnTo>
                  <a:pt x="21600" y="10800"/>
                </a:lnTo>
                <a:arcTo wR="10800" hR="10800" stAng="0" swAng="-5400000"/>
                <a:close/>
              </a:path>
            </a:pathLst>
          </a:custGeom>
          <a:solidFill>
            <a:srgbClr val="fee4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04" name="Text Placeholder 20"/>
          <p:cNvSpPr/>
          <p:nvPr/>
        </p:nvSpPr>
        <p:spPr>
          <a:xfrm>
            <a:off x="4583160" y="1521000"/>
            <a:ext cx="40924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CHART AREA TITLE HERE</a:t>
            </a:r>
            <a:endParaRPr b="0" lang="en-US" sz="10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Marcador de texto 13"/>
          <p:cNvSpPr/>
          <p:nvPr/>
        </p:nvSpPr>
        <p:spPr>
          <a:xfrm>
            <a:off x="1868400" y="258840"/>
            <a:ext cx="540720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Pie chart</a:t>
            </a:r>
            <a:endParaRPr b="0" lang="en-US" sz="5000" spc="-1" strike="noStrike">
              <a:solidFill>
                <a:srgbClr val="000000"/>
              </a:solidFill>
              <a:latin typeface="Calibri"/>
            </a:endParaRPr>
          </a:p>
        </p:txBody>
      </p:sp>
      <p:sp>
        <p:nvSpPr>
          <p:cNvPr id="1006" name="Text Placeholder 20"/>
          <p:cNvSpPr/>
          <p:nvPr/>
        </p:nvSpPr>
        <p:spPr>
          <a:xfrm>
            <a:off x="3205080" y="87624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ITLE EXAMPLE HERE</a:t>
            </a:r>
            <a:endParaRPr b="0" lang="en-US" sz="1000" spc="-1" strike="noStrike">
              <a:solidFill>
                <a:srgbClr val="000000"/>
              </a:solidFill>
              <a:latin typeface="Calibri"/>
            </a:endParaRPr>
          </a:p>
        </p:txBody>
      </p:sp>
      <p:sp>
        <p:nvSpPr>
          <p:cNvPr id="1007" name="Text Placeholder 20"/>
          <p:cNvSpPr/>
          <p:nvPr/>
        </p:nvSpPr>
        <p:spPr>
          <a:xfrm>
            <a:off x="1211400" y="3733920"/>
            <a:ext cx="15620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08" name="Text Placeholder 23"/>
          <p:cNvSpPr/>
          <p:nvPr/>
        </p:nvSpPr>
        <p:spPr>
          <a:xfrm>
            <a:off x="1211400" y="398628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09" name="Text Placeholder 20"/>
          <p:cNvSpPr/>
          <p:nvPr/>
        </p:nvSpPr>
        <p:spPr>
          <a:xfrm>
            <a:off x="3743280" y="3733920"/>
            <a:ext cx="15620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10" name="Text Placeholder 23"/>
          <p:cNvSpPr/>
          <p:nvPr/>
        </p:nvSpPr>
        <p:spPr>
          <a:xfrm>
            <a:off x="3743280" y="398628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11" name="Text Placeholder 20"/>
          <p:cNvSpPr/>
          <p:nvPr/>
        </p:nvSpPr>
        <p:spPr>
          <a:xfrm>
            <a:off x="6275520" y="3733920"/>
            <a:ext cx="15620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12" name="Text Placeholder 23"/>
          <p:cNvSpPr/>
          <p:nvPr/>
        </p:nvSpPr>
        <p:spPr>
          <a:xfrm>
            <a:off x="6275520" y="398628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1013" name="Chart 8" descr=""/>
          <p:cNvPicPr/>
          <p:nvPr/>
        </p:nvPicPr>
        <p:blipFill>
          <a:blip r:embed="rId1"/>
          <a:stretch/>
        </p:blipFill>
        <p:spPr>
          <a:xfrm>
            <a:off x="981000" y="1298520"/>
            <a:ext cx="2176560" cy="2560680"/>
          </a:xfrm>
          <a:prstGeom prst="rect">
            <a:avLst/>
          </a:prstGeom>
          <a:ln w="0">
            <a:noFill/>
          </a:ln>
        </p:spPr>
      </p:pic>
      <p:pic>
        <p:nvPicPr>
          <p:cNvPr id="1014" name="Chart 8" descr=""/>
          <p:cNvPicPr/>
          <p:nvPr/>
        </p:nvPicPr>
        <p:blipFill>
          <a:blip r:embed="rId2"/>
          <a:stretch/>
        </p:blipFill>
        <p:spPr>
          <a:xfrm>
            <a:off x="3486240" y="1298520"/>
            <a:ext cx="2171520" cy="2560680"/>
          </a:xfrm>
          <a:prstGeom prst="rect">
            <a:avLst/>
          </a:prstGeom>
          <a:ln w="0">
            <a:noFill/>
          </a:ln>
        </p:spPr>
      </p:pic>
      <p:pic>
        <p:nvPicPr>
          <p:cNvPr id="1015" name="Chart 8" descr=""/>
          <p:cNvPicPr/>
          <p:nvPr/>
        </p:nvPicPr>
        <p:blipFill>
          <a:blip r:embed="rId3"/>
          <a:stretch/>
        </p:blipFill>
        <p:spPr>
          <a:xfrm>
            <a:off x="5937120" y="1298520"/>
            <a:ext cx="2176560" cy="2560680"/>
          </a:xfrm>
          <a:prstGeom prst="rect">
            <a:avLst/>
          </a:prstGeom>
          <a:ln w="0">
            <a:noFill/>
          </a:ln>
        </p:spPr>
      </p:pic>
      <p:sp>
        <p:nvSpPr>
          <p:cNvPr id="1016" name="Elipse 1"/>
          <p:cNvSpPr/>
          <p:nvPr/>
        </p:nvSpPr>
        <p:spPr>
          <a:xfrm>
            <a:off x="1484280" y="1989000"/>
            <a:ext cx="1166760" cy="1165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17" name="Elipse 22"/>
          <p:cNvSpPr/>
          <p:nvPr/>
        </p:nvSpPr>
        <p:spPr>
          <a:xfrm>
            <a:off x="3989520" y="1989000"/>
            <a:ext cx="1164960" cy="1165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18" name="Elipse 23"/>
          <p:cNvSpPr/>
          <p:nvPr/>
        </p:nvSpPr>
        <p:spPr>
          <a:xfrm>
            <a:off x="6442200" y="1989000"/>
            <a:ext cx="1166760" cy="1165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Bone timeline</a:t>
            </a:r>
            <a:endParaRPr b="0" lang="en-US" sz="4000" spc="-1" strike="noStrike">
              <a:solidFill>
                <a:srgbClr val="000000"/>
              </a:solidFill>
              <a:latin typeface="Calibri"/>
            </a:endParaRPr>
          </a:p>
        </p:txBody>
      </p:sp>
      <p:sp>
        <p:nvSpPr>
          <p:cNvPr id="1020"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grpSp>
        <p:nvGrpSpPr>
          <p:cNvPr id="1021" name="Agrupar 4"/>
          <p:cNvGrpSpPr/>
          <p:nvPr/>
        </p:nvGrpSpPr>
        <p:grpSpPr>
          <a:xfrm>
            <a:off x="2141640" y="2265480"/>
            <a:ext cx="1049400" cy="612720"/>
            <a:chOff x="2141640" y="2265480"/>
            <a:chExt cx="1049400" cy="612720"/>
          </a:xfrm>
        </p:grpSpPr>
        <p:sp>
          <p:nvSpPr>
            <p:cNvPr id="1022" name="Forma libre 51"/>
            <p:cNvSpPr/>
            <p:nvPr/>
          </p:nvSpPr>
          <p:spPr>
            <a:xfrm rot="16200000">
              <a:off x="2659320" y="2451600"/>
              <a:ext cx="324720" cy="25344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023" name="Rectángulo redondeado 6"/>
            <p:cNvSpPr/>
            <p:nvPr/>
          </p:nvSpPr>
          <p:spPr>
            <a:xfrm rot="16200000">
              <a:off x="2853720" y="2365920"/>
              <a:ext cx="257400" cy="417240"/>
            </a:xfrm>
            <a:custGeom>
              <a:avLst/>
              <a:gdLst>
                <a:gd name="textAreaLeft" fmla="*/ 37440 w 257400"/>
                <a:gd name="textAreaRight" fmla="*/ 219960 w 257400"/>
                <a:gd name="textAreaTop" fmla="*/ 37440 h 417240"/>
                <a:gd name="textAreaBottom" fmla="*/ 379800 h 417240"/>
              </a:gdLst>
              <a:ahLst/>
              <a:rect l="textAreaLeft" t="textAreaTop" r="textAreaRight" b="textAreaBottom"/>
              <a:pathLst>
                <a:path w="21600" h="34994">
                  <a:moveTo>
                    <a:pt x="10800" y="0"/>
                  </a:moveTo>
                  <a:arcTo wR="10800" hR="10800" stAng="16200000" swAng="-5400000"/>
                  <a:lnTo>
                    <a:pt x="0" y="24194"/>
                  </a:lnTo>
                  <a:arcTo wR="10800" hR="10800" stAng="10800000" swAng="-5400000"/>
                  <a:lnTo>
                    <a:pt x="10800" y="34994"/>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24" name="Rectángulo redondeado 55"/>
            <p:cNvSpPr/>
            <p:nvPr/>
          </p:nvSpPr>
          <p:spPr>
            <a:xfrm rot="16200000">
              <a:off x="2141280" y="2265840"/>
              <a:ext cx="612720" cy="61200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025" name="AutoShape 14"/>
          <p:cNvSpPr/>
          <p:nvPr/>
        </p:nvSpPr>
        <p:spPr>
          <a:xfrm>
            <a:off x="2298600" y="238140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grpSp>
        <p:nvGrpSpPr>
          <p:cNvPr id="1026" name="Agrupar 3"/>
          <p:cNvGrpSpPr/>
          <p:nvPr/>
        </p:nvGrpSpPr>
        <p:grpSpPr>
          <a:xfrm>
            <a:off x="3306600" y="2271600"/>
            <a:ext cx="1047960" cy="1049400"/>
            <a:chOff x="3306600" y="2271600"/>
            <a:chExt cx="1047960" cy="1049400"/>
          </a:xfrm>
        </p:grpSpPr>
        <p:pic>
          <p:nvPicPr>
            <p:cNvPr id="1027" name="Agrupar 47" descr=""/>
            <p:cNvPicPr/>
            <p:nvPr/>
          </p:nvPicPr>
          <p:blipFill>
            <a:blip r:embed="rId1"/>
            <a:stretch/>
          </p:blipFill>
          <p:spPr>
            <a:xfrm>
              <a:off x="3306600" y="2271600"/>
              <a:ext cx="1047960" cy="610200"/>
            </a:xfrm>
            <a:prstGeom prst="rect">
              <a:avLst/>
            </a:prstGeom>
            <a:ln w="0">
              <a:noFill/>
            </a:ln>
          </p:spPr>
        </p:pic>
        <p:pic>
          <p:nvPicPr>
            <p:cNvPr id="1028" name="Agrupar 52" descr=""/>
            <p:cNvPicPr/>
            <p:nvPr/>
          </p:nvPicPr>
          <p:blipFill>
            <a:blip r:embed="rId2"/>
            <a:stretch/>
          </p:blipFill>
          <p:spPr>
            <a:xfrm>
              <a:off x="3891600" y="2820600"/>
              <a:ext cx="322920" cy="500400"/>
            </a:xfrm>
            <a:prstGeom prst="rect">
              <a:avLst/>
            </a:prstGeom>
            <a:ln w="0">
              <a:noFill/>
            </a:ln>
          </p:spPr>
        </p:pic>
      </p:grpSp>
      <p:sp>
        <p:nvSpPr>
          <p:cNvPr id="1029" name="AutoShape 14"/>
          <p:cNvSpPr/>
          <p:nvPr/>
        </p:nvSpPr>
        <p:spPr>
          <a:xfrm>
            <a:off x="3917880" y="238140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pic>
        <p:nvPicPr>
          <p:cNvPr id="1030" name="Agrupar 59" descr=""/>
          <p:cNvPicPr/>
          <p:nvPr/>
        </p:nvPicPr>
        <p:blipFill>
          <a:blip r:embed="rId3"/>
          <a:stretch/>
        </p:blipFill>
        <p:spPr>
          <a:xfrm>
            <a:off x="3743280" y="3438360"/>
            <a:ext cx="1047960" cy="1047960"/>
          </a:xfrm>
          <a:prstGeom prst="rect">
            <a:avLst/>
          </a:prstGeom>
          <a:ln w="0">
            <a:noFill/>
          </a:ln>
        </p:spPr>
      </p:pic>
      <p:sp>
        <p:nvSpPr>
          <p:cNvPr id="1031" name="AutoShape 14"/>
          <p:cNvSpPr/>
          <p:nvPr/>
        </p:nvSpPr>
        <p:spPr>
          <a:xfrm>
            <a:off x="3917880" y="397368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32" name="Text Placeholder 20"/>
          <p:cNvSpPr/>
          <p:nvPr/>
        </p:nvSpPr>
        <p:spPr>
          <a:xfrm>
            <a:off x="468360" y="2228760"/>
            <a:ext cx="1562040" cy="3049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33" name="Text Placeholder 23"/>
          <p:cNvSpPr/>
          <p:nvPr/>
        </p:nvSpPr>
        <p:spPr>
          <a:xfrm>
            <a:off x="468360" y="2481120"/>
            <a:ext cx="1562040" cy="35424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34" name="Text Placeholder 20"/>
          <p:cNvSpPr/>
          <p:nvPr/>
        </p:nvSpPr>
        <p:spPr>
          <a:xfrm>
            <a:off x="4521240" y="2228760"/>
            <a:ext cx="156204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35" name="Text Placeholder 23"/>
          <p:cNvSpPr/>
          <p:nvPr/>
        </p:nvSpPr>
        <p:spPr>
          <a:xfrm>
            <a:off x="4521240" y="248112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36" name="Text Placeholder 20"/>
          <p:cNvSpPr/>
          <p:nvPr/>
        </p:nvSpPr>
        <p:spPr>
          <a:xfrm>
            <a:off x="2082960" y="3916440"/>
            <a:ext cx="1563480" cy="3031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37" name="Text Placeholder 23"/>
          <p:cNvSpPr/>
          <p:nvPr/>
        </p:nvSpPr>
        <p:spPr>
          <a:xfrm>
            <a:off x="2082960" y="4168800"/>
            <a:ext cx="1563480" cy="35388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grpSp>
        <p:nvGrpSpPr>
          <p:cNvPr id="1038" name="Agrupar 98"/>
          <p:cNvGrpSpPr/>
          <p:nvPr/>
        </p:nvGrpSpPr>
        <p:grpSpPr>
          <a:xfrm>
            <a:off x="4930560" y="3854520"/>
            <a:ext cx="3539880" cy="611280"/>
            <a:chOff x="4930560" y="3854520"/>
            <a:chExt cx="3539880" cy="611280"/>
          </a:xfrm>
        </p:grpSpPr>
        <p:sp>
          <p:nvSpPr>
            <p:cNvPr id="1039" name="Forma libre 99"/>
            <p:cNvSpPr/>
            <p:nvPr/>
          </p:nvSpPr>
          <p:spPr>
            <a:xfrm rot="5400000">
              <a:off x="7629120" y="4026960"/>
              <a:ext cx="324000" cy="25308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040" name="Rectángulo redondeado 102"/>
            <p:cNvSpPr/>
            <p:nvPr/>
          </p:nvSpPr>
          <p:spPr>
            <a:xfrm rot="5400000">
              <a:off x="6256440" y="2702880"/>
              <a:ext cx="256680" cy="2908440"/>
            </a:xfrm>
            <a:custGeom>
              <a:avLst/>
              <a:gdLst>
                <a:gd name="textAreaLeft" fmla="*/ 37440 w 256680"/>
                <a:gd name="textAreaRight" fmla="*/ 219240 w 256680"/>
                <a:gd name="textAreaTop" fmla="*/ 37440 h 2908440"/>
                <a:gd name="textAreaBottom" fmla="*/ 2871000 h 2908440"/>
              </a:gdLst>
              <a:ahLst/>
              <a:rect l="textAreaLeft" t="textAreaTop" r="textAreaRight" b="textAreaBottom"/>
              <a:pathLst>
                <a:path w="21600" h="244437">
                  <a:moveTo>
                    <a:pt x="10800" y="0"/>
                  </a:moveTo>
                  <a:arcTo wR="10800" hR="10800" stAng="16200000" swAng="-5400000"/>
                  <a:lnTo>
                    <a:pt x="0" y="233637"/>
                  </a:lnTo>
                  <a:arcTo wR="10800" hR="10800" stAng="10800000" swAng="-5400000"/>
                  <a:lnTo>
                    <a:pt x="10800" y="244437"/>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41" name="Rectángulo redondeado 116"/>
            <p:cNvSpPr/>
            <p:nvPr/>
          </p:nvSpPr>
          <p:spPr>
            <a:xfrm rot="5400000">
              <a:off x="7859160" y="3854520"/>
              <a:ext cx="611280" cy="61128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042" name="Text Placeholder 20"/>
          <p:cNvSpPr/>
          <p:nvPr/>
        </p:nvSpPr>
        <p:spPr>
          <a:xfrm>
            <a:off x="6907320" y="3133800"/>
            <a:ext cx="1563480" cy="3031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43" name="Text Placeholder 23"/>
          <p:cNvSpPr/>
          <p:nvPr/>
        </p:nvSpPr>
        <p:spPr>
          <a:xfrm>
            <a:off x="6907320" y="3386160"/>
            <a:ext cx="1563480" cy="35244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44" name="AutoShape 14"/>
          <p:cNvSpPr/>
          <p:nvPr/>
        </p:nvSpPr>
        <p:spPr>
          <a:xfrm>
            <a:off x="8037360" y="393696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Agrupar 11" descr=""/>
          <p:cNvPicPr/>
          <p:nvPr/>
        </p:nvPicPr>
        <p:blipFill>
          <a:blip r:embed="rId1"/>
          <a:stretch/>
        </p:blipFill>
        <p:spPr>
          <a:xfrm>
            <a:off x="6334200" y="3571920"/>
            <a:ext cx="615960" cy="1049400"/>
          </a:xfrm>
          <a:prstGeom prst="rect">
            <a:avLst/>
          </a:prstGeom>
          <a:ln w="0">
            <a:noFill/>
          </a:ln>
        </p:spPr>
      </p:pic>
      <p:pic>
        <p:nvPicPr>
          <p:cNvPr id="1046" name="Agrupar 9" descr=""/>
          <p:cNvPicPr/>
          <p:nvPr/>
        </p:nvPicPr>
        <p:blipFill>
          <a:blip r:embed="rId2"/>
          <a:stretch/>
        </p:blipFill>
        <p:spPr>
          <a:xfrm>
            <a:off x="3328920" y="3571920"/>
            <a:ext cx="609840" cy="1049400"/>
          </a:xfrm>
          <a:prstGeom prst="rect">
            <a:avLst/>
          </a:prstGeom>
          <a:ln w="0">
            <a:noFill/>
          </a:ln>
        </p:spPr>
      </p:pic>
      <p:pic>
        <p:nvPicPr>
          <p:cNvPr id="1047" name="Agrupar 7" descr=""/>
          <p:cNvPicPr/>
          <p:nvPr/>
        </p:nvPicPr>
        <p:blipFill>
          <a:blip r:embed="rId3"/>
          <a:stretch/>
        </p:blipFill>
        <p:spPr>
          <a:xfrm>
            <a:off x="480960" y="3571920"/>
            <a:ext cx="609480" cy="1049400"/>
          </a:xfrm>
          <a:prstGeom prst="rect">
            <a:avLst/>
          </a:prstGeom>
          <a:ln w="0">
            <a:noFill/>
          </a:ln>
        </p:spPr>
      </p:pic>
      <p:sp>
        <p:nvSpPr>
          <p:cNvPr id="1048"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imeline One</a:t>
            </a:r>
            <a:endParaRPr b="0" lang="en-US" sz="4000" spc="-1" strike="noStrike">
              <a:solidFill>
                <a:srgbClr val="000000"/>
              </a:solidFill>
              <a:latin typeface="Calibri"/>
            </a:endParaRPr>
          </a:p>
        </p:txBody>
      </p:sp>
      <p:sp>
        <p:nvSpPr>
          <p:cNvPr id="1049"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grpSp>
        <p:nvGrpSpPr>
          <p:cNvPr id="1050" name="Agrupar 4"/>
          <p:cNvGrpSpPr/>
          <p:nvPr/>
        </p:nvGrpSpPr>
        <p:grpSpPr>
          <a:xfrm>
            <a:off x="477720" y="1946160"/>
            <a:ext cx="612720" cy="1049400"/>
            <a:chOff x="477720" y="1946160"/>
            <a:chExt cx="612720" cy="1049400"/>
          </a:xfrm>
        </p:grpSpPr>
        <p:sp>
          <p:nvSpPr>
            <p:cNvPr id="1051" name="Forma libre 51"/>
            <p:cNvSpPr/>
            <p:nvPr/>
          </p:nvSpPr>
          <p:spPr>
            <a:xfrm>
              <a:off x="615240" y="2499480"/>
              <a:ext cx="324720" cy="25344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004b6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052" name="Rectángulo redondeado 6"/>
            <p:cNvSpPr/>
            <p:nvPr/>
          </p:nvSpPr>
          <p:spPr>
            <a:xfrm>
              <a:off x="652680" y="2578320"/>
              <a:ext cx="257400" cy="417240"/>
            </a:xfrm>
            <a:custGeom>
              <a:avLst/>
              <a:gdLst>
                <a:gd name="textAreaLeft" fmla="*/ 37440 w 257400"/>
                <a:gd name="textAreaRight" fmla="*/ 219960 w 257400"/>
                <a:gd name="textAreaTop" fmla="*/ 37440 h 417240"/>
                <a:gd name="textAreaBottom" fmla="*/ 379800 h 417240"/>
              </a:gdLst>
              <a:ahLst/>
              <a:rect l="textAreaLeft" t="textAreaTop" r="textAreaRight" b="textAreaBottom"/>
              <a:pathLst>
                <a:path w="21600" h="34994">
                  <a:moveTo>
                    <a:pt x="10800" y="0"/>
                  </a:moveTo>
                  <a:arcTo wR="10800" hR="10800" stAng="16200000" swAng="-5400000"/>
                  <a:lnTo>
                    <a:pt x="0" y="24194"/>
                  </a:lnTo>
                  <a:arcTo wR="10800" hR="10800" stAng="10800000" swAng="-5400000"/>
                  <a:lnTo>
                    <a:pt x="10800" y="34994"/>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53" name="Rectángulo redondeado 55"/>
            <p:cNvSpPr/>
            <p:nvPr/>
          </p:nvSpPr>
          <p:spPr>
            <a:xfrm>
              <a:off x="477720" y="1946160"/>
              <a:ext cx="612720" cy="61200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054" name="Text Placeholder 20"/>
          <p:cNvSpPr/>
          <p:nvPr/>
        </p:nvSpPr>
        <p:spPr>
          <a:xfrm>
            <a:off x="1255680" y="1906560"/>
            <a:ext cx="15638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55" name="Text Placeholder 23"/>
          <p:cNvSpPr/>
          <p:nvPr/>
        </p:nvSpPr>
        <p:spPr>
          <a:xfrm>
            <a:off x="1255680" y="2158920"/>
            <a:ext cx="15638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56" name="AutoShape 14"/>
          <p:cNvSpPr/>
          <p:nvPr/>
        </p:nvSpPr>
        <p:spPr>
          <a:xfrm>
            <a:off x="642960" y="4119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57" name="AutoShape 14"/>
          <p:cNvSpPr/>
          <p:nvPr/>
        </p:nvSpPr>
        <p:spPr>
          <a:xfrm>
            <a:off x="636480" y="2073240"/>
            <a:ext cx="28440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58" name="Text Placeholder 20"/>
          <p:cNvSpPr/>
          <p:nvPr/>
        </p:nvSpPr>
        <p:spPr>
          <a:xfrm>
            <a:off x="1255680" y="3983040"/>
            <a:ext cx="15638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59" name="Text Placeholder 23"/>
          <p:cNvSpPr/>
          <p:nvPr/>
        </p:nvSpPr>
        <p:spPr>
          <a:xfrm>
            <a:off x="1255680" y="4235400"/>
            <a:ext cx="15638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1060" name="Agrupar 8" descr=""/>
          <p:cNvPicPr/>
          <p:nvPr/>
        </p:nvPicPr>
        <p:blipFill>
          <a:blip r:embed="rId4"/>
          <a:stretch/>
        </p:blipFill>
        <p:spPr>
          <a:xfrm>
            <a:off x="3328920" y="1944720"/>
            <a:ext cx="609840" cy="1047600"/>
          </a:xfrm>
          <a:prstGeom prst="rect">
            <a:avLst/>
          </a:prstGeom>
          <a:ln w="0">
            <a:noFill/>
          </a:ln>
        </p:spPr>
      </p:pic>
      <p:sp>
        <p:nvSpPr>
          <p:cNvPr id="1061" name="Text Placeholder 20"/>
          <p:cNvSpPr/>
          <p:nvPr/>
        </p:nvSpPr>
        <p:spPr>
          <a:xfrm>
            <a:off x="4103640" y="190656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62" name="Text Placeholder 23"/>
          <p:cNvSpPr/>
          <p:nvPr/>
        </p:nvSpPr>
        <p:spPr>
          <a:xfrm>
            <a:off x="4103640" y="215892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63" name="AutoShape 14"/>
          <p:cNvSpPr/>
          <p:nvPr/>
        </p:nvSpPr>
        <p:spPr>
          <a:xfrm>
            <a:off x="3489480" y="4119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64" name="AutoShape 14"/>
          <p:cNvSpPr/>
          <p:nvPr/>
        </p:nvSpPr>
        <p:spPr>
          <a:xfrm>
            <a:off x="3483000" y="207324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65" name="Text Placeholder 20"/>
          <p:cNvSpPr/>
          <p:nvPr/>
        </p:nvSpPr>
        <p:spPr>
          <a:xfrm>
            <a:off x="4103640" y="398304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66" name="Text Placeholder 23"/>
          <p:cNvSpPr/>
          <p:nvPr/>
        </p:nvSpPr>
        <p:spPr>
          <a:xfrm>
            <a:off x="4103640" y="42354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pic>
        <p:nvPicPr>
          <p:cNvPr id="1067" name="Agrupar 10" descr=""/>
          <p:cNvPicPr/>
          <p:nvPr/>
        </p:nvPicPr>
        <p:blipFill>
          <a:blip r:embed="rId5"/>
          <a:stretch/>
        </p:blipFill>
        <p:spPr>
          <a:xfrm>
            <a:off x="6334200" y="1944720"/>
            <a:ext cx="615960" cy="1047600"/>
          </a:xfrm>
          <a:prstGeom prst="rect">
            <a:avLst/>
          </a:prstGeom>
          <a:ln w="0">
            <a:noFill/>
          </a:ln>
        </p:spPr>
      </p:pic>
      <p:sp>
        <p:nvSpPr>
          <p:cNvPr id="1068" name="Text Placeholder 20"/>
          <p:cNvSpPr/>
          <p:nvPr/>
        </p:nvSpPr>
        <p:spPr>
          <a:xfrm>
            <a:off x="7113600" y="190656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69" name="Text Placeholder 23"/>
          <p:cNvSpPr/>
          <p:nvPr/>
        </p:nvSpPr>
        <p:spPr>
          <a:xfrm>
            <a:off x="7113600" y="215892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70" name="AutoShape 14"/>
          <p:cNvSpPr/>
          <p:nvPr/>
        </p:nvSpPr>
        <p:spPr>
          <a:xfrm>
            <a:off x="6499080" y="411948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71" name="AutoShape 14"/>
          <p:cNvSpPr/>
          <p:nvPr/>
        </p:nvSpPr>
        <p:spPr>
          <a:xfrm>
            <a:off x="6492960" y="207324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072" name="Text Placeholder 20"/>
          <p:cNvSpPr/>
          <p:nvPr/>
        </p:nvSpPr>
        <p:spPr>
          <a:xfrm>
            <a:off x="7113600" y="398304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73" name="Text Placeholder 23"/>
          <p:cNvSpPr/>
          <p:nvPr/>
        </p:nvSpPr>
        <p:spPr>
          <a:xfrm>
            <a:off x="7113600" y="4235400"/>
            <a:ext cx="156204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74" name="Rectángulo redondeado 115"/>
          <p:cNvSpPr/>
          <p:nvPr/>
        </p:nvSpPr>
        <p:spPr>
          <a:xfrm rot="5400000">
            <a:off x="3576960" y="186120"/>
            <a:ext cx="258840" cy="6140520"/>
          </a:xfrm>
          <a:custGeom>
            <a:avLst/>
            <a:gdLst>
              <a:gd name="textAreaLeft" fmla="*/ 37800 w 258840"/>
              <a:gd name="textAreaRight" fmla="*/ 221040 w 258840"/>
              <a:gd name="textAreaTop" fmla="*/ 37800 h 6140520"/>
              <a:gd name="textAreaBottom" fmla="*/ 6102720 h 6140520"/>
            </a:gdLst>
            <a:ahLst/>
            <a:rect l="textAreaLeft" t="textAreaTop" r="textAreaRight" b="textAreaBottom"/>
            <a:pathLst>
              <a:path w="21600" h="511740">
                <a:moveTo>
                  <a:pt x="10800" y="0"/>
                </a:moveTo>
                <a:arcTo wR="10800" hR="10800" stAng="16200000" swAng="-5400000"/>
                <a:lnTo>
                  <a:pt x="0" y="500940"/>
                </a:lnTo>
                <a:arcTo wR="10800" hR="10800" stAng="10800000" swAng="-5400000"/>
                <a:lnTo>
                  <a:pt x="10800" y="511740"/>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ángulo redondeado 106"/>
          <p:cNvSpPr/>
          <p:nvPr/>
        </p:nvSpPr>
        <p:spPr>
          <a:xfrm>
            <a:off x="7262640" y="3564000"/>
            <a:ext cx="613080" cy="611280"/>
          </a:xfrm>
          <a:prstGeom prst="roundRect">
            <a:avLst>
              <a:gd name="adj" fmla="val 50000"/>
            </a:avLst>
          </a:prstGeom>
          <a:solidFill>
            <a:srgbClr val="890c1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76" name="Rectángulo redondeado 79"/>
          <p:cNvSpPr/>
          <p:nvPr/>
        </p:nvSpPr>
        <p:spPr>
          <a:xfrm>
            <a:off x="4276800" y="3564000"/>
            <a:ext cx="612720" cy="611280"/>
          </a:xfrm>
          <a:prstGeom prst="roundRect">
            <a:avLst>
              <a:gd name="adj" fmla="val 50000"/>
            </a:avLst>
          </a:pr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77" name="Rectángulo redondeado 56"/>
          <p:cNvSpPr/>
          <p:nvPr/>
        </p:nvSpPr>
        <p:spPr>
          <a:xfrm>
            <a:off x="1292400" y="3564000"/>
            <a:ext cx="612720" cy="611280"/>
          </a:xfrm>
          <a:prstGeom prst="roundRect">
            <a:avLst>
              <a:gd name="adj" fmla="val 50000"/>
            </a:avLst>
          </a:prstGeom>
          <a:solidFill>
            <a:srgbClr val="009ac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78"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imeline Two</a:t>
            </a:r>
            <a:endParaRPr b="0" lang="en-US" sz="4000" spc="-1" strike="noStrike">
              <a:solidFill>
                <a:srgbClr val="000000"/>
              </a:solidFill>
              <a:latin typeface="Calibri"/>
            </a:endParaRPr>
          </a:p>
        </p:txBody>
      </p:sp>
      <p:sp>
        <p:nvSpPr>
          <p:cNvPr id="1079"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080" name="Rectángulo redondeado 55"/>
          <p:cNvSpPr/>
          <p:nvPr/>
        </p:nvSpPr>
        <p:spPr>
          <a:xfrm>
            <a:off x="1292400" y="2340000"/>
            <a:ext cx="612720" cy="611280"/>
          </a:xfrm>
          <a:prstGeom prst="roundRect">
            <a:avLst>
              <a:gd name="adj" fmla="val 50000"/>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1" name="Text Placeholder 20"/>
          <p:cNvSpPr/>
          <p:nvPr/>
        </p:nvSpPr>
        <p:spPr>
          <a:xfrm>
            <a:off x="841320" y="1619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82" name="Text Placeholder 23"/>
          <p:cNvSpPr/>
          <p:nvPr/>
        </p:nvSpPr>
        <p:spPr>
          <a:xfrm>
            <a:off x="841320" y="1871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83" name="Rectángulo redondeado 73"/>
          <p:cNvSpPr/>
          <p:nvPr/>
        </p:nvSpPr>
        <p:spPr>
          <a:xfrm>
            <a:off x="4276800" y="234000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4" name="Text Placeholder 20"/>
          <p:cNvSpPr/>
          <p:nvPr/>
        </p:nvSpPr>
        <p:spPr>
          <a:xfrm>
            <a:off x="3801960" y="1619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85" name="Text Placeholder 23"/>
          <p:cNvSpPr/>
          <p:nvPr/>
        </p:nvSpPr>
        <p:spPr>
          <a:xfrm>
            <a:off x="3801960" y="1871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86" name="Rectángulo redondeado 105"/>
          <p:cNvSpPr/>
          <p:nvPr/>
        </p:nvSpPr>
        <p:spPr>
          <a:xfrm>
            <a:off x="7262640" y="2340000"/>
            <a:ext cx="613080" cy="611280"/>
          </a:xfrm>
          <a:prstGeom prst="roundRect">
            <a:avLst>
              <a:gd name="adj" fmla="val 50000"/>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87" name="Text Placeholder 20"/>
          <p:cNvSpPr/>
          <p:nvPr/>
        </p:nvSpPr>
        <p:spPr>
          <a:xfrm>
            <a:off x="6783480" y="1619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88" name="Text Placeholder 23"/>
          <p:cNvSpPr/>
          <p:nvPr/>
        </p:nvSpPr>
        <p:spPr>
          <a:xfrm>
            <a:off x="6783480" y="1871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89" name="Rectángulo redondeado 115"/>
          <p:cNvSpPr/>
          <p:nvPr/>
        </p:nvSpPr>
        <p:spPr>
          <a:xfrm rot="5400000">
            <a:off x="4438440" y="196560"/>
            <a:ext cx="258840" cy="6142320"/>
          </a:xfrm>
          <a:custGeom>
            <a:avLst/>
            <a:gdLst>
              <a:gd name="textAreaLeft" fmla="*/ 37800 w 258840"/>
              <a:gd name="textAreaRight" fmla="*/ 221040 w 258840"/>
              <a:gd name="textAreaTop" fmla="*/ 37800 h 6142320"/>
              <a:gd name="textAreaBottom" fmla="*/ 6104520 h 6142320"/>
            </a:gdLst>
            <a:ahLst/>
            <a:rect l="textAreaLeft" t="textAreaTop" r="textAreaRight" b="textAreaBottom"/>
            <a:pathLst>
              <a:path w="21600" h="511890">
                <a:moveTo>
                  <a:pt x="10800" y="0"/>
                </a:moveTo>
                <a:arcTo wR="10800" hR="10800" stAng="16200000" swAng="-5400000"/>
                <a:lnTo>
                  <a:pt x="0" y="501090"/>
                </a:lnTo>
                <a:arcTo wR="10800" hR="10800" stAng="10800000" swAng="-5400000"/>
                <a:lnTo>
                  <a:pt x="10800" y="511890"/>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0" name="Text Placeholder 20"/>
          <p:cNvSpPr/>
          <p:nvPr/>
        </p:nvSpPr>
        <p:spPr>
          <a:xfrm>
            <a:off x="841320" y="42782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91" name="Text Placeholder 23"/>
          <p:cNvSpPr/>
          <p:nvPr/>
        </p:nvSpPr>
        <p:spPr>
          <a:xfrm>
            <a:off x="841320" y="4541760"/>
            <a:ext cx="1562040" cy="35424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92" name="Text Placeholder 20"/>
          <p:cNvSpPr/>
          <p:nvPr/>
        </p:nvSpPr>
        <p:spPr>
          <a:xfrm>
            <a:off x="3801960" y="42782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93" name="Text Placeholder 23"/>
          <p:cNvSpPr/>
          <p:nvPr/>
        </p:nvSpPr>
        <p:spPr>
          <a:xfrm>
            <a:off x="3801960" y="4541760"/>
            <a:ext cx="1562040" cy="35424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94" name="Text Placeholder 20"/>
          <p:cNvSpPr/>
          <p:nvPr/>
        </p:nvSpPr>
        <p:spPr>
          <a:xfrm>
            <a:off x="6811920" y="427824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095" name="Text Placeholder 23"/>
          <p:cNvSpPr/>
          <p:nvPr/>
        </p:nvSpPr>
        <p:spPr>
          <a:xfrm>
            <a:off x="6811920" y="4541760"/>
            <a:ext cx="1562040" cy="35424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096" name="Rectángulo redondeado 54"/>
          <p:cNvSpPr/>
          <p:nvPr/>
        </p:nvSpPr>
        <p:spPr>
          <a:xfrm rot="10800000">
            <a:off x="1468080" y="3022200"/>
            <a:ext cx="258840" cy="477720"/>
          </a:xfrm>
          <a:custGeom>
            <a:avLst/>
            <a:gdLst>
              <a:gd name="textAreaLeft" fmla="*/ 37800 w 258840"/>
              <a:gd name="textAreaRight" fmla="*/ 221040 w 258840"/>
              <a:gd name="textAreaTop" fmla="*/ 37800 h 477720"/>
              <a:gd name="textAreaBottom" fmla="*/ 439920 h 477720"/>
            </a:gdLst>
            <a:ahLst/>
            <a:rect l="textAreaLeft" t="textAreaTop" r="textAreaRight" b="textAreaBottom"/>
            <a:pathLst>
              <a:path w="21600" h="39840">
                <a:moveTo>
                  <a:pt x="10800" y="0"/>
                </a:moveTo>
                <a:arcTo wR="10800" hR="10800" stAng="16200000" swAng="-5400000"/>
                <a:lnTo>
                  <a:pt x="0" y="29040"/>
                </a:lnTo>
                <a:arcTo wR="10800" hR="10800" stAng="10800000" swAng="-5400000"/>
                <a:lnTo>
                  <a:pt x="10800" y="39840"/>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7" name="Rectángulo redondeado 57"/>
          <p:cNvSpPr/>
          <p:nvPr/>
        </p:nvSpPr>
        <p:spPr>
          <a:xfrm rot="10800000">
            <a:off x="4454640" y="3022200"/>
            <a:ext cx="257040" cy="477720"/>
          </a:xfrm>
          <a:custGeom>
            <a:avLst/>
            <a:gdLst>
              <a:gd name="textAreaLeft" fmla="*/ 37440 w 257040"/>
              <a:gd name="textAreaRight" fmla="*/ 219600 w 257040"/>
              <a:gd name="textAreaTop" fmla="*/ 37440 h 477720"/>
              <a:gd name="textAreaBottom" fmla="*/ 440280 h 477720"/>
            </a:gdLst>
            <a:ahLst/>
            <a:rect l="textAreaLeft" t="textAreaTop" r="textAreaRight" b="textAreaBottom"/>
            <a:pathLst>
              <a:path w="21600" h="40119">
                <a:moveTo>
                  <a:pt x="10800" y="0"/>
                </a:moveTo>
                <a:arcTo wR="10800" hR="10800" stAng="16200000" swAng="-5400000"/>
                <a:lnTo>
                  <a:pt x="0" y="29319"/>
                </a:lnTo>
                <a:arcTo wR="10800" hR="10800" stAng="10800000" swAng="-5400000"/>
                <a:lnTo>
                  <a:pt x="10800" y="40119"/>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8" name="Rectángulo redondeado 58"/>
          <p:cNvSpPr/>
          <p:nvPr/>
        </p:nvSpPr>
        <p:spPr>
          <a:xfrm rot="10800000">
            <a:off x="7453440" y="3022200"/>
            <a:ext cx="257040" cy="477720"/>
          </a:xfrm>
          <a:custGeom>
            <a:avLst/>
            <a:gdLst>
              <a:gd name="textAreaLeft" fmla="*/ 37440 w 257040"/>
              <a:gd name="textAreaRight" fmla="*/ 219600 w 257040"/>
              <a:gd name="textAreaTop" fmla="*/ 37440 h 477720"/>
              <a:gd name="textAreaBottom" fmla="*/ 440280 h 477720"/>
            </a:gdLst>
            <a:ahLst/>
            <a:rect l="textAreaLeft" t="textAreaTop" r="textAreaRight" b="textAreaBottom"/>
            <a:pathLst>
              <a:path w="21600" h="40119">
                <a:moveTo>
                  <a:pt x="10800" y="0"/>
                </a:moveTo>
                <a:arcTo wR="10800" hR="10800" stAng="16200000" swAng="-5400000"/>
                <a:lnTo>
                  <a:pt x="0" y="29319"/>
                </a:lnTo>
                <a:arcTo wR="10800" hR="10800" stAng="10800000" swAng="-5400000"/>
                <a:lnTo>
                  <a:pt x="10800" y="40119"/>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99" name="AutoShape 14"/>
          <p:cNvSpPr/>
          <p:nvPr/>
        </p:nvSpPr>
        <p:spPr>
          <a:xfrm>
            <a:off x="1459080" y="36813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0" name="AutoShape 14"/>
          <p:cNvSpPr/>
          <p:nvPr/>
        </p:nvSpPr>
        <p:spPr>
          <a:xfrm>
            <a:off x="1452600" y="2478240"/>
            <a:ext cx="28404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1" name="AutoShape 14"/>
          <p:cNvSpPr/>
          <p:nvPr/>
        </p:nvSpPr>
        <p:spPr>
          <a:xfrm>
            <a:off x="4438800" y="36813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2" name="AutoShape 14"/>
          <p:cNvSpPr/>
          <p:nvPr/>
        </p:nvSpPr>
        <p:spPr>
          <a:xfrm>
            <a:off x="4432320" y="2478240"/>
            <a:ext cx="28404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3" name="AutoShape 14"/>
          <p:cNvSpPr/>
          <p:nvPr/>
        </p:nvSpPr>
        <p:spPr>
          <a:xfrm>
            <a:off x="7424640" y="368136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04" name="AutoShape 14"/>
          <p:cNvSpPr/>
          <p:nvPr/>
        </p:nvSpPr>
        <p:spPr>
          <a:xfrm>
            <a:off x="7418520" y="2478240"/>
            <a:ext cx="28404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Freeform 9"/>
          <p:cNvSpPr/>
          <p:nvPr/>
        </p:nvSpPr>
        <p:spPr>
          <a:xfrm flipH="1" rot="16200000">
            <a:off x="1008000" y="2227320"/>
            <a:ext cx="1797120" cy="280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9ac9"/>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6" name="Freeform 9"/>
          <p:cNvSpPr/>
          <p:nvPr/>
        </p:nvSpPr>
        <p:spPr>
          <a:xfrm rot="5400000">
            <a:off x="6380280" y="223740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fd7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7" name="Freeform 9"/>
          <p:cNvSpPr/>
          <p:nvPr/>
        </p:nvSpPr>
        <p:spPr>
          <a:xfrm rot="18900000">
            <a:off x="4705200" y="214956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a0ba1e"/>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8" name="Freeform 9"/>
          <p:cNvSpPr/>
          <p:nvPr/>
        </p:nvSpPr>
        <p:spPr>
          <a:xfrm flipH="1" rot="2700000">
            <a:off x="2676600" y="2125440"/>
            <a:ext cx="1797120" cy="280332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19705c"/>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09"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Organic System</a:t>
            </a:r>
            <a:endParaRPr b="0" lang="en-US" sz="4000" spc="-1" strike="noStrike">
              <a:solidFill>
                <a:srgbClr val="000000"/>
              </a:solidFill>
              <a:latin typeface="Calibri"/>
            </a:endParaRPr>
          </a:p>
        </p:txBody>
      </p:sp>
      <p:sp>
        <p:nvSpPr>
          <p:cNvPr id="1110"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111" name="Freeform 9"/>
          <p:cNvSpPr/>
          <p:nvPr/>
        </p:nvSpPr>
        <p:spPr>
          <a:xfrm rot="16200000">
            <a:off x="983520" y="1305360"/>
            <a:ext cx="179676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4b62"/>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2" name="Freeform 9"/>
          <p:cNvSpPr/>
          <p:nvPr/>
        </p:nvSpPr>
        <p:spPr>
          <a:xfrm flipH="1" rot="5400000">
            <a:off x="2685960" y="129456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22957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3" name="Freeform 9"/>
          <p:cNvSpPr/>
          <p:nvPr/>
        </p:nvSpPr>
        <p:spPr>
          <a:xfrm rot="16200000">
            <a:off x="4682160" y="1307160"/>
            <a:ext cx="1797120" cy="28018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4" name="Freeform 9"/>
          <p:cNvSpPr/>
          <p:nvPr/>
        </p:nvSpPr>
        <p:spPr>
          <a:xfrm flipH="1" rot="5400000">
            <a:off x="6386400" y="1306080"/>
            <a:ext cx="1797120" cy="280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ffc0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15" name="AutoShape 14"/>
          <p:cNvSpPr/>
          <p:nvPr/>
        </p:nvSpPr>
        <p:spPr>
          <a:xfrm>
            <a:off x="720720" y="2927520"/>
            <a:ext cx="336600" cy="37296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16" name="AutoShape 14"/>
          <p:cNvSpPr/>
          <p:nvPr/>
        </p:nvSpPr>
        <p:spPr>
          <a:xfrm>
            <a:off x="4346640" y="2766960"/>
            <a:ext cx="538200" cy="5936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3200" spc="-1" strike="noStrike">
                <a:solidFill>
                  <a:srgbClr val="ffffff"/>
                </a:solidFill>
                <a:latin typeface="FontAwesome"/>
                <a:ea typeface="FontAwesome"/>
              </a:rPr>
              <a:t></a:t>
            </a:r>
            <a:endParaRPr b="0" lang="en-US" sz="3200" spc="-1" strike="noStrike">
              <a:solidFill>
                <a:srgbClr val="000000"/>
              </a:solidFill>
              <a:latin typeface="Calibri"/>
            </a:endParaRPr>
          </a:p>
        </p:txBody>
      </p:sp>
      <p:sp>
        <p:nvSpPr>
          <p:cNvPr id="1117" name="AutoShape 14"/>
          <p:cNvSpPr/>
          <p:nvPr/>
        </p:nvSpPr>
        <p:spPr>
          <a:xfrm>
            <a:off x="8109000" y="2909880"/>
            <a:ext cx="3366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18" name="Text Placeholder 20"/>
          <p:cNvSpPr/>
          <p:nvPr/>
        </p:nvSpPr>
        <p:spPr>
          <a:xfrm>
            <a:off x="2286000" y="2117880"/>
            <a:ext cx="923760" cy="53316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19" name="Text Placeholder 20"/>
          <p:cNvSpPr/>
          <p:nvPr/>
        </p:nvSpPr>
        <p:spPr>
          <a:xfrm>
            <a:off x="6006960" y="2117880"/>
            <a:ext cx="924120" cy="53316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20" name="Text Placeholder 20"/>
          <p:cNvSpPr/>
          <p:nvPr/>
        </p:nvSpPr>
        <p:spPr>
          <a:xfrm>
            <a:off x="2338560" y="3605040"/>
            <a:ext cx="923760" cy="5335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21" name="Text Placeholder 20"/>
          <p:cNvSpPr/>
          <p:nvPr/>
        </p:nvSpPr>
        <p:spPr>
          <a:xfrm>
            <a:off x="5954760" y="3689280"/>
            <a:ext cx="923760" cy="5335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a:t>
            </a:r>
            <a:endParaRPr b="0" lang="en-US" sz="1000" spc="-1" strike="noStrike">
              <a:solidFill>
                <a:srgbClr val="000000"/>
              </a:solidFill>
              <a:latin typeface="Calibri"/>
            </a:endParaRPr>
          </a:p>
        </p:txBody>
      </p:sp>
      <p:sp>
        <p:nvSpPr>
          <p:cNvPr id="1122" name="Text Placeholder 20"/>
          <p:cNvSpPr/>
          <p:nvPr/>
        </p:nvSpPr>
        <p:spPr>
          <a:xfrm>
            <a:off x="461880" y="1646280"/>
            <a:ext cx="156204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3" name="Text Placeholder 23"/>
          <p:cNvSpPr/>
          <p:nvPr/>
        </p:nvSpPr>
        <p:spPr>
          <a:xfrm>
            <a:off x="461880" y="189864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24" name="Text Placeholder 20"/>
          <p:cNvSpPr/>
          <p:nvPr/>
        </p:nvSpPr>
        <p:spPr>
          <a:xfrm>
            <a:off x="461880" y="4143240"/>
            <a:ext cx="156204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5" name="Text Placeholder 23"/>
          <p:cNvSpPr/>
          <p:nvPr/>
        </p:nvSpPr>
        <p:spPr>
          <a:xfrm>
            <a:off x="461880" y="4395960"/>
            <a:ext cx="156204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26" name="Text Placeholder 20"/>
          <p:cNvSpPr/>
          <p:nvPr/>
        </p:nvSpPr>
        <p:spPr>
          <a:xfrm>
            <a:off x="7108920" y="1646280"/>
            <a:ext cx="1562040" cy="30312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7" name="Text Placeholder 23"/>
          <p:cNvSpPr/>
          <p:nvPr/>
        </p:nvSpPr>
        <p:spPr>
          <a:xfrm>
            <a:off x="7108920" y="1898640"/>
            <a:ext cx="1562040" cy="35388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28" name="Text Placeholder 20"/>
          <p:cNvSpPr/>
          <p:nvPr/>
        </p:nvSpPr>
        <p:spPr>
          <a:xfrm>
            <a:off x="7108920" y="4143240"/>
            <a:ext cx="1562040" cy="303480"/>
          </a:xfrm>
          <a:prstGeom prst="rect">
            <a:avLst/>
          </a:prstGeom>
          <a:noFill/>
          <a:ln w="0">
            <a:noFill/>
          </a:ln>
        </p:spPr>
        <p:style>
          <a:lnRef idx="0"/>
          <a:fillRef idx="0"/>
          <a:effectRef idx="0"/>
          <a:fontRef idx="minor"/>
        </p:style>
        <p:txBody>
          <a:bodyPr lIns="0" rIns="0" tIns="72000" bIns="72000" anchor="t">
            <a:noAutofit/>
          </a:bodyPr>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29" name="Text Placeholder 23"/>
          <p:cNvSpPr/>
          <p:nvPr/>
        </p:nvSpPr>
        <p:spPr>
          <a:xfrm>
            <a:off x="7108920" y="4395960"/>
            <a:ext cx="1562040" cy="353880"/>
          </a:xfrm>
          <a:prstGeom prst="rect">
            <a:avLst/>
          </a:prstGeom>
          <a:noFill/>
          <a:ln w="0">
            <a:noFill/>
          </a:ln>
        </p:spPr>
        <p:style>
          <a:lnRef idx="0"/>
          <a:fillRef idx="0"/>
          <a:effectRef idx="0"/>
          <a:fontRef idx="minor"/>
        </p:style>
        <p:txBody>
          <a:bodyPr lIns="0" rIns="0" tIns="0" bIns="0" anchor="t">
            <a:noAutofit/>
          </a:bodyPr>
          <a:p>
            <a:pPr algn="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30" name="Text Placeholder 20"/>
          <p:cNvSpPr/>
          <p:nvPr/>
        </p:nvSpPr>
        <p:spPr>
          <a:xfrm>
            <a:off x="3780000" y="1646280"/>
            <a:ext cx="1562040" cy="3031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31" name="Text Placeholder 23"/>
          <p:cNvSpPr/>
          <p:nvPr/>
        </p:nvSpPr>
        <p:spPr>
          <a:xfrm>
            <a:off x="3780000" y="189864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
        <p:nvSpPr>
          <p:cNvPr id="1132" name="Text Placeholder 20"/>
          <p:cNvSpPr/>
          <p:nvPr/>
        </p:nvSpPr>
        <p:spPr>
          <a:xfrm>
            <a:off x="3780000" y="4143240"/>
            <a:ext cx="1562040" cy="30348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a:t>
            </a:r>
            <a:endParaRPr b="0" lang="en-US" sz="1000" spc="-1" strike="noStrike">
              <a:solidFill>
                <a:srgbClr val="000000"/>
              </a:solidFill>
              <a:latin typeface="Calibri"/>
            </a:endParaRPr>
          </a:p>
        </p:txBody>
      </p:sp>
      <p:sp>
        <p:nvSpPr>
          <p:cNvPr id="1133" name="Text Placeholder 23"/>
          <p:cNvSpPr/>
          <p:nvPr/>
        </p:nvSpPr>
        <p:spPr>
          <a:xfrm>
            <a:off x="3780000" y="4395960"/>
            <a:ext cx="1562040" cy="353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 sectetur adipcing elit usce</a:t>
            </a:r>
            <a:endParaRPr b="0" lang="en-US" sz="9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Placeholder 20"/>
          <p:cNvSpPr/>
          <p:nvPr/>
        </p:nvSpPr>
        <p:spPr>
          <a:xfrm>
            <a:off x="5410080" y="171144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08" name="Text Placeholder 23"/>
          <p:cNvSpPr/>
          <p:nvPr/>
        </p:nvSpPr>
        <p:spPr>
          <a:xfrm>
            <a:off x="5410080" y="19638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09" name="Rectángulo redondeado 9"/>
          <p:cNvSpPr/>
          <p:nvPr/>
        </p:nvSpPr>
        <p:spPr>
          <a:xfrm>
            <a:off x="4605480" y="176688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0" name="Text Placeholder 20"/>
          <p:cNvSpPr/>
          <p:nvPr/>
        </p:nvSpPr>
        <p:spPr>
          <a:xfrm>
            <a:off x="5410080" y="25812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11" name="Text Placeholder 23"/>
          <p:cNvSpPr/>
          <p:nvPr/>
        </p:nvSpPr>
        <p:spPr>
          <a:xfrm>
            <a:off x="5410080" y="28335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12" name="Rectángulo redondeado 12"/>
          <p:cNvSpPr/>
          <p:nvPr/>
        </p:nvSpPr>
        <p:spPr>
          <a:xfrm>
            <a:off x="4605480" y="257652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d0b90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3" name="Text Placeholder 20"/>
          <p:cNvSpPr/>
          <p:nvPr/>
        </p:nvSpPr>
        <p:spPr>
          <a:xfrm>
            <a:off x="5410080" y="338472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14" name="Text Placeholder 23"/>
          <p:cNvSpPr/>
          <p:nvPr/>
        </p:nvSpPr>
        <p:spPr>
          <a:xfrm>
            <a:off x="5410080" y="36370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15" name="Rectángulo redondeado 15"/>
          <p:cNvSpPr/>
          <p:nvPr/>
        </p:nvSpPr>
        <p:spPr>
          <a:xfrm>
            <a:off x="4605480" y="339552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cd12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6" name="Rectángulo redondeado 16"/>
          <p:cNvSpPr/>
          <p:nvPr/>
        </p:nvSpPr>
        <p:spPr>
          <a:xfrm>
            <a:off x="479520" y="176364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7" name="Rectángulo redondeado 17"/>
          <p:cNvSpPr/>
          <p:nvPr/>
        </p:nvSpPr>
        <p:spPr>
          <a:xfrm>
            <a:off x="490680" y="2576520"/>
            <a:ext cx="610920" cy="612720"/>
          </a:xfrm>
          <a:custGeom>
            <a:avLst/>
            <a:gdLst>
              <a:gd name="textAreaLeft" fmla="*/ 89280 w 610920"/>
              <a:gd name="textAreaRight" fmla="*/ 521640 w 610920"/>
              <a:gd name="textAreaTop" fmla="*/ 89280 h 612720"/>
              <a:gd name="textAreaBottom" fmla="*/ 523440 h 612720"/>
            </a:gdLst>
            <a:ahLst/>
            <a:rect l="textAreaLeft" t="textAreaTop" r="textAreaRight" b="textAreaBottom"/>
            <a:pathLst>
              <a:path w="21600" h="21664">
                <a:moveTo>
                  <a:pt x="10800" y="0"/>
                </a:moveTo>
                <a:arcTo wR="10800" hR="10800" stAng="16200000" swAng="-5400000"/>
                <a:lnTo>
                  <a:pt x="0" y="10864"/>
                </a:lnTo>
                <a:arcTo wR="10800" hR="10800" stAng="10800000" swAng="-5400000"/>
                <a:lnTo>
                  <a:pt x="10800" y="21664"/>
                </a:lnTo>
                <a:arcTo wR="10800" hR="10800" stAng="5400000" swAng="-5400000"/>
                <a:lnTo>
                  <a:pt x="21600" y="10800"/>
                </a:lnTo>
                <a:arcTo wR="10800" hR="10800"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8" name="Rectángulo redondeado 18"/>
          <p:cNvSpPr/>
          <p:nvPr/>
        </p:nvSpPr>
        <p:spPr>
          <a:xfrm>
            <a:off x="479520" y="3395520"/>
            <a:ext cx="610920" cy="611280"/>
          </a:xfrm>
          <a:custGeom>
            <a:avLst/>
            <a:gdLst>
              <a:gd name="textAreaLeft" fmla="*/ 89280 w 610920"/>
              <a:gd name="textAreaRight" fmla="*/ 521640 w 610920"/>
              <a:gd name="textAreaTop" fmla="*/ 89280 h 611280"/>
              <a:gd name="textAreaBottom" fmla="*/ 522000 h 611280"/>
            </a:gdLst>
            <a:ahLst/>
            <a:rect l="textAreaLeft" t="textAreaTop" r="textAreaRight" b="textAreaBottom"/>
            <a:pathLst>
              <a:path w="21600" h="21613">
                <a:moveTo>
                  <a:pt x="10800" y="0"/>
                </a:moveTo>
                <a:arcTo wR="10800" hR="10800" stAng="16200000" swAng="-5400000"/>
                <a:lnTo>
                  <a:pt x="0" y="10813"/>
                </a:lnTo>
                <a:arcTo wR="10800" hR="10800" stAng="10800000" swAng="-5400000"/>
                <a:lnTo>
                  <a:pt x="10800" y="21613"/>
                </a:lnTo>
                <a:arcTo wR="10800" hR="10800" stAng="5400000" swAng="-5400000"/>
                <a:lnTo>
                  <a:pt x="21600" y="10800"/>
                </a:lnTo>
                <a:arcTo wR="10800" hR="10800"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19"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Services</a:t>
            </a:r>
            <a:endParaRPr b="0" lang="en-US" sz="4000" spc="-1" strike="noStrike">
              <a:solidFill>
                <a:srgbClr val="000000"/>
              </a:solidFill>
              <a:latin typeface="Calibri"/>
            </a:endParaRPr>
          </a:p>
        </p:txBody>
      </p:sp>
      <p:sp>
        <p:nvSpPr>
          <p:cNvPr id="620"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RE QUALITY LESS QUANTITY</a:t>
            </a:r>
            <a:endParaRPr b="0" lang="en-US" sz="1000" spc="-1" strike="noStrike">
              <a:solidFill>
                <a:srgbClr val="000000"/>
              </a:solidFill>
              <a:latin typeface="Calibri"/>
            </a:endParaRPr>
          </a:p>
        </p:txBody>
      </p:sp>
      <p:sp>
        <p:nvSpPr>
          <p:cNvPr id="621" name="AutoShape 14"/>
          <p:cNvSpPr/>
          <p:nvPr/>
        </p:nvSpPr>
        <p:spPr>
          <a:xfrm>
            <a:off x="636480" y="188748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2" name="AutoShape 14"/>
          <p:cNvSpPr/>
          <p:nvPr/>
        </p:nvSpPr>
        <p:spPr>
          <a:xfrm>
            <a:off x="4765680" y="1887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3" name="AutoShape 14"/>
          <p:cNvSpPr/>
          <p:nvPr/>
        </p:nvSpPr>
        <p:spPr>
          <a:xfrm>
            <a:off x="636480" y="272412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4" name="AutoShape 14"/>
          <p:cNvSpPr/>
          <p:nvPr/>
        </p:nvSpPr>
        <p:spPr>
          <a:xfrm>
            <a:off x="4765680" y="272412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5" name="AutoShape 14"/>
          <p:cNvSpPr/>
          <p:nvPr/>
        </p:nvSpPr>
        <p:spPr>
          <a:xfrm>
            <a:off x="636480" y="352584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6" name="AutoShape 14"/>
          <p:cNvSpPr/>
          <p:nvPr/>
        </p:nvSpPr>
        <p:spPr>
          <a:xfrm>
            <a:off x="4765680" y="352584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627" name="Text Placeholder 20"/>
          <p:cNvSpPr/>
          <p:nvPr/>
        </p:nvSpPr>
        <p:spPr>
          <a:xfrm>
            <a:off x="1224000" y="171144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28" name="Text Placeholder 23"/>
          <p:cNvSpPr/>
          <p:nvPr/>
        </p:nvSpPr>
        <p:spPr>
          <a:xfrm>
            <a:off x="1224000" y="19638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29" name="Text Placeholder 20"/>
          <p:cNvSpPr/>
          <p:nvPr/>
        </p:nvSpPr>
        <p:spPr>
          <a:xfrm>
            <a:off x="1224000" y="258120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30" name="Text Placeholder 23"/>
          <p:cNvSpPr/>
          <p:nvPr/>
        </p:nvSpPr>
        <p:spPr>
          <a:xfrm>
            <a:off x="1224000" y="283356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31" name="Text Placeholder 20"/>
          <p:cNvSpPr/>
          <p:nvPr/>
        </p:nvSpPr>
        <p:spPr>
          <a:xfrm>
            <a:off x="1224000" y="338472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32" name="Text Placeholder 23"/>
          <p:cNvSpPr/>
          <p:nvPr/>
        </p:nvSpPr>
        <p:spPr>
          <a:xfrm>
            <a:off x="1224000" y="363708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Freeform 9"/>
          <p:cNvSpPr/>
          <p:nvPr/>
        </p:nvSpPr>
        <p:spPr>
          <a:xfrm rot="2700000">
            <a:off x="6499080" y="2766960"/>
            <a:ext cx="145116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be5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5" name="Freeform 9"/>
          <p:cNvSpPr/>
          <p:nvPr/>
        </p:nvSpPr>
        <p:spPr>
          <a:xfrm rot="2700000">
            <a:off x="5654520" y="1890360"/>
            <a:ext cx="145080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6b7c14"/>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6" name="Freeform 9"/>
          <p:cNvSpPr/>
          <p:nvPr/>
        </p:nvSpPr>
        <p:spPr>
          <a:xfrm flipH="1" rot="2700000">
            <a:off x="5984280" y="2231640"/>
            <a:ext cx="145260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fd7f00"/>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7" name="Freeform 9"/>
          <p:cNvSpPr/>
          <p:nvPr/>
        </p:nvSpPr>
        <p:spPr>
          <a:xfrm rot="2700000">
            <a:off x="3978720" y="132480"/>
            <a:ext cx="1452600" cy="226404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6b8b"/>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8" name="Freeform 9"/>
          <p:cNvSpPr/>
          <p:nvPr/>
        </p:nvSpPr>
        <p:spPr>
          <a:xfrm flipH="1" rot="2700000">
            <a:off x="3461760" y="-392040"/>
            <a:ext cx="145260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009ac9"/>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39" name="Freeform 9"/>
          <p:cNvSpPr/>
          <p:nvPr/>
        </p:nvSpPr>
        <p:spPr>
          <a:xfrm rot="2700000">
            <a:off x="4811400" y="1015920"/>
            <a:ext cx="145116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19705c"/>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0" name="Freeform 9"/>
          <p:cNvSpPr/>
          <p:nvPr/>
        </p:nvSpPr>
        <p:spPr>
          <a:xfrm flipH="1" rot="2700000">
            <a:off x="4307040" y="479520"/>
            <a:ext cx="1451880" cy="226368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5fdbbf"/>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1" name="Freeform 9"/>
          <p:cNvSpPr/>
          <p:nvPr/>
        </p:nvSpPr>
        <p:spPr>
          <a:xfrm flipH="1" rot="2700000">
            <a:off x="5141880" y="1356840"/>
            <a:ext cx="1452600" cy="226404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c5e04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2" name="Freeform 9"/>
          <p:cNvSpPr/>
          <p:nvPr/>
        </p:nvSpPr>
        <p:spPr>
          <a:xfrm flipH="1" rot="2700000">
            <a:off x="6839640" y="3107880"/>
            <a:ext cx="1451160" cy="2264040"/>
          </a:xfrm>
          <a:custGeom>
            <a:avLst/>
            <a:gdLst/>
            <a:ahLst/>
            <a:rect l="l" t="t" r="r" b="b"/>
            <a:pathLst>
              <a:path w="815" h="1273">
                <a:moveTo>
                  <a:pt x="200" y="0"/>
                </a:moveTo>
                <a:cubicBezTo>
                  <a:pt x="153" y="0"/>
                  <a:pt x="106" y="18"/>
                  <a:pt x="70" y="54"/>
                </a:cubicBezTo>
                <a:cubicBezTo>
                  <a:pt x="6" y="119"/>
                  <a:pt x="0" y="218"/>
                  <a:pt x="50" y="289"/>
                </a:cubicBezTo>
                <a:cubicBezTo>
                  <a:pt x="50" y="289"/>
                  <a:pt x="50" y="289"/>
                  <a:pt x="50" y="289"/>
                </a:cubicBezTo>
                <a:cubicBezTo>
                  <a:pt x="50" y="289"/>
                  <a:pt x="89" y="360"/>
                  <a:pt x="226" y="431"/>
                </a:cubicBezTo>
                <a:cubicBezTo>
                  <a:pt x="277" y="457"/>
                  <a:pt x="328" y="616"/>
                  <a:pt x="349" y="678"/>
                </a:cubicBezTo>
                <a:cubicBezTo>
                  <a:pt x="377" y="757"/>
                  <a:pt x="330" y="848"/>
                  <a:pt x="306" y="940"/>
                </a:cubicBezTo>
                <a:cubicBezTo>
                  <a:pt x="274" y="1029"/>
                  <a:pt x="294" y="1131"/>
                  <a:pt x="365" y="1201"/>
                </a:cubicBezTo>
                <a:cubicBezTo>
                  <a:pt x="414" y="1249"/>
                  <a:pt x="477" y="1273"/>
                  <a:pt x="541" y="1273"/>
                </a:cubicBezTo>
                <a:cubicBezTo>
                  <a:pt x="605" y="1273"/>
                  <a:pt x="669" y="1248"/>
                  <a:pt x="718" y="1199"/>
                </a:cubicBezTo>
                <a:cubicBezTo>
                  <a:pt x="815" y="1101"/>
                  <a:pt x="814" y="943"/>
                  <a:pt x="716" y="846"/>
                </a:cubicBezTo>
                <a:cubicBezTo>
                  <a:pt x="697" y="827"/>
                  <a:pt x="675" y="812"/>
                  <a:pt x="652" y="800"/>
                </a:cubicBezTo>
                <a:cubicBezTo>
                  <a:pt x="570" y="750"/>
                  <a:pt x="473" y="718"/>
                  <a:pt x="438" y="642"/>
                </a:cubicBezTo>
                <a:cubicBezTo>
                  <a:pt x="410" y="583"/>
                  <a:pt x="336" y="434"/>
                  <a:pt x="354" y="378"/>
                </a:cubicBezTo>
                <a:cubicBezTo>
                  <a:pt x="403" y="233"/>
                  <a:pt x="382" y="155"/>
                  <a:pt x="382" y="155"/>
                </a:cubicBezTo>
                <a:cubicBezTo>
                  <a:pt x="382" y="155"/>
                  <a:pt x="382" y="155"/>
                  <a:pt x="382" y="155"/>
                </a:cubicBezTo>
                <a:cubicBezTo>
                  <a:pt x="376" y="118"/>
                  <a:pt x="359" y="82"/>
                  <a:pt x="330" y="53"/>
                </a:cubicBezTo>
                <a:cubicBezTo>
                  <a:pt x="294" y="18"/>
                  <a:pt x="247" y="0"/>
                  <a:pt x="200" y="0"/>
                </a:cubicBezTo>
              </a:path>
            </a:pathLst>
          </a:custGeom>
          <a:solidFill>
            <a:srgbClr val="890c11"/>
          </a:solidFill>
          <a:ln w="0">
            <a:noFill/>
          </a:ln>
        </p:spPr>
        <p:style>
          <a:lnRef idx="0"/>
          <a:fillRef idx="0"/>
          <a:effectRef idx="0"/>
          <a:fontRef idx="minor"/>
        </p:style>
        <p:txBody>
          <a:bodyPr anchor="t">
            <a:noAutofit/>
          </a:bodyPr>
          <a:p>
            <a:endParaRPr b="0" lang="en-US" sz="1300" spc="-1" strike="noStrike">
              <a:solidFill>
                <a:srgbClr val="000000"/>
              </a:solidFill>
              <a:latin typeface="Calibri"/>
            </a:endParaRPr>
          </a:p>
        </p:txBody>
      </p:sp>
      <p:sp>
        <p:nvSpPr>
          <p:cNvPr id="1143" name="AutoShape 14"/>
          <p:cNvSpPr/>
          <p:nvPr/>
        </p:nvSpPr>
        <p:spPr>
          <a:xfrm>
            <a:off x="3381480" y="846000"/>
            <a:ext cx="33804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4" name="AutoShape 14"/>
          <p:cNvSpPr/>
          <p:nvPr/>
        </p:nvSpPr>
        <p:spPr>
          <a:xfrm>
            <a:off x="4172040" y="1714680"/>
            <a:ext cx="338040" cy="371160"/>
          </a:xfrm>
          <a:prstGeom prst="pie">
            <a:avLst/>
          </a:prstGeom>
          <a:noFill/>
          <a:ln w="0">
            <a:noFill/>
          </a:ln>
        </p:spPr>
        <p:style>
          <a:lnRef idx="0"/>
          <a:fillRef idx="0"/>
          <a:effectRef idx="0"/>
          <a:fontRef idx="minor"/>
        </p:style>
        <p:txBody>
          <a:bodyPr lIns="71280" rIns="71280" tIns="71280" bIns="71280" anchor="ctr">
            <a:noAutofit/>
          </a:bodyPr>
          <a:p>
            <a:pPr>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5" name="AutoShape 14"/>
          <p:cNvSpPr/>
          <p:nvPr/>
        </p:nvSpPr>
        <p:spPr>
          <a:xfrm>
            <a:off x="5059440" y="2577960"/>
            <a:ext cx="338040" cy="3733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6" name="AutoShape 14"/>
          <p:cNvSpPr/>
          <p:nvPr/>
        </p:nvSpPr>
        <p:spPr>
          <a:xfrm>
            <a:off x="5907240" y="3459240"/>
            <a:ext cx="36972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7" name="AutoShape 14"/>
          <p:cNvSpPr/>
          <p:nvPr/>
        </p:nvSpPr>
        <p:spPr>
          <a:xfrm>
            <a:off x="6723000" y="4322880"/>
            <a:ext cx="36828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2400" spc="-1" strike="noStrike">
                <a:solidFill>
                  <a:srgbClr val="ffffff"/>
                </a:solidFill>
                <a:latin typeface="FontAwesome"/>
                <a:ea typeface="FontAwesome"/>
              </a:rPr>
              <a:t></a:t>
            </a:r>
            <a:endParaRPr b="0" lang="en-US" sz="2400" spc="-1" strike="noStrike">
              <a:solidFill>
                <a:srgbClr val="000000"/>
              </a:solidFill>
              <a:latin typeface="Calibri"/>
            </a:endParaRPr>
          </a:p>
        </p:txBody>
      </p:sp>
      <p:sp>
        <p:nvSpPr>
          <p:cNvPr id="1148" name="AutoShape 14"/>
          <p:cNvSpPr/>
          <p:nvPr/>
        </p:nvSpPr>
        <p:spPr>
          <a:xfrm>
            <a:off x="4705200" y="152280"/>
            <a:ext cx="5922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1</a:t>
            </a:r>
            <a:endParaRPr b="0" lang="en-US" sz="2400" spc="-1" strike="noStrike">
              <a:solidFill>
                <a:srgbClr val="000000"/>
              </a:solidFill>
              <a:latin typeface="Calibri"/>
            </a:endParaRPr>
          </a:p>
        </p:txBody>
      </p:sp>
      <p:sp>
        <p:nvSpPr>
          <p:cNvPr id="1149" name="AutoShape 14"/>
          <p:cNvSpPr/>
          <p:nvPr/>
        </p:nvSpPr>
        <p:spPr>
          <a:xfrm>
            <a:off x="5537160" y="1079640"/>
            <a:ext cx="592200" cy="37116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2</a:t>
            </a:r>
            <a:endParaRPr b="0" lang="en-US" sz="2400" spc="-1" strike="noStrike">
              <a:solidFill>
                <a:srgbClr val="000000"/>
              </a:solidFill>
              <a:latin typeface="Calibri"/>
            </a:endParaRPr>
          </a:p>
        </p:txBody>
      </p:sp>
      <p:sp>
        <p:nvSpPr>
          <p:cNvPr id="1150" name="AutoShape 14"/>
          <p:cNvSpPr/>
          <p:nvPr/>
        </p:nvSpPr>
        <p:spPr>
          <a:xfrm>
            <a:off x="6378480" y="1962000"/>
            <a:ext cx="5922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3</a:t>
            </a:r>
            <a:endParaRPr b="0" lang="en-US" sz="2400" spc="-1" strike="noStrike">
              <a:solidFill>
                <a:srgbClr val="000000"/>
              </a:solidFill>
              <a:latin typeface="Calibri"/>
            </a:endParaRPr>
          </a:p>
        </p:txBody>
      </p:sp>
      <p:sp>
        <p:nvSpPr>
          <p:cNvPr id="1151" name="AutoShape 14"/>
          <p:cNvSpPr/>
          <p:nvPr/>
        </p:nvSpPr>
        <p:spPr>
          <a:xfrm>
            <a:off x="7232760" y="2797200"/>
            <a:ext cx="59220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4</a:t>
            </a:r>
            <a:endParaRPr b="0" lang="en-US" sz="2400" spc="-1" strike="noStrike">
              <a:solidFill>
                <a:srgbClr val="000000"/>
              </a:solidFill>
              <a:latin typeface="Calibri"/>
            </a:endParaRPr>
          </a:p>
        </p:txBody>
      </p:sp>
      <p:sp>
        <p:nvSpPr>
          <p:cNvPr id="1152" name="AutoShape 14"/>
          <p:cNvSpPr/>
          <p:nvPr/>
        </p:nvSpPr>
        <p:spPr>
          <a:xfrm>
            <a:off x="8069400" y="3681360"/>
            <a:ext cx="591840" cy="37152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ffffff"/>
                </a:solidFill>
                <a:latin typeface="Raleway"/>
                <a:ea typeface="Raleway"/>
              </a:rPr>
              <a:t>05</a:t>
            </a:r>
            <a:endParaRPr b="0" lang="en-US" sz="2400" spc="-1" strike="noStrike">
              <a:solidFill>
                <a:srgbClr val="000000"/>
              </a:solidFill>
              <a:latin typeface="Calibri"/>
            </a:endParaRPr>
          </a:p>
        </p:txBody>
      </p:sp>
      <p:sp>
        <p:nvSpPr>
          <p:cNvPr id="1153" name="Text Placeholder 20"/>
          <p:cNvSpPr/>
          <p:nvPr/>
        </p:nvSpPr>
        <p:spPr>
          <a:xfrm>
            <a:off x="488880" y="24066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54" name="Text Placeholder 23"/>
          <p:cNvSpPr/>
          <p:nvPr/>
        </p:nvSpPr>
        <p:spPr>
          <a:xfrm>
            <a:off x="488880" y="26589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55" name="Text Placeholder 20"/>
          <p:cNvSpPr/>
          <p:nvPr/>
        </p:nvSpPr>
        <p:spPr>
          <a:xfrm>
            <a:off x="488880" y="3274920"/>
            <a:ext cx="295596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56" name="Text Placeholder 23"/>
          <p:cNvSpPr/>
          <p:nvPr/>
        </p:nvSpPr>
        <p:spPr>
          <a:xfrm>
            <a:off x="488880" y="352728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57" name="Marcador de texto 13"/>
          <p:cNvSpPr/>
          <p:nvPr/>
        </p:nvSpPr>
        <p:spPr>
          <a:xfrm>
            <a:off x="488880" y="1608120"/>
            <a:ext cx="2955960" cy="6174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Organic</a:t>
            </a:r>
            <a:endParaRPr b="0" lang="en-US" sz="5000" spc="-1" strike="noStrike">
              <a:solidFill>
                <a:srgbClr val="000000"/>
              </a:solidFill>
              <a:latin typeface="Calibri"/>
            </a:endParaRPr>
          </a:p>
        </p:txBody>
      </p:sp>
      <p:sp>
        <p:nvSpPr>
          <p:cNvPr id="1158" name="Text Placeholder 20"/>
          <p:cNvSpPr/>
          <p:nvPr/>
        </p:nvSpPr>
        <p:spPr>
          <a:xfrm>
            <a:off x="488880" y="412416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59" name="Text Placeholder 23"/>
          <p:cNvSpPr/>
          <p:nvPr/>
        </p:nvSpPr>
        <p:spPr>
          <a:xfrm>
            <a:off x="488880" y="43768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0" name="Group 14" descr=""/>
          <p:cNvPicPr/>
          <p:nvPr/>
        </p:nvPicPr>
        <p:blipFill>
          <a:blip r:embed="rId1"/>
          <a:stretch/>
        </p:blipFill>
        <p:spPr>
          <a:xfrm>
            <a:off x="6553080" y="1865160"/>
            <a:ext cx="1530360" cy="2389320"/>
          </a:xfrm>
          <a:prstGeom prst="rect">
            <a:avLst/>
          </a:prstGeom>
          <a:ln w="0">
            <a:noFill/>
          </a:ln>
        </p:spPr>
      </p:pic>
      <p:pic>
        <p:nvPicPr>
          <p:cNvPr id="1161" name="Group 15" descr=""/>
          <p:cNvPicPr/>
          <p:nvPr/>
        </p:nvPicPr>
        <p:blipFill>
          <a:blip r:embed="rId2"/>
          <a:stretch/>
        </p:blipFill>
        <p:spPr>
          <a:xfrm>
            <a:off x="5430960" y="1285920"/>
            <a:ext cx="1738080" cy="2968560"/>
          </a:xfrm>
          <a:prstGeom prst="rect">
            <a:avLst/>
          </a:prstGeom>
          <a:ln w="0">
            <a:noFill/>
          </a:ln>
        </p:spPr>
      </p:pic>
      <p:sp>
        <p:nvSpPr>
          <p:cNvPr id="1162" name="Text Placeholder 20"/>
          <p:cNvSpPr/>
          <p:nvPr/>
        </p:nvSpPr>
        <p:spPr>
          <a:xfrm>
            <a:off x="1273320" y="171144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63" name="Text Placeholder 23"/>
          <p:cNvSpPr/>
          <p:nvPr/>
        </p:nvSpPr>
        <p:spPr>
          <a:xfrm>
            <a:off x="1273320" y="196380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64" name="Rectángulo redondeado 9"/>
          <p:cNvSpPr/>
          <p:nvPr/>
        </p:nvSpPr>
        <p:spPr>
          <a:xfrm>
            <a:off x="468360" y="176688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65" name="Text Placeholder 20"/>
          <p:cNvSpPr/>
          <p:nvPr/>
        </p:nvSpPr>
        <p:spPr>
          <a:xfrm>
            <a:off x="1273320" y="25812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66" name="Text Placeholder 23"/>
          <p:cNvSpPr/>
          <p:nvPr/>
        </p:nvSpPr>
        <p:spPr>
          <a:xfrm>
            <a:off x="1273320" y="283356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67" name="Rectángulo redondeado 12"/>
          <p:cNvSpPr/>
          <p:nvPr/>
        </p:nvSpPr>
        <p:spPr>
          <a:xfrm>
            <a:off x="468360" y="2576520"/>
            <a:ext cx="612720" cy="612720"/>
          </a:xfrm>
          <a:prstGeom prst="roundRect">
            <a:avLst>
              <a:gd name="adj" fmla="val 50000"/>
            </a:avLst>
          </a:prstGeom>
          <a:solidFill>
            <a:srgbClr val="d0b90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68" name="Text Placeholder 20"/>
          <p:cNvSpPr/>
          <p:nvPr/>
        </p:nvSpPr>
        <p:spPr>
          <a:xfrm>
            <a:off x="1273320" y="3384720"/>
            <a:ext cx="29559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1169" name="Text Placeholder 23"/>
          <p:cNvSpPr/>
          <p:nvPr/>
        </p:nvSpPr>
        <p:spPr>
          <a:xfrm>
            <a:off x="1273320" y="36370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170" name="Rectángulo redondeado 15"/>
          <p:cNvSpPr/>
          <p:nvPr/>
        </p:nvSpPr>
        <p:spPr>
          <a:xfrm>
            <a:off x="468360" y="3395520"/>
            <a:ext cx="612720" cy="611280"/>
          </a:xfrm>
          <a:prstGeom prst="roundRect">
            <a:avLst>
              <a:gd name="adj" fmla="val 50000"/>
            </a:avLst>
          </a:prstGeom>
          <a:solidFill>
            <a:srgbClr val="cd121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71"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Services</a:t>
            </a:r>
            <a:endParaRPr b="0" lang="en-US" sz="4000" spc="-1" strike="noStrike">
              <a:solidFill>
                <a:srgbClr val="000000"/>
              </a:solidFill>
              <a:latin typeface="Calibri"/>
            </a:endParaRPr>
          </a:p>
        </p:txBody>
      </p:sp>
      <p:sp>
        <p:nvSpPr>
          <p:cNvPr id="1172"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RE QUALITY LESS QUANTITY</a:t>
            </a:r>
            <a:endParaRPr b="0" lang="en-US" sz="1000" spc="-1" strike="noStrike">
              <a:solidFill>
                <a:srgbClr val="000000"/>
              </a:solidFill>
              <a:latin typeface="Calibri"/>
            </a:endParaRPr>
          </a:p>
        </p:txBody>
      </p:sp>
      <p:sp>
        <p:nvSpPr>
          <p:cNvPr id="1173" name="AutoShape 14"/>
          <p:cNvSpPr/>
          <p:nvPr/>
        </p:nvSpPr>
        <p:spPr>
          <a:xfrm>
            <a:off x="630360" y="188748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74" name="AutoShape 14"/>
          <p:cNvSpPr/>
          <p:nvPr/>
        </p:nvSpPr>
        <p:spPr>
          <a:xfrm>
            <a:off x="630360" y="272412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175" name="AutoShape 14"/>
          <p:cNvSpPr/>
          <p:nvPr/>
        </p:nvSpPr>
        <p:spPr>
          <a:xfrm>
            <a:off x="630360" y="352584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pic>
        <p:nvPicPr>
          <p:cNvPr id="1176" name="Group 13" descr=""/>
          <p:cNvPicPr/>
          <p:nvPr/>
        </p:nvPicPr>
        <p:blipFill>
          <a:blip r:embed="rId3"/>
          <a:stretch/>
        </p:blipFill>
        <p:spPr>
          <a:xfrm>
            <a:off x="4998960" y="2603520"/>
            <a:ext cx="1262160" cy="1650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imeline One</a:t>
            </a:r>
            <a:endParaRPr b="0" lang="en-US" sz="4000" spc="-1" strike="noStrike">
              <a:solidFill>
                <a:srgbClr val="000000"/>
              </a:solidFill>
              <a:latin typeface="Calibri"/>
            </a:endParaRPr>
          </a:p>
        </p:txBody>
      </p:sp>
      <p:sp>
        <p:nvSpPr>
          <p:cNvPr id="1178"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179" name="Text Placeholder 4"/>
          <p:cNvSpPr/>
          <p:nvPr/>
        </p:nvSpPr>
        <p:spPr>
          <a:xfrm>
            <a:off x="982800" y="2130480"/>
            <a:ext cx="72684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50%</a:t>
            </a:r>
            <a:endParaRPr b="0" lang="en-US" sz="2000" spc="-1" strike="noStrike">
              <a:solidFill>
                <a:srgbClr val="000000"/>
              </a:solidFill>
              <a:latin typeface="Calibri"/>
            </a:endParaRPr>
          </a:p>
        </p:txBody>
      </p:sp>
      <p:sp>
        <p:nvSpPr>
          <p:cNvPr id="1180" name="Oval 33"/>
          <p:cNvSpPr/>
          <p:nvPr/>
        </p:nvSpPr>
        <p:spPr>
          <a:xfrm>
            <a:off x="644400" y="1630440"/>
            <a:ext cx="144000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81" name="Arc 34"/>
          <p:cNvSpPr/>
          <p:nvPr/>
        </p:nvSpPr>
        <p:spPr>
          <a:xfrm>
            <a:off x="644400" y="1630440"/>
            <a:ext cx="1440000" cy="1439640"/>
          </a:xfrm>
          <a:custGeom>
            <a:avLst/>
            <a:gdLst/>
            <a:ahLst/>
            <a:rect l="l" t="t" r="r" b="b"/>
            <a:pathLst>
              <a:path stroke="0" w="1439998" h="1439998">
                <a:moveTo>
                  <a:pt x="719999" y="0"/>
                </a:moveTo>
                <a:cubicBezTo>
                  <a:pt x="1092147" y="0"/>
                  <a:pt x="1402972" y="283605"/>
                  <a:pt x="1436985" y="654195"/>
                </a:cubicBezTo>
                <a:cubicBezTo>
                  <a:pt x="1470997" y="1024785"/>
                  <a:pt x="1216988" y="1360230"/>
                  <a:pt x="851057" y="1427970"/>
                </a:cubicBezTo>
                <a:lnTo>
                  <a:pt x="719999" y="719999"/>
                </a:lnTo>
                <a:lnTo>
                  <a:pt x="719999" y="0"/>
                </a:lnTo>
                <a:close/>
              </a:path>
              <a:path fill="none" w="1439998" h="1439998">
                <a:moveTo>
                  <a:pt x="719999" y="0"/>
                </a:moveTo>
                <a:cubicBezTo>
                  <a:pt x="1092147" y="0"/>
                  <a:pt x="1402972" y="283605"/>
                  <a:pt x="1436985" y="654195"/>
                </a:cubicBezTo>
                <a:cubicBezTo>
                  <a:pt x="1470997" y="1024785"/>
                  <a:pt x="1216988" y="1360230"/>
                  <a:pt x="851057" y="1427970"/>
                </a:cubicBezTo>
              </a:path>
            </a:pathLst>
          </a:custGeom>
          <a:noFill/>
          <a:ln cap="rnd" w="380880">
            <a:solidFill>
              <a:srgbClr val="114a3e"/>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82" name="Text Placeholder 4"/>
          <p:cNvSpPr/>
          <p:nvPr/>
        </p:nvSpPr>
        <p:spPr>
          <a:xfrm>
            <a:off x="3135240" y="2130480"/>
            <a:ext cx="72720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70%</a:t>
            </a:r>
            <a:endParaRPr b="0" lang="en-US" sz="2000" spc="-1" strike="noStrike">
              <a:solidFill>
                <a:srgbClr val="000000"/>
              </a:solidFill>
              <a:latin typeface="Calibri"/>
            </a:endParaRPr>
          </a:p>
        </p:txBody>
      </p:sp>
      <p:sp>
        <p:nvSpPr>
          <p:cNvPr id="1183" name="Oval 46"/>
          <p:cNvSpPr/>
          <p:nvPr/>
        </p:nvSpPr>
        <p:spPr>
          <a:xfrm>
            <a:off x="2844720" y="1630440"/>
            <a:ext cx="144000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84" name="Arc 47"/>
          <p:cNvSpPr/>
          <p:nvPr/>
        </p:nvSpPr>
        <p:spPr>
          <a:xfrm>
            <a:off x="2844720" y="1630440"/>
            <a:ext cx="1440000" cy="1439640"/>
          </a:xfrm>
          <a:custGeom>
            <a:avLst/>
            <a:gdLst/>
            <a:ahLst/>
            <a:rect l="l" t="t" r="r" b="b"/>
            <a:pathLst>
              <a:path stroke="0" w="1439998" h="1439998">
                <a:moveTo>
                  <a:pt x="719999" y="0"/>
                </a:moveTo>
                <a:cubicBezTo>
                  <a:pt x="1073912" y="0"/>
                  <a:pt x="1375347" y="257212"/>
                  <a:pt x="1431030" y="606717"/>
                </a:cubicBezTo>
                <a:cubicBezTo>
                  <a:pt x="1486713" y="956222"/>
                  <a:pt x="1280132" y="1294371"/>
                  <a:pt x="943741" y="1404351"/>
                </a:cubicBezTo>
                <a:cubicBezTo>
                  <a:pt x="607350" y="1514331"/>
                  <a:pt x="240910" y="1363526"/>
                  <a:pt x="79373" y="1048628"/>
                </a:cubicBezTo>
                <a:lnTo>
                  <a:pt x="719999" y="719999"/>
                </a:lnTo>
                <a:lnTo>
                  <a:pt x="719999" y="0"/>
                </a:lnTo>
                <a:close/>
              </a:path>
              <a:path fill="none" w="1439998" h="1439998">
                <a:moveTo>
                  <a:pt x="719999" y="0"/>
                </a:moveTo>
                <a:cubicBezTo>
                  <a:pt x="1073912" y="0"/>
                  <a:pt x="1375347" y="257212"/>
                  <a:pt x="1431030" y="606717"/>
                </a:cubicBezTo>
                <a:cubicBezTo>
                  <a:pt x="1486713" y="956222"/>
                  <a:pt x="1280132" y="1294371"/>
                  <a:pt x="943741" y="1404351"/>
                </a:cubicBezTo>
                <a:cubicBezTo>
                  <a:pt x="607350" y="1514331"/>
                  <a:pt x="240910" y="1363526"/>
                  <a:pt x="79373" y="1048628"/>
                </a:cubicBezTo>
              </a:path>
            </a:pathLst>
          </a:custGeom>
          <a:noFill/>
          <a:ln cap="rnd" w="380880">
            <a:solidFill>
              <a:srgbClr val="22957b"/>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85" name="Text Placeholder 4"/>
          <p:cNvSpPr/>
          <p:nvPr/>
        </p:nvSpPr>
        <p:spPr>
          <a:xfrm>
            <a:off x="5214960" y="2130480"/>
            <a:ext cx="72720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30%</a:t>
            </a:r>
            <a:endParaRPr b="0" lang="en-US" sz="2000" spc="-1" strike="noStrike">
              <a:solidFill>
                <a:srgbClr val="000000"/>
              </a:solidFill>
              <a:latin typeface="Calibri"/>
            </a:endParaRPr>
          </a:p>
        </p:txBody>
      </p:sp>
      <p:sp>
        <p:nvSpPr>
          <p:cNvPr id="1186" name="Oval 54"/>
          <p:cNvSpPr/>
          <p:nvPr/>
        </p:nvSpPr>
        <p:spPr>
          <a:xfrm>
            <a:off x="4892760" y="1630440"/>
            <a:ext cx="143964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87" name="Arc 55"/>
          <p:cNvSpPr/>
          <p:nvPr/>
        </p:nvSpPr>
        <p:spPr>
          <a:xfrm>
            <a:off x="4892760" y="1630440"/>
            <a:ext cx="1439640" cy="1439640"/>
          </a:xfrm>
          <a:custGeom>
            <a:avLst/>
            <a:gdLst/>
            <a:ahLst/>
            <a:rect l="l" t="t" r="r" b="b"/>
            <a:pathLst>
              <a:path stroke="0" w="1439998" h="1439998">
                <a:moveTo>
                  <a:pt x="719999" y="0"/>
                </a:moveTo>
                <a:cubicBezTo>
                  <a:pt x="931085" y="0"/>
                  <a:pt x="1131538" y="92630"/>
                  <a:pt x="1268336" y="253389"/>
                </a:cubicBezTo>
                <a:cubicBezTo>
                  <a:pt x="1405134" y="414148"/>
                  <a:pt x="1464497" y="626840"/>
                  <a:pt x="1430721" y="835206"/>
                </a:cubicBezTo>
                <a:lnTo>
                  <a:pt x="719999" y="719999"/>
                </a:lnTo>
                <a:lnTo>
                  <a:pt x="719999" y="0"/>
                </a:lnTo>
                <a:close/>
              </a:path>
              <a:path fill="none" w="1439998" h="1439998">
                <a:moveTo>
                  <a:pt x="719999" y="0"/>
                </a:moveTo>
                <a:cubicBezTo>
                  <a:pt x="931085" y="0"/>
                  <a:pt x="1131538" y="92630"/>
                  <a:pt x="1268336" y="253389"/>
                </a:cubicBezTo>
                <a:cubicBezTo>
                  <a:pt x="1405134" y="414148"/>
                  <a:pt x="1464497" y="626840"/>
                  <a:pt x="1430721" y="835206"/>
                </a:cubicBezTo>
              </a:path>
            </a:pathLst>
          </a:custGeom>
          <a:noFill/>
          <a:ln cap="rnd" w="380880">
            <a:solidFill>
              <a:srgbClr val="a0ba1e"/>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88" name="Text Placeholder 4"/>
          <p:cNvSpPr/>
          <p:nvPr/>
        </p:nvSpPr>
        <p:spPr>
          <a:xfrm>
            <a:off x="7256520" y="2130480"/>
            <a:ext cx="726840" cy="46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1038240"/>
                <a:tab algn="l" pos="2076480"/>
                <a:tab algn="l" pos="3114720"/>
                <a:tab algn="l" pos="4152960"/>
                <a:tab algn="l" pos="5191200"/>
                <a:tab algn="l" pos="6229440"/>
                <a:tab algn="l" pos="7267680"/>
                <a:tab algn="l" pos="8305920"/>
                <a:tab algn="l" pos="9344160"/>
                <a:tab algn="l" pos="10382400"/>
              </a:tabLst>
            </a:pPr>
            <a:r>
              <a:rPr b="1" lang="en-US" sz="2000" spc="-1" strike="noStrike">
                <a:solidFill>
                  <a:srgbClr val="7f7f7f"/>
                </a:solidFill>
                <a:latin typeface="Lato Light"/>
                <a:ea typeface="Lato Light"/>
              </a:rPr>
              <a:t>80%</a:t>
            </a:r>
            <a:endParaRPr b="0" lang="en-US" sz="2000" spc="-1" strike="noStrike">
              <a:solidFill>
                <a:srgbClr val="000000"/>
              </a:solidFill>
              <a:latin typeface="Calibri"/>
            </a:endParaRPr>
          </a:p>
        </p:txBody>
      </p:sp>
      <p:sp>
        <p:nvSpPr>
          <p:cNvPr id="1189" name="Oval 59"/>
          <p:cNvSpPr/>
          <p:nvPr/>
        </p:nvSpPr>
        <p:spPr>
          <a:xfrm>
            <a:off x="6927840" y="1630440"/>
            <a:ext cx="1440000" cy="1439640"/>
          </a:xfrm>
          <a:prstGeom prst="ellipse">
            <a:avLst/>
          </a:prstGeom>
          <a:noFill/>
          <a:ln cap="rnd" w="380880">
            <a:solidFill>
              <a:srgbClr val="bfbfbf">
                <a:alpha val="30000"/>
              </a:srgbClr>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190" name="Arc 60"/>
          <p:cNvSpPr/>
          <p:nvPr/>
        </p:nvSpPr>
        <p:spPr>
          <a:xfrm>
            <a:off x="6927840" y="1630440"/>
            <a:ext cx="1440000" cy="1439640"/>
          </a:xfrm>
          <a:custGeom>
            <a:avLst/>
            <a:gdLst/>
            <a:ahLst/>
            <a:rect l="l" t="t" r="r" b="b"/>
            <a:pathLst>
              <a:path stroke="0" w="1439998" h="1439998">
                <a:moveTo>
                  <a:pt x="719999" y="0"/>
                </a:moveTo>
                <a:cubicBezTo>
                  <a:pt x="1094381" y="0"/>
                  <a:pt x="1406292" y="286915"/>
                  <a:pt x="1437493" y="659994"/>
                </a:cubicBezTo>
                <a:cubicBezTo>
                  <a:pt x="1468694" y="1033073"/>
                  <a:pt x="1208772" y="1367811"/>
                  <a:pt x="839591" y="1429996"/>
                </a:cubicBezTo>
                <a:cubicBezTo>
                  <a:pt x="470410" y="1492181"/>
                  <a:pt x="115174" y="1261060"/>
                  <a:pt x="22438" y="898346"/>
                </a:cubicBezTo>
                <a:lnTo>
                  <a:pt x="719999" y="719999"/>
                </a:lnTo>
                <a:lnTo>
                  <a:pt x="719999" y="0"/>
                </a:lnTo>
                <a:close/>
              </a:path>
              <a:path fill="none" w="1439998" h="1439998">
                <a:moveTo>
                  <a:pt x="719999" y="0"/>
                </a:moveTo>
                <a:cubicBezTo>
                  <a:pt x="1094381" y="0"/>
                  <a:pt x="1406292" y="286915"/>
                  <a:pt x="1437493" y="659994"/>
                </a:cubicBezTo>
                <a:cubicBezTo>
                  <a:pt x="1468694" y="1033073"/>
                  <a:pt x="1208772" y="1367811"/>
                  <a:pt x="839591" y="1429996"/>
                </a:cubicBezTo>
                <a:cubicBezTo>
                  <a:pt x="470410" y="1492181"/>
                  <a:pt x="115174" y="1261060"/>
                  <a:pt x="22438" y="898346"/>
                </a:cubicBezTo>
              </a:path>
            </a:pathLst>
          </a:custGeom>
          <a:noFill/>
          <a:ln cap="rnd" w="380880">
            <a:solidFill>
              <a:srgbClr val="fee419"/>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91" name="Text Placeholder 20"/>
          <p:cNvSpPr/>
          <p:nvPr/>
        </p:nvSpPr>
        <p:spPr>
          <a:xfrm>
            <a:off x="555480" y="3484440"/>
            <a:ext cx="170676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2" name="Text Placeholder 23"/>
          <p:cNvSpPr/>
          <p:nvPr/>
        </p:nvSpPr>
        <p:spPr>
          <a:xfrm>
            <a:off x="555480" y="3747960"/>
            <a:ext cx="170676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1193" name="Text Placeholder 20"/>
          <p:cNvSpPr/>
          <p:nvPr/>
        </p:nvSpPr>
        <p:spPr>
          <a:xfrm>
            <a:off x="2743200" y="3484440"/>
            <a:ext cx="17064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4" name="Text Placeholder 23"/>
          <p:cNvSpPr/>
          <p:nvPr/>
        </p:nvSpPr>
        <p:spPr>
          <a:xfrm>
            <a:off x="2743200" y="37479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1195" name="Text Placeholder 20"/>
          <p:cNvSpPr/>
          <p:nvPr/>
        </p:nvSpPr>
        <p:spPr>
          <a:xfrm>
            <a:off x="4768920" y="3484440"/>
            <a:ext cx="17082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6" name="Text Placeholder 23"/>
          <p:cNvSpPr/>
          <p:nvPr/>
        </p:nvSpPr>
        <p:spPr>
          <a:xfrm>
            <a:off x="4768920" y="3747960"/>
            <a:ext cx="17082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
        <p:nvSpPr>
          <p:cNvPr id="1197" name="Text Placeholder 20"/>
          <p:cNvSpPr/>
          <p:nvPr/>
        </p:nvSpPr>
        <p:spPr>
          <a:xfrm>
            <a:off x="6815160" y="3484440"/>
            <a:ext cx="170640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TITLE EXAMPLE HERE</a:t>
            </a:r>
            <a:endParaRPr b="0" lang="en-US" sz="1000" spc="-1" strike="noStrike">
              <a:solidFill>
                <a:srgbClr val="000000"/>
              </a:solidFill>
              <a:latin typeface="Calibri"/>
            </a:endParaRPr>
          </a:p>
        </p:txBody>
      </p:sp>
      <p:sp>
        <p:nvSpPr>
          <p:cNvPr id="1198" name="Text Placeholder 23"/>
          <p:cNvSpPr/>
          <p:nvPr/>
        </p:nvSpPr>
        <p:spPr>
          <a:xfrm>
            <a:off x="6815160" y="3747960"/>
            <a:ext cx="1706400" cy="569880"/>
          </a:xfrm>
          <a:prstGeom prst="rect">
            <a:avLst/>
          </a:prstGeom>
          <a:noFill/>
          <a:ln w="0">
            <a:noFill/>
          </a:ln>
        </p:spPr>
        <p:style>
          <a:lnRef idx="0"/>
          <a:fillRef idx="0"/>
          <a:effectRef idx="0"/>
          <a:fontRef idx="minor"/>
        </p:style>
        <p:txBody>
          <a:bodyPr lIns="0" rIns="0" tIns="0" bIns="0" anchor="t">
            <a:noAutofit/>
          </a:bodyPr>
          <a:p>
            <a:pPr algn="ct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a:t>
            </a:r>
            <a:endParaRPr b="0" lang="en-US" sz="9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p:nvPr>
        </p:nvSpPr>
        <p:spPr>
          <a:xfrm>
            <a:off x="2496600" y="63612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Waves</a:t>
            </a:r>
            <a:endParaRPr b="0" lang="en-US" sz="4000" spc="-1" strike="noStrike">
              <a:solidFill>
                <a:srgbClr val="000000"/>
              </a:solidFill>
              <a:latin typeface="Calibri"/>
            </a:endParaRPr>
          </a:p>
        </p:txBody>
      </p:sp>
      <p:sp>
        <p:nvSpPr>
          <p:cNvPr id="1200" name="PlaceHolder 2"/>
          <p:cNvSpPr>
            <a:spLocks noGrp="1"/>
          </p:cNvSpPr>
          <p:nvPr>
            <p:ph/>
          </p:nvPr>
        </p:nvSpPr>
        <p:spPr>
          <a:xfrm>
            <a:off x="2496600" y="125856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1201" name="PlaceHolder 3"/>
          <p:cNvSpPr>
            <a:spLocks noGrp="1"/>
          </p:cNvSpPr>
          <p:nvPr>
            <p:ph/>
          </p:nvPr>
        </p:nvSpPr>
        <p:spPr>
          <a:xfrm>
            <a:off x="774360" y="4193640"/>
            <a:ext cx="180036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2" name="PlaceHolder 4"/>
          <p:cNvSpPr>
            <a:spLocks noGrp="1"/>
          </p:cNvSpPr>
          <p:nvPr>
            <p:ph/>
          </p:nvPr>
        </p:nvSpPr>
        <p:spPr>
          <a:xfrm>
            <a:off x="774360" y="4498920"/>
            <a:ext cx="180036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3" name="PlaceHolder 5"/>
          <p:cNvSpPr>
            <a:spLocks noGrp="1"/>
          </p:cNvSpPr>
          <p:nvPr>
            <p:ph/>
          </p:nvPr>
        </p:nvSpPr>
        <p:spPr>
          <a:xfrm>
            <a:off x="2854440" y="4193640"/>
            <a:ext cx="180000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4" name="PlaceHolder 6"/>
          <p:cNvSpPr>
            <a:spLocks noGrp="1"/>
          </p:cNvSpPr>
          <p:nvPr>
            <p:ph/>
          </p:nvPr>
        </p:nvSpPr>
        <p:spPr>
          <a:xfrm>
            <a:off x="2854440" y="4498920"/>
            <a:ext cx="180000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5" name="PlaceHolder 7"/>
          <p:cNvSpPr>
            <a:spLocks noGrp="1"/>
          </p:cNvSpPr>
          <p:nvPr>
            <p:ph/>
          </p:nvPr>
        </p:nvSpPr>
        <p:spPr>
          <a:xfrm>
            <a:off x="4870080" y="4193640"/>
            <a:ext cx="180036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6" name="PlaceHolder 8"/>
          <p:cNvSpPr>
            <a:spLocks noGrp="1"/>
          </p:cNvSpPr>
          <p:nvPr>
            <p:ph/>
          </p:nvPr>
        </p:nvSpPr>
        <p:spPr>
          <a:xfrm>
            <a:off x="4870080" y="4498920"/>
            <a:ext cx="180036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7" name="PlaceHolder 9"/>
          <p:cNvSpPr>
            <a:spLocks noGrp="1"/>
          </p:cNvSpPr>
          <p:nvPr>
            <p:ph/>
          </p:nvPr>
        </p:nvSpPr>
        <p:spPr>
          <a:xfrm>
            <a:off x="6886080" y="4193640"/>
            <a:ext cx="1800360" cy="17964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sp>
        <p:nvSpPr>
          <p:cNvPr id="1208" name="PlaceHolder 10"/>
          <p:cNvSpPr>
            <a:spLocks noGrp="1"/>
          </p:cNvSpPr>
          <p:nvPr>
            <p:ph/>
          </p:nvPr>
        </p:nvSpPr>
        <p:spPr>
          <a:xfrm>
            <a:off x="6886080" y="4498920"/>
            <a:ext cx="1800360" cy="179280"/>
          </a:xfrm>
          <a:prstGeom prst="rect">
            <a:avLst/>
          </a:prstGeom>
          <a:noFill/>
          <a:ln w="0">
            <a:noFill/>
          </a:ln>
        </p:spPr>
        <p:txBody>
          <a:bodyPr lIns="0" rIns="0" tIns="40680" bIns="40680" anchor="ctr">
            <a:normAutofit fontScale="6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Raleway Black"/>
                <a:ea typeface="Raleway Black"/>
              </a:rPr>
              <a:t>Subtitle Example</a:t>
            </a:r>
            <a:endParaRPr b="0" lang="en-US" sz="1000" spc="-1" strike="noStrike">
              <a:solidFill>
                <a:srgbClr val="000000"/>
              </a:solidFill>
              <a:latin typeface="Calibri"/>
            </a:endParaRPr>
          </a:p>
        </p:txBody>
      </p:sp>
      <p:grpSp>
        <p:nvGrpSpPr>
          <p:cNvPr id="1209" name="Group 31"/>
          <p:cNvGrpSpPr/>
          <p:nvPr/>
        </p:nvGrpSpPr>
        <p:grpSpPr>
          <a:xfrm>
            <a:off x="452520" y="1845000"/>
            <a:ext cx="8229600" cy="1858680"/>
            <a:chOff x="452520" y="1845000"/>
            <a:chExt cx="8229600" cy="1858680"/>
          </a:xfrm>
        </p:grpSpPr>
        <p:sp>
          <p:nvSpPr>
            <p:cNvPr id="1210" name="Shape 613"/>
            <p:cNvSpPr/>
            <p:nvPr/>
          </p:nvSpPr>
          <p:spPr>
            <a:xfrm>
              <a:off x="452520" y="2684880"/>
              <a:ext cx="1645920" cy="101880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004b62"/>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1" name="Shape 614"/>
            <p:cNvSpPr/>
            <p:nvPr/>
          </p:nvSpPr>
          <p:spPr>
            <a:xfrm>
              <a:off x="1275480" y="2524320"/>
              <a:ext cx="1645920" cy="117936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22957b">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2" name="Shape 615"/>
            <p:cNvSpPr/>
            <p:nvPr/>
          </p:nvSpPr>
          <p:spPr>
            <a:xfrm>
              <a:off x="2098440" y="2741760"/>
              <a:ext cx="1645920" cy="96192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c5e041">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3" name="Shape 616"/>
            <p:cNvSpPr/>
            <p:nvPr/>
          </p:nvSpPr>
          <p:spPr>
            <a:xfrm>
              <a:off x="2921400" y="2226600"/>
              <a:ext cx="1645920" cy="14770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fee419">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4" name="Shape 617"/>
            <p:cNvSpPr/>
            <p:nvPr/>
          </p:nvSpPr>
          <p:spPr>
            <a:xfrm>
              <a:off x="3744360" y="2553120"/>
              <a:ext cx="1645920" cy="115056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fd7f00">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5" name="Shape 618"/>
            <p:cNvSpPr/>
            <p:nvPr/>
          </p:nvSpPr>
          <p:spPr>
            <a:xfrm>
              <a:off x="4567320" y="2226600"/>
              <a:ext cx="1645920" cy="14770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ee3b42"/>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6" name="Shape 619"/>
            <p:cNvSpPr/>
            <p:nvPr/>
          </p:nvSpPr>
          <p:spPr>
            <a:xfrm>
              <a:off x="5390280" y="2840400"/>
              <a:ext cx="1645920" cy="8632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00384a">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7" name="Shape 620"/>
            <p:cNvSpPr/>
            <p:nvPr/>
          </p:nvSpPr>
          <p:spPr>
            <a:xfrm>
              <a:off x="6213240" y="2275920"/>
              <a:ext cx="1645920" cy="142776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19705c">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8" name="Shape 621"/>
            <p:cNvSpPr/>
            <p:nvPr/>
          </p:nvSpPr>
          <p:spPr>
            <a:xfrm>
              <a:off x="7036200" y="2840400"/>
              <a:ext cx="1645920" cy="863280"/>
            </a:xfrm>
            <a:custGeom>
              <a:avLst/>
              <a:gdLst/>
              <a:ahLst/>
              <a:rect l="l" t="t" r="r" b="b"/>
              <a:pathLst>
                <a:path w="21600" h="21593">
                  <a:moveTo>
                    <a:pt x="5362" y="8702"/>
                  </a:moveTo>
                  <a:cubicBezTo>
                    <a:pt x="6154" y="3493"/>
                    <a:pt x="8339" y="-7"/>
                    <a:pt x="10794" y="0"/>
                  </a:cubicBezTo>
                  <a:cubicBezTo>
                    <a:pt x="13249" y="6"/>
                    <a:pt x="15430" y="3519"/>
                    <a:pt x="16217" y="8734"/>
                  </a:cubicBezTo>
                  <a:cubicBezTo>
                    <a:pt x="16576" y="11187"/>
                    <a:pt x="17136" y="13469"/>
                    <a:pt x="17869" y="15463"/>
                  </a:cubicBezTo>
                  <a:cubicBezTo>
                    <a:pt x="18864" y="18174"/>
                    <a:pt x="20147" y="20279"/>
                    <a:pt x="21600" y="21585"/>
                  </a:cubicBezTo>
                  <a:cubicBezTo>
                    <a:pt x="17994" y="21587"/>
                    <a:pt x="14388" y="21588"/>
                    <a:pt x="10782" y="21589"/>
                  </a:cubicBezTo>
                  <a:cubicBezTo>
                    <a:pt x="7188" y="21591"/>
                    <a:pt x="3594" y="21592"/>
                    <a:pt x="0" y="21593"/>
                  </a:cubicBezTo>
                  <a:cubicBezTo>
                    <a:pt x="1456" y="20285"/>
                    <a:pt x="2740" y="18169"/>
                    <a:pt x="3731" y="15444"/>
                  </a:cubicBezTo>
                  <a:cubicBezTo>
                    <a:pt x="4457" y="13445"/>
                    <a:pt x="5011" y="11158"/>
                    <a:pt x="5362" y="8702"/>
                  </a:cubicBezTo>
                  <a:close/>
                </a:path>
              </a:pathLst>
            </a:custGeom>
            <a:solidFill>
              <a:srgbClr val="a0ba1e">
                <a:alpha val="90000"/>
              </a:srgbClr>
            </a:solidFill>
            <a:ln w="0">
              <a:noFill/>
            </a:ln>
          </p:spPr>
          <p:style>
            <a:lnRef idx="0"/>
            <a:fillRef idx="0"/>
            <a:effectRef idx="0"/>
            <a:fontRef idx="minor"/>
          </p:style>
          <p:txBody>
            <a:bodyPr lIns="0" rIns="0" tIns="0" bIns="0" anchor="ctr">
              <a:noAutofit/>
            </a:bodyPr>
            <a:p>
              <a:endParaRPr b="0" lang="en-US" sz="1300" spc="-1" strike="noStrike">
                <a:solidFill>
                  <a:srgbClr val="000000"/>
                </a:solidFill>
                <a:latin typeface="Calibri"/>
              </a:endParaRPr>
            </a:p>
          </p:txBody>
        </p:sp>
        <p:sp>
          <p:nvSpPr>
            <p:cNvPr id="1219" name="Shape 624"/>
            <p:cNvSpPr/>
            <p:nvPr/>
          </p:nvSpPr>
          <p:spPr>
            <a:xfrm>
              <a:off x="980280" y="22921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57%</a:t>
              </a:r>
              <a:endParaRPr b="0" lang="en-US" sz="1200" spc="-1" strike="noStrike">
                <a:solidFill>
                  <a:srgbClr val="000000"/>
                </a:solidFill>
                <a:latin typeface="Calibri"/>
              </a:endParaRPr>
            </a:p>
          </p:txBody>
        </p:sp>
        <p:sp>
          <p:nvSpPr>
            <p:cNvPr id="1220" name="Shape 625"/>
            <p:cNvSpPr/>
            <p:nvPr/>
          </p:nvSpPr>
          <p:spPr>
            <a:xfrm>
              <a:off x="6741360" y="194184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37%</a:t>
              </a:r>
              <a:endParaRPr b="0" lang="en-US" sz="1200" spc="-1" strike="noStrike">
                <a:solidFill>
                  <a:srgbClr val="000000"/>
                </a:solidFill>
                <a:latin typeface="Calibri"/>
              </a:endParaRPr>
            </a:p>
          </p:txBody>
        </p:sp>
        <p:sp>
          <p:nvSpPr>
            <p:cNvPr id="1221" name="Shape 626"/>
            <p:cNvSpPr/>
            <p:nvPr/>
          </p:nvSpPr>
          <p:spPr>
            <a:xfrm>
              <a:off x="5095440" y="19411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46%</a:t>
              </a:r>
              <a:endParaRPr b="0" lang="en-US" sz="1200" spc="-1" strike="noStrike">
                <a:solidFill>
                  <a:srgbClr val="000000"/>
                </a:solidFill>
                <a:latin typeface="Calibri"/>
              </a:endParaRPr>
            </a:p>
          </p:txBody>
        </p:sp>
        <p:sp>
          <p:nvSpPr>
            <p:cNvPr id="1222" name="Shape 627"/>
            <p:cNvSpPr/>
            <p:nvPr/>
          </p:nvSpPr>
          <p:spPr>
            <a:xfrm>
              <a:off x="3449520" y="184500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47%</a:t>
              </a:r>
              <a:endParaRPr b="0" lang="en-US" sz="1200" spc="-1" strike="noStrike">
                <a:solidFill>
                  <a:srgbClr val="000000"/>
                </a:solidFill>
                <a:latin typeface="Calibri"/>
              </a:endParaRPr>
            </a:p>
          </p:txBody>
        </p:sp>
        <p:sp>
          <p:nvSpPr>
            <p:cNvPr id="1223" name="Shape 628"/>
            <p:cNvSpPr/>
            <p:nvPr/>
          </p:nvSpPr>
          <p:spPr>
            <a:xfrm>
              <a:off x="2626560" y="23641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82%</a:t>
              </a:r>
              <a:endParaRPr b="0" lang="en-US" sz="1200" spc="-1" strike="noStrike">
                <a:solidFill>
                  <a:srgbClr val="000000"/>
                </a:solidFill>
                <a:latin typeface="Calibri"/>
              </a:endParaRPr>
            </a:p>
          </p:txBody>
        </p:sp>
        <p:sp>
          <p:nvSpPr>
            <p:cNvPr id="1224" name="Shape 629"/>
            <p:cNvSpPr/>
            <p:nvPr/>
          </p:nvSpPr>
          <p:spPr>
            <a:xfrm>
              <a:off x="7564320" y="24883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77%</a:t>
              </a:r>
              <a:endParaRPr b="0" lang="en-US" sz="1200" spc="-1" strike="noStrike">
                <a:solidFill>
                  <a:srgbClr val="000000"/>
                </a:solidFill>
                <a:latin typeface="Calibri"/>
              </a:endParaRPr>
            </a:p>
          </p:txBody>
        </p:sp>
        <p:sp>
          <p:nvSpPr>
            <p:cNvPr id="1225" name="Shape 631"/>
            <p:cNvSpPr/>
            <p:nvPr/>
          </p:nvSpPr>
          <p:spPr>
            <a:xfrm>
              <a:off x="5918400" y="24163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71%</a:t>
              </a:r>
              <a:endParaRPr b="0" lang="en-US" sz="1200" spc="-1" strike="noStrike">
                <a:solidFill>
                  <a:srgbClr val="000000"/>
                </a:solidFill>
                <a:latin typeface="Calibri"/>
              </a:endParaRPr>
            </a:p>
          </p:txBody>
        </p:sp>
        <p:sp>
          <p:nvSpPr>
            <p:cNvPr id="1226" name="Shape 632"/>
            <p:cNvSpPr/>
            <p:nvPr/>
          </p:nvSpPr>
          <p:spPr>
            <a:xfrm>
              <a:off x="4272480" y="218952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61%</a:t>
              </a:r>
              <a:endParaRPr b="0" lang="en-US" sz="1200" spc="-1" strike="noStrike">
                <a:solidFill>
                  <a:srgbClr val="000000"/>
                </a:solidFill>
                <a:latin typeface="Calibri"/>
              </a:endParaRPr>
            </a:p>
          </p:txBody>
        </p:sp>
        <p:sp>
          <p:nvSpPr>
            <p:cNvPr id="1227" name="Shape 633"/>
            <p:cNvSpPr/>
            <p:nvPr/>
          </p:nvSpPr>
          <p:spPr>
            <a:xfrm>
              <a:off x="1803600" y="2106000"/>
              <a:ext cx="589680" cy="320760"/>
            </a:xfrm>
            <a:prstGeom prst="rect">
              <a:avLst/>
            </a:prstGeom>
            <a:noFill/>
            <a:ln w="0">
              <a:noFill/>
            </a:ln>
          </p:spPr>
          <p:style>
            <a:lnRef idx="0"/>
            <a:fillRef idx="0"/>
            <a:effectRef idx="0"/>
            <a:fontRef idx="minor"/>
          </p:style>
          <p:txBody>
            <a:bodyPr lIns="50760" rIns="50760" tIns="50760" bIns="50760" anchor="ctr">
              <a:spAutoFit/>
            </a:bodyPr>
            <a:p>
              <a:pPr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200" spc="-1" strike="noStrike">
                  <a:solidFill>
                    <a:srgbClr val="004b62"/>
                  </a:solidFill>
                  <a:latin typeface="Lato Light"/>
                  <a:ea typeface="Calibri"/>
                </a:rPr>
                <a:t>75%</a:t>
              </a:r>
              <a:endParaRPr b="0" lang="en-US" sz="1200" spc="-1" strike="noStrike">
                <a:solidFill>
                  <a:srgbClr val="000000"/>
                </a:solidFill>
                <a:latin typeface="Calibri"/>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Forma libre 14"/>
          <p:cNvSpPr/>
          <p:nvPr/>
        </p:nvSpPr>
        <p:spPr>
          <a:xfrm flipH="1">
            <a:off x="3843360" y="0"/>
            <a:ext cx="5300640" cy="5289480"/>
          </a:xfrm>
          <a:custGeom>
            <a:avLst/>
            <a:gdLst/>
            <a:ahLst/>
            <a:rect l="l" t="t" r="r" b="b"/>
            <a:pathLst>
              <a:path w="5300615" h="5288850">
                <a:moveTo>
                  <a:pt x="5299628" y="0"/>
                </a:moveTo>
                <a:lnTo>
                  <a:pt x="0" y="0"/>
                </a:lnTo>
                <a:lnTo>
                  <a:pt x="0" y="2374605"/>
                </a:lnTo>
                <a:lnTo>
                  <a:pt x="471" y="2372272"/>
                </a:lnTo>
                <a:cubicBezTo>
                  <a:pt x="20058" y="2325962"/>
                  <a:pt x="65913" y="2293468"/>
                  <a:pt x="119358" y="2293468"/>
                </a:cubicBezTo>
                <a:cubicBezTo>
                  <a:pt x="172803" y="2293468"/>
                  <a:pt x="218658" y="2325962"/>
                  <a:pt x="238245" y="2372272"/>
                </a:cubicBezTo>
                <a:lnTo>
                  <a:pt x="246634" y="2413821"/>
                </a:lnTo>
                <a:lnTo>
                  <a:pt x="246634" y="3359079"/>
                </a:lnTo>
                <a:cubicBezTo>
                  <a:pt x="246634" y="3412524"/>
                  <a:pt x="279128" y="3458379"/>
                  <a:pt x="325437" y="3477967"/>
                </a:cubicBezTo>
                <a:lnTo>
                  <a:pt x="373507" y="3487671"/>
                </a:lnTo>
                <a:lnTo>
                  <a:pt x="373507" y="3488409"/>
                </a:lnTo>
                <a:lnTo>
                  <a:pt x="396987" y="3490776"/>
                </a:lnTo>
                <a:cubicBezTo>
                  <a:pt x="427786" y="3497078"/>
                  <a:pt x="454769" y="3513854"/>
                  <a:pt x="474052" y="3537220"/>
                </a:cubicBezTo>
                <a:lnTo>
                  <a:pt x="495469" y="3574552"/>
                </a:lnTo>
                <a:lnTo>
                  <a:pt x="495469" y="3715332"/>
                </a:lnTo>
                <a:cubicBezTo>
                  <a:pt x="495469" y="3786592"/>
                  <a:pt x="553236" y="3844359"/>
                  <a:pt x="624496" y="3844359"/>
                </a:cubicBezTo>
                <a:lnTo>
                  <a:pt x="624495" y="3844360"/>
                </a:lnTo>
                <a:cubicBezTo>
                  <a:pt x="695755" y="3844360"/>
                  <a:pt x="753522" y="3786593"/>
                  <a:pt x="753522" y="3715333"/>
                </a:cubicBezTo>
                <a:lnTo>
                  <a:pt x="753522" y="3654669"/>
                </a:lnTo>
                <a:lnTo>
                  <a:pt x="756196" y="3641426"/>
                </a:lnTo>
                <a:cubicBezTo>
                  <a:pt x="775783" y="3595116"/>
                  <a:pt x="821638" y="3562622"/>
                  <a:pt x="875083" y="3562622"/>
                </a:cubicBezTo>
                <a:cubicBezTo>
                  <a:pt x="928528" y="3562622"/>
                  <a:pt x="974383" y="3595116"/>
                  <a:pt x="993970" y="3641426"/>
                </a:cubicBezTo>
                <a:lnTo>
                  <a:pt x="1002359" y="3682976"/>
                </a:lnTo>
                <a:lnTo>
                  <a:pt x="1002359" y="4059351"/>
                </a:lnTo>
                <a:cubicBezTo>
                  <a:pt x="1002359" y="4112796"/>
                  <a:pt x="1034853" y="4158651"/>
                  <a:pt x="1081162" y="4178239"/>
                </a:cubicBezTo>
                <a:lnTo>
                  <a:pt x="1129232" y="4187943"/>
                </a:lnTo>
                <a:lnTo>
                  <a:pt x="1129232" y="4188681"/>
                </a:lnTo>
                <a:lnTo>
                  <a:pt x="1152712" y="4191048"/>
                </a:lnTo>
                <a:cubicBezTo>
                  <a:pt x="1198910" y="4200501"/>
                  <a:pt x="1236522" y="4233521"/>
                  <a:pt x="1252441" y="4276997"/>
                </a:cubicBezTo>
                <a:lnTo>
                  <a:pt x="1254645" y="4289487"/>
                </a:lnTo>
                <a:lnTo>
                  <a:pt x="1254645" y="4654741"/>
                </a:lnTo>
                <a:cubicBezTo>
                  <a:pt x="1254645" y="4726001"/>
                  <a:pt x="1312412" y="4783768"/>
                  <a:pt x="1383672" y="4783768"/>
                </a:cubicBezTo>
                <a:lnTo>
                  <a:pt x="1383671" y="4783769"/>
                </a:lnTo>
                <a:cubicBezTo>
                  <a:pt x="1454931" y="4783769"/>
                  <a:pt x="1512698" y="4726002"/>
                  <a:pt x="1512698" y="4654742"/>
                </a:cubicBezTo>
                <a:lnTo>
                  <a:pt x="1512698" y="4520834"/>
                </a:lnTo>
                <a:lnTo>
                  <a:pt x="1514902" y="4508344"/>
                </a:lnTo>
                <a:cubicBezTo>
                  <a:pt x="1530821" y="4464868"/>
                  <a:pt x="1568433" y="4431848"/>
                  <a:pt x="1614631" y="4422395"/>
                </a:cubicBezTo>
                <a:lnTo>
                  <a:pt x="1638111" y="4420028"/>
                </a:lnTo>
                <a:lnTo>
                  <a:pt x="1638111" y="4419290"/>
                </a:lnTo>
                <a:lnTo>
                  <a:pt x="1686181" y="4409586"/>
                </a:lnTo>
                <a:cubicBezTo>
                  <a:pt x="1732490" y="4389998"/>
                  <a:pt x="1764984" y="4344143"/>
                  <a:pt x="1764984" y="4290698"/>
                </a:cubicBezTo>
                <a:lnTo>
                  <a:pt x="1764984" y="4137295"/>
                </a:lnTo>
                <a:lnTo>
                  <a:pt x="1767174" y="4126450"/>
                </a:lnTo>
                <a:cubicBezTo>
                  <a:pt x="1786761" y="4080140"/>
                  <a:pt x="1832616" y="4047646"/>
                  <a:pt x="1886061" y="4047646"/>
                </a:cubicBezTo>
                <a:cubicBezTo>
                  <a:pt x="1939506" y="4047646"/>
                  <a:pt x="1985361" y="4080140"/>
                  <a:pt x="2004948" y="4126450"/>
                </a:cubicBezTo>
                <a:lnTo>
                  <a:pt x="2013337" y="4168000"/>
                </a:lnTo>
                <a:lnTo>
                  <a:pt x="2013337" y="4281984"/>
                </a:lnTo>
                <a:cubicBezTo>
                  <a:pt x="2013337" y="4335429"/>
                  <a:pt x="2045831" y="4381284"/>
                  <a:pt x="2092140" y="4400872"/>
                </a:cubicBezTo>
                <a:lnTo>
                  <a:pt x="2140210" y="4410576"/>
                </a:lnTo>
                <a:lnTo>
                  <a:pt x="2140210" y="4411314"/>
                </a:lnTo>
                <a:lnTo>
                  <a:pt x="2163690" y="4413681"/>
                </a:lnTo>
                <a:cubicBezTo>
                  <a:pt x="2194489" y="4419983"/>
                  <a:pt x="2221471" y="4436759"/>
                  <a:pt x="2240755" y="4460125"/>
                </a:cubicBezTo>
                <a:lnTo>
                  <a:pt x="2259424" y="4492667"/>
                </a:lnTo>
                <a:lnTo>
                  <a:pt x="2259424" y="4539405"/>
                </a:lnTo>
                <a:cubicBezTo>
                  <a:pt x="2259424" y="4610665"/>
                  <a:pt x="2317191" y="4668432"/>
                  <a:pt x="2388451" y="4668432"/>
                </a:cubicBezTo>
                <a:lnTo>
                  <a:pt x="2388450" y="4668433"/>
                </a:lnTo>
                <a:cubicBezTo>
                  <a:pt x="2459710" y="4668433"/>
                  <a:pt x="2517477" y="4610666"/>
                  <a:pt x="2517477" y="4539406"/>
                </a:cubicBezTo>
                <a:lnTo>
                  <a:pt x="2517477" y="4230460"/>
                </a:lnTo>
                <a:lnTo>
                  <a:pt x="2521075" y="4212641"/>
                </a:lnTo>
                <a:cubicBezTo>
                  <a:pt x="2540662" y="4166331"/>
                  <a:pt x="2586517" y="4133837"/>
                  <a:pt x="2639962" y="4133837"/>
                </a:cubicBezTo>
                <a:cubicBezTo>
                  <a:pt x="2693407" y="4133837"/>
                  <a:pt x="2739262" y="4166331"/>
                  <a:pt x="2758850" y="4212641"/>
                </a:cubicBezTo>
                <a:lnTo>
                  <a:pt x="2768988" y="4262860"/>
                </a:lnTo>
                <a:lnTo>
                  <a:pt x="2768989" y="2004263"/>
                </a:lnTo>
                <a:lnTo>
                  <a:pt x="2768989" y="5159822"/>
                </a:lnTo>
                <a:cubicBezTo>
                  <a:pt x="2768989" y="5231082"/>
                  <a:pt x="2826756" y="5288849"/>
                  <a:pt x="2898016" y="5288849"/>
                </a:cubicBezTo>
                <a:lnTo>
                  <a:pt x="2898015" y="5288850"/>
                </a:lnTo>
                <a:cubicBezTo>
                  <a:pt x="2969275" y="5288850"/>
                  <a:pt x="3027042" y="5231083"/>
                  <a:pt x="3027042" y="5159823"/>
                </a:cubicBezTo>
                <a:lnTo>
                  <a:pt x="3027042" y="4573421"/>
                </a:lnTo>
                <a:lnTo>
                  <a:pt x="3036806" y="4525061"/>
                </a:lnTo>
                <a:cubicBezTo>
                  <a:pt x="3056393" y="4478751"/>
                  <a:pt x="3102248" y="4446257"/>
                  <a:pt x="3155693" y="4446257"/>
                </a:cubicBezTo>
                <a:cubicBezTo>
                  <a:pt x="3209138" y="4446257"/>
                  <a:pt x="3254993" y="4478751"/>
                  <a:pt x="3274581" y="4525061"/>
                </a:cubicBezTo>
                <a:lnTo>
                  <a:pt x="3284719" y="4575280"/>
                </a:lnTo>
                <a:lnTo>
                  <a:pt x="3284720" y="2004263"/>
                </a:lnTo>
                <a:lnTo>
                  <a:pt x="3284720" y="4558757"/>
                </a:lnTo>
                <a:cubicBezTo>
                  <a:pt x="3284720" y="4630017"/>
                  <a:pt x="3342487" y="4687784"/>
                  <a:pt x="3413747" y="4687784"/>
                </a:cubicBezTo>
                <a:lnTo>
                  <a:pt x="3413746" y="4687785"/>
                </a:lnTo>
                <a:cubicBezTo>
                  <a:pt x="3485006" y="4687785"/>
                  <a:pt x="3542773" y="4630018"/>
                  <a:pt x="3542773" y="4558758"/>
                </a:cubicBezTo>
                <a:lnTo>
                  <a:pt x="3542773" y="4454117"/>
                </a:lnTo>
                <a:lnTo>
                  <a:pt x="3543025" y="4452688"/>
                </a:lnTo>
                <a:cubicBezTo>
                  <a:pt x="3558944" y="4409212"/>
                  <a:pt x="3596557" y="4376192"/>
                  <a:pt x="3642754" y="4366739"/>
                </a:cubicBezTo>
                <a:lnTo>
                  <a:pt x="3666234" y="4364372"/>
                </a:lnTo>
                <a:lnTo>
                  <a:pt x="3666234" y="4363634"/>
                </a:lnTo>
                <a:lnTo>
                  <a:pt x="3714304" y="4353930"/>
                </a:lnTo>
                <a:cubicBezTo>
                  <a:pt x="3760613" y="4334342"/>
                  <a:pt x="3793107" y="4288487"/>
                  <a:pt x="3793107" y="4235042"/>
                </a:cubicBezTo>
                <a:lnTo>
                  <a:pt x="3793107" y="3994172"/>
                </a:lnTo>
                <a:lnTo>
                  <a:pt x="3795297" y="3983328"/>
                </a:lnTo>
                <a:cubicBezTo>
                  <a:pt x="3814884" y="3937018"/>
                  <a:pt x="3860739" y="3904524"/>
                  <a:pt x="3914184" y="3904524"/>
                </a:cubicBezTo>
                <a:cubicBezTo>
                  <a:pt x="3967629" y="3904524"/>
                  <a:pt x="4013484" y="3937018"/>
                  <a:pt x="4033071" y="3983328"/>
                </a:cubicBezTo>
                <a:lnTo>
                  <a:pt x="4041460" y="4024878"/>
                </a:lnTo>
                <a:lnTo>
                  <a:pt x="4041460" y="4115008"/>
                </a:lnTo>
                <a:cubicBezTo>
                  <a:pt x="4041460" y="4168453"/>
                  <a:pt x="4073954" y="4214308"/>
                  <a:pt x="4120263" y="4233896"/>
                </a:cubicBezTo>
                <a:lnTo>
                  <a:pt x="4168333" y="4243600"/>
                </a:lnTo>
                <a:lnTo>
                  <a:pt x="4168333" y="4244338"/>
                </a:lnTo>
                <a:lnTo>
                  <a:pt x="4191813" y="4246705"/>
                </a:lnTo>
                <a:cubicBezTo>
                  <a:pt x="4238011" y="4256158"/>
                  <a:pt x="4275623" y="4289178"/>
                  <a:pt x="4291542" y="4332654"/>
                </a:cubicBezTo>
                <a:lnTo>
                  <a:pt x="4293545" y="4344005"/>
                </a:lnTo>
                <a:lnTo>
                  <a:pt x="4293545" y="4624024"/>
                </a:lnTo>
                <a:cubicBezTo>
                  <a:pt x="4293545" y="4695284"/>
                  <a:pt x="4351312" y="4753051"/>
                  <a:pt x="4422572" y="4753051"/>
                </a:cubicBezTo>
                <a:lnTo>
                  <a:pt x="4422571" y="4753052"/>
                </a:lnTo>
                <a:cubicBezTo>
                  <a:pt x="4493831" y="4753052"/>
                  <a:pt x="4551598" y="4695285"/>
                  <a:pt x="4551598" y="4624025"/>
                </a:cubicBezTo>
                <a:lnTo>
                  <a:pt x="4551598" y="4355700"/>
                </a:lnTo>
                <a:lnTo>
                  <a:pt x="4551849" y="4354277"/>
                </a:lnTo>
                <a:cubicBezTo>
                  <a:pt x="4567768" y="4310801"/>
                  <a:pt x="4605380" y="4277781"/>
                  <a:pt x="4651578" y="4268328"/>
                </a:cubicBezTo>
                <a:lnTo>
                  <a:pt x="4675058" y="4265961"/>
                </a:lnTo>
                <a:lnTo>
                  <a:pt x="4675058" y="4265223"/>
                </a:lnTo>
                <a:lnTo>
                  <a:pt x="4723128" y="4255519"/>
                </a:lnTo>
                <a:cubicBezTo>
                  <a:pt x="4769437" y="4235931"/>
                  <a:pt x="4801931" y="4190076"/>
                  <a:pt x="4801931" y="4136631"/>
                </a:cubicBezTo>
                <a:lnTo>
                  <a:pt x="4801931" y="3576838"/>
                </a:lnTo>
                <a:lnTo>
                  <a:pt x="4801951" y="3576725"/>
                </a:lnTo>
                <a:cubicBezTo>
                  <a:pt x="4817870" y="3533249"/>
                  <a:pt x="4855482" y="3500229"/>
                  <a:pt x="4901680" y="3490776"/>
                </a:cubicBezTo>
                <a:lnTo>
                  <a:pt x="4925160" y="3488409"/>
                </a:lnTo>
                <a:lnTo>
                  <a:pt x="4925160" y="3487671"/>
                </a:lnTo>
                <a:lnTo>
                  <a:pt x="4973230" y="3477967"/>
                </a:lnTo>
                <a:cubicBezTo>
                  <a:pt x="5019539" y="3458379"/>
                  <a:pt x="5052033" y="3412524"/>
                  <a:pt x="5052033" y="3359079"/>
                </a:cubicBezTo>
                <a:lnTo>
                  <a:pt x="5052033" y="3295765"/>
                </a:lnTo>
                <a:lnTo>
                  <a:pt x="5073198" y="3258874"/>
                </a:lnTo>
                <a:cubicBezTo>
                  <a:pt x="5092481" y="3235508"/>
                  <a:pt x="5119463" y="3218732"/>
                  <a:pt x="5150262" y="3212430"/>
                </a:cubicBezTo>
                <a:lnTo>
                  <a:pt x="5173742" y="3210063"/>
                </a:lnTo>
                <a:lnTo>
                  <a:pt x="5173742" y="3209325"/>
                </a:lnTo>
                <a:lnTo>
                  <a:pt x="5221812" y="3199621"/>
                </a:lnTo>
                <a:cubicBezTo>
                  <a:pt x="5268121" y="3180033"/>
                  <a:pt x="5300615" y="3134178"/>
                  <a:pt x="5300615" y="3080733"/>
                </a:cubicBezTo>
                <a:lnTo>
                  <a:pt x="5300615" y="2004263"/>
                </a:lnTo>
                <a:lnTo>
                  <a:pt x="5299628" y="2004263"/>
                </a:lnTo>
                <a:lnTo>
                  <a:pt x="52996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1229" name="Agrupar 35" descr=""/>
          <p:cNvPicPr/>
          <p:nvPr/>
        </p:nvPicPr>
        <p:blipFill>
          <a:blip r:embed="rId1"/>
          <a:stretch/>
        </p:blipFill>
        <p:spPr>
          <a:xfrm>
            <a:off x="5291280" y="4309920"/>
            <a:ext cx="268200" cy="255600"/>
          </a:xfrm>
          <a:prstGeom prst="rect">
            <a:avLst/>
          </a:prstGeom>
          <a:ln w="0">
            <a:noFill/>
          </a:ln>
        </p:spPr>
      </p:pic>
      <p:sp>
        <p:nvSpPr>
          <p:cNvPr id="1230" name="Forma libre 11"/>
          <p:cNvSpPr/>
          <p:nvPr/>
        </p:nvSpPr>
        <p:spPr>
          <a:xfrm>
            <a:off x="8129520" y="4438800"/>
            <a:ext cx="25740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c5e041"/>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31" name="PlaceHolder 1"/>
          <p:cNvSpPr>
            <a:spLocks noGrp="1"/>
          </p:cNvSpPr>
          <p:nvPr>
            <p:ph/>
          </p:nvPr>
        </p:nvSpPr>
        <p:spPr>
          <a:xfrm>
            <a:off x="468000" y="743040"/>
            <a:ext cx="410364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Reach goals</a:t>
            </a:r>
            <a:endParaRPr b="0" lang="en-US" sz="4000" spc="-1" strike="noStrike">
              <a:solidFill>
                <a:srgbClr val="000000"/>
              </a:solidFill>
              <a:latin typeface="Calibri"/>
            </a:endParaRPr>
          </a:p>
        </p:txBody>
      </p:sp>
      <p:sp>
        <p:nvSpPr>
          <p:cNvPr id="1232" name="PlaceHolder 2"/>
          <p:cNvSpPr>
            <a:spLocks noGrp="1"/>
          </p:cNvSpPr>
          <p:nvPr>
            <p:ph/>
          </p:nvPr>
        </p:nvSpPr>
        <p:spPr>
          <a:xfrm>
            <a:off x="468000" y="1363320"/>
            <a:ext cx="410364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SUBTITLE EXAMPLE HERE</a:t>
            </a:r>
            <a:endParaRPr b="0" lang="en-US" sz="1000" spc="-1" strike="noStrike">
              <a:solidFill>
                <a:srgbClr val="000000"/>
              </a:solidFill>
              <a:latin typeface="Calibri"/>
            </a:endParaRPr>
          </a:p>
        </p:txBody>
      </p:sp>
      <p:sp>
        <p:nvSpPr>
          <p:cNvPr id="1233" name="Text Placeholder 20"/>
          <p:cNvSpPr/>
          <p:nvPr/>
        </p:nvSpPr>
        <p:spPr>
          <a:xfrm>
            <a:off x="1270080" y="214308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1234" name="Text Placeholder 23"/>
          <p:cNvSpPr/>
          <p:nvPr/>
        </p:nvSpPr>
        <p:spPr>
          <a:xfrm>
            <a:off x="1270080" y="244620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35" name="Text Placeholder 20"/>
          <p:cNvSpPr/>
          <p:nvPr/>
        </p:nvSpPr>
        <p:spPr>
          <a:xfrm>
            <a:off x="1270080" y="290052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1236" name="Text Placeholder 23"/>
          <p:cNvSpPr/>
          <p:nvPr/>
        </p:nvSpPr>
        <p:spPr>
          <a:xfrm>
            <a:off x="1270080" y="320364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37" name="Text Placeholder 20"/>
          <p:cNvSpPr/>
          <p:nvPr/>
        </p:nvSpPr>
        <p:spPr>
          <a:xfrm>
            <a:off x="1270080" y="3705120"/>
            <a:ext cx="29574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38" name="Text Placeholder 23"/>
          <p:cNvSpPr/>
          <p:nvPr/>
        </p:nvSpPr>
        <p:spPr>
          <a:xfrm>
            <a:off x="1270080" y="40086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39" name="Text Placeholder 20"/>
          <p:cNvSpPr/>
          <p:nvPr/>
        </p:nvSpPr>
        <p:spPr>
          <a:xfrm>
            <a:off x="369720" y="2195640"/>
            <a:ext cx="80820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1240" name="Text Placeholder 20"/>
          <p:cNvSpPr/>
          <p:nvPr/>
        </p:nvSpPr>
        <p:spPr>
          <a:xfrm>
            <a:off x="369720" y="296388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1241" name="Text Placeholder 20"/>
          <p:cNvSpPr/>
          <p:nvPr/>
        </p:nvSpPr>
        <p:spPr>
          <a:xfrm>
            <a:off x="369720" y="3724200"/>
            <a:ext cx="80820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 Placeholder 23"/>
          <p:cNvSpPr/>
          <p:nvPr/>
        </p:nvSpPr>
        <p:spPr>
          <a:xfrm>
            <a:off x="4854600" y="2019240"/>
            <a:ext cx="3621240" cy="22766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a:t>
            </a:r>
            <a:endParaRPr b="0" lang="en-US" sz="900" spc="-1" strike="noStrike">
              <a:solidFill>
                <a:srgbClr val="000000"/>
              </a:solidFill>
              <a:latin typeface="Calibri"/>
            </a:endParaRPr>
          </a:p>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p:txBody>
      </p:sp>
      <p:sp>
        <p:nvSpPr>
          <p:cNvPr id="1243" name="PlaceHolder 1"/>
          <p:cNvSpPr>
            <a:spLocks noGrp="1"/>
          </p:cNvSpPr>
          <p:nvPr>
            <p:ph/>
          </p:nvPr>
        </p:nvSpPr>
        <p:spPr>
          <a:xfrm>
            <a:off x="1895040" y="372600"/>
            <a:ext cx="536724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More than you see</a:t>
            </a:r>
            <a:endParaRPr b="0" lang="en-US" sz="4000" spc="-1" strike="noStrike">
              <a:solidFill>
                <a:srgbClr val="000000"/>
              </a:solidFill>
              <a:latin typeface="Calibri"/>
            </a:endParaRPr>
          </a:p>
        </p:txBody>
      </p:sp>
      <p:sp>
        <p:nvSpPr>
          <p:cNvPr id="1244"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TEXT WITH IMAGE PLACEHOLDER</a:t>
            </a:r>
            <a:endParaRPr b="0" lang="en-US" sz="1000" spc="-1" strike="noStrike">
              <a:solidFill>
                <a:srgbClr val="000000"/>
              </a:solidFill>
              <a:latin typeface="Calibri"/>
            </a:endParaRPr>
          </a:p>
        </p:txBody>
      </p:sp>
      <p:sp>
        <p:nvSpPr>
          <p:cNvPr id="1245" name="Text Placeholder 20"/>
          <p:cNvSpPr/>
          <p:nvPr/>
        </p:nvSpPr>
        <p:spPr>
          <a:xfrm>
            <a:off x="4854600" y="1747800"/>
            <a:ext cx="27352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YOU CAN PUT YOUR TITLE HERE</a:t>
            </a:r>
            <a:endParaRPr b="0" lang="en-US" sz="1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p:nvPr>
        </p:nvSpPr>
        <p:spPr>
          <a:xfrm>
            <a:off x="2496600" y="51876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Laptop mockup</a:t>
            </a:r>
            <a:endParaRPr b="0" lang="en-US" sz="4000" spc="-1" strike="noStrike">
              <a:solidFill>
                <a:srgbClr val="000000"/>
              </a:solidFill>
              <a:latin typeface="Calibri"/>
            </a:endParaRPr>
          </a:p>
        </p:txBody>
      </p:sp>
      <p:sp>
        <p:nvSpPr>
          <p:cNvPr id="1247" name="PlaceHolder 2"/>
          <p:cNvSpPr>
            <a:spLocks noGrp="1"/>
          </p:cNvSpPr>
          <p:nvPr>
            <p:ph/>
          </p:nvPr>
        </p:nvSpPr>
        <p:spPr>
          <a:xfrm>
            <a:off x="2496600" y="113976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CKUP WITH IMAGE PLACESHOLDER</a:t>
            </a:r>
            <a:endParaRPr b="0" lang="en-US" sz="1000" spc="-1" strike="noStrike">
              <a:solidFill>
                <a:srgbClr val="000000"/>
              </a:solidFill>
              <a:latin typeface="Calibri"/>
            </a:endParaRPr>
          </a:p>
        </p:txBody>
      </p:sp>
      <p:sp>
        <p:nvSpPr>
          <p:cNvPr id="1248" name="Text Placeholder 20"/>
          <p:cNvSpPr/>
          <p:nvPr/>
        </p:nvSpPr>
        <p:spPr>
          <a:xfrm>
            <a:off x="5719680" y="1865160"/>
            <a:ext cx="295596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1249" name="Text Placeholder 23"/>
          <p:cNvSpPr/>
          <p:nvPr/>
        </p:nvSpPr>
        <p:spPr>
          <a:xfrm>
            <a:off x="5719680" y="216864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50" name="Text Placeholder 20"/>
          <p:cNvSpPr/>
          <p:nvPr/>
        </p:nvSpPr>
        <p:spPr>
          <a:xfrm>
            <a:off x="5719680" y="2622600"/>
            <a:ext cx="295596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1251" name="Text Placeholder 23"/>
          <p:cNvSpPr/>
          <p:nvPr/>
        </p:nvSpPr>
        <p:spPr>
          <a:xfrm>
            <a:off x="5719680" y="2927520"/>
            <a:ext cx="2955960" cy="3520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52" name="Text Placeholder 20"/>
          <p:cNvSpPr/>
          <p:nvPr/>
        </p:nvSpPr>
        <p:spPr>
          <a:xfrm>
            <a:off x="5719680" y="342756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53" name="Text Placeholder 23"/>
          <p:cNvSpPr/>
          <p:nvPr/>
        </p:nvSpPr>
        <p:spPr>
          <a:xfrm>
            <a:off x="5719680" y="373068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54" name="Text Placeholder 20"/>
          <p:cNvSpPr/>
          <p:nvPr/>
        </p:nvSpPr>
        <p:spPr>
          <a:xfrm>
            <a:off x="4818240" y="1917720"/>
            <a:ext cx="80928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A</a:t>
            </a:r>
            <a:endParaRPr b="0" lang="en-US" sz="5000" spc="-1" strike="noStrike">
              <a:solidFill>
                <a:srgbClr val="000000"/>
              </a:solidFill>
              <a:latin typeface="Calibri"/>
            </a:endParaRPr>
          </a:p>
        </p:txBody>
      </p:sp>
      <p:sp>
        <p:nvSpPr>
          <p:cNvPr id="1255" name="Text Placeholder 20"/>
          <p:cNvSpPr/>
          <p:nvPr/>
        </p:nvSpPr>
        <p:spPr>
          <a:xfrm>
            <a:off x="4818240" y="2685960"/>
            <a:ext cx="809280" cy="6127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B</a:t>
            </a:r>
            <a:endParaRPr b="0" lang="en-US" sz="5000" spc="-1" strike="noStrike">
              <a:solidFill>
                <a:srgbClr val="000000"/>
              </a:solidFill>
              <a:latin typeface="Calibri"/>
            </a:endParaRPr>
          </a:p>
        </p:txBody>
      </p:sp>
      <p:sp>
        <p:nvSpPr>
          <p:cNvPr id="1256" name="Text Placeholder 20"/>
          <p:cNvSpPr/>
          <p:nvPr/>
        </p:nvSpPr>
        <p:spPr>
          <a:xfrm>
            <a:off x="4818240" y="3446640"/>
            <a:ext cx="80928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C</a:t>
            </a:r>
            <a:endParaRPr b="0" lang="en-US" sz="5000" spc="-1" strike="noStrike">
              <a:solidFill>
                <a:srgbClr val="000000"/>
              </a:solidFill>
              <a:latin typeface="Calibri"/>
            </a:endParaRPr>
          </a:p>
        </p:txBody>
      </p:sp>
      <p:pic>
        <p:nvPicPr>
          <p:cNvPr id="1257" name="" descr=""/>
          <p:cNvPicPr/>
          <p:nvPr/>
        </p:nvPicPr>
        <p:blipFill>
          <a:blip r:embed="rId1"/>
          <a:stretch/>
        </p:blipFill>
        <p:spPr>
          <a:xfrm>
            <a:off x="982800" y="1984320"/>
            <a:ext cx="3411360" cy="21542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p:nvPr>
        </p:nvSpPr>
        <p:spPr>
          <a:xfrm>
            <a:off x="473040" y="372600"/>
            <a:ext cx="4162320" cy="57636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ablet mockup</a:t>
            </a:r>
            <a:endParaRPr b="0" lang="en-US" sz="4000" spc="-1" strike="noStrike">
              <a:solidFill>
                <a:srgbClr val="000000"/>
              </a:solidFill>
              <a:latin typeface="Calibri"/>
            </a:endParaRPr>
          </a:p>
        </p:txBody>
      </p:sp>
      <p:sp>
        <p:nvSpPr>
          <p:cNvPr id="1259" name="PlaceHolder 2"/>
          <p:cNvSpPr>
            <a:spLocks noGrp="1"/>
          </p:cNvSpPr>
          <p:nvPr>
            <p:ph/>
          </p:nvPr>
        </p:nvSpPr>
        <p:spPr>
          <a:xfrm>
            <a:off x="473040" y="993600"/>
            <a:ext cx="4162320" cy="222480"/>
          </a:xfrm>
          <a:prstGeom prst="rect">
            <a:avLst/>
          </a:prstGeom>
          <a:noFill/>
          <a:ln w="0">
            <a:noFill/>
          </a:ln>
        </p:spPr>
        <p:txBody>
          <a:bodyPr lIns="0" rIns="90000" tIns="46800" bIns="46800" anchor="t">
            <a:normAutofit fontScale="95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CKUP WITH IMAGE PLACESHOLDER</a:t>
            </a:r>
            <a:endParaRPr b="0" lang="en-US" sz="1000" spc="-1" strike="noStrike">
              <a:solidFill>
                <a:srgbClr val="000000"/>
              </a:solidFill>
              <a:latin typeface="Calibri"/>
            </a:endParaRPr>
          </a:p>
        </p:txBody>
      </p:sp>
      <p:sp>
        <p:nvSpPr>
          <p:cNvPr id="1260" name="Text Placeholder 20"/>
          <p:cNvSpPr/>
          <p:nvPr/>
        </p:nvSpPr>
        <p:spPr>
          <a:xfrm>
            <a:off x="1370160" y="144144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1</a:t>
            </a:r>
            <a:endParaRPr b="0" lang="en-US" sz="1000" spc="-1" strike="noStrike">
              <a:solidFill>
                <a:srgbClr val="000000"/>
              </a:solidFill>
              <a:latin typeface="Calibri"/>
            </a:endParaRPr>
          </a:p>
        </p:txBody>
      </p:sp>
      <p:sp>
        <p:nvSpPr>
          <p:cNvPr id="1261" name="Text Placeholder 23"/>
          <p:cNvSpPr/>
          <p:nvPr/>
        </p:nvSpPr>
        <p:spPr>
          <a:xfrm>
            <a:off x="1370160" y="1744560"/>
            <a:ext cx="29556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62" name="Text Placeholder 20"/>
          <p:cNvSpPr/>
          <p:nvPr/>
        </p:nvSpPr>
        <p:spPr>
          <a:xfrm>
            <a:off x="1370160" y="2198520"/>
            <a:ext cx="2955600" cy="30348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2</a:t>
            </a:r>
            <a:endParaRPr b="0" lang="en-US" sz="1000" spc="-1" strike="noStrike">
              <a:solidFill>
                <a:srgbClr val="000000"/>
              </a:solidFill>
              <a:latin typeface="Calibri"/>
            </a:endParaRPr>
          </a:p>
        </p:txBody>
      </p:sp>
      <p:sp>
        <p:nvSpPr>
          <p:cNvPr id="1263" name="Text Placeholder 23"/>
          <p:cNvSpPr/>
          <p:nvPr/>
        </p:nvSpPr>
        <p:spPr>
          <a:xfrm>
            <a:off x="1370160" y="2502000"/>
            <a:ext cx="29556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64" name="Text Placeholder 20"/>
          <p:cNvSpPr/>
          <p:nvPr/>
        </p:nvSpPr>
        <p:spPr>
          <a:xfrm>
            <a:off x="1370160" y="300348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65" name="Text Placeholder 23"/>
          <p:cNvSpPr/>
          <p:nvPr/>
        </p:nvSpPr>
        <p:spPr>
          <a:xfrm>
            <a:off x="1370160" y="3306600"/>
            <a:ext cx="29556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66" name="Text Placeholder 20"/>
          <p:cNvSpPr/>
          <p:nvPr/>
        </p:nvSpPr>
        <p:spPr>
          <a:xfrm>
            <a:off x="468360" y="1494000"/>
            <a:ext cx="809640" cy="61092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31cfff"/>
                </a:solidFill>
                <a:latin typeface="Raleway Light"/>
                <a:ea typeface="Raleway Light"/>
              </a:rPr>
              <a:t>01</a:t>
            </a:r>
            <a:endParaRPr b="0" lang="en-US" sz="5000" spc="-1" strike="noStrike">
              <a:solidFill>
                <a:srgbClr val="000000"/>
              </a:solidFill>
              <a:latin typeface="Calibri"/>
            </a:endParaRPr>
          </a:p>
        </p:txBody>
      </p:sp>
      <p:sp>
        <p:nvSpPr>
          <p:cNvPr id="1267" name="Text Placeholder 20"/>
          <p:cNvSpPr/>
          <p:nvPr/>
        </p:nvSpPr>
        <p:spPr>
          <a:xfrm>
            <a:off x="468360" y="226224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5fdbbf"/>
                </a:solidFill>
                <a:latin typeface="Raleway Light"/>
                <a:ea typeface="Raleway Light"/>
              </a:rPr>
              <a:t>02</a:t>
            </a:r>
            <a:endParaRPr b="0" lang="en-US" sz="5000" spc="-1" strike="noStrike">
              <a:solidFill>
                <a:srgbClr val="000000"/>
              </a:solidFill>
              <a:latin typeface="Calibri"/>
            </a:endParaRPr>
          </a:p>
        </p:txBody>
      </p:sp>
      <p:sp>
        <p:nvSpPr>
          <p:cNvPr id="1268" name="Text Placeholder 20"/>
          <p:cNvSpPr/>
          <p:nvPr/>
        </p:nvSpPr>
        <p:spPr>
          <a:xfrm>
            <a:off x="468360" y="302256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c5e041"/>
                </a:solidFill>
                <a:latin typeface="Raleway Light"/>
                <a:ea typeface="Raleway Light"/>
              </a:rPr>
              <a:t>03</a:t>
            </a:r>
            <a:endParaRPr b="0" lang="en-US" sz="5000" spc="-1" strike="noStrike">
              <a:solidFill>
                <a:srgbClr val="000000"/>
              </a:solidFill>
              <a:latin typeface="Calibri"/>
            </a:endParaRPr>
          </a:p>
        </p:txBody>
      </p:sp>
      <p:sp>
        <p:nvSpPr>
          <p:cNvPr id="1269" name="Text Placeholder 20"/>
          <p:cNvSpPr/>
          <p:nvPr/>
        </p:nvSpPr>
        <p:spPr>
          <a:xfrm>
            <a:off x="1370160" y="381312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Gallery image feature 03</a:t>
            </a:r>
            <a:endParaRPr b="0" lang="en-US" sz="1000" spc="-1" strike="noStrike">
              <a:solidFill>
                <a:srgbClr val="000000"/>
              </a:solidFill>
              <a:latin typeface="Calibri"/>
            </a:endParaRPr>
          </a:p>
        </p:txBody>
      </p:sp>
      <p:sp>
        <p:nvSpPr>
          <p:cNvPr id="1270" name="Text Placeholder 23"/>
          <p:cNvSpPr/>
          <p:nvPr/>
        </p:nvSpPr>
        <p:spPr>
          <a:xfrm>
            <a:off x="1370160" y="4116240"/>
            <a:ext cx="29556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1271" name="Text Placeholder 20"/>
          <p:cNvSpPr/>
          <p:nvPr/>
        </p:nvSpPr>
        <p:spPr>
          <a:xfrm>
            <a:off x="468360" y="3832200"/>
            <a:ext cx="809640" cy="611280"/>
          </a:xfrm>
          <a:prstGeom prst="rect">
            <a:avLst/>
          </a:prstGeom>
          <a:noFill/>
          <a:ln w="0">
            <a:noFill/>
          </a:ln>
        </p:spPr>
        <p:style>
          <a:lnRef idx="0"/>
          <a:fillRef idx="0"/>
          <a:effectRef idx="0"/>
          <a:fontRef idx="minor"/>
        </p:style>
        <p:txBody>
          <a:bodyPr lIns="0" rIns="0" tIns="72000" bIns="7200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fd7f00"/>
                </a:solidFill>
                <a:latin typeface="Raleway Light"/>
                <a:ea typeface="Raleway Light"/>
              </a:rPr>
              <a:t>04</a:t>
            </a:r>
            <a:endParaRPr b="0" lang="en-US" sz="5000" spc="-1" strike="noStrike">
              <a:solidFill>
                <a:srgbClr val="000000"/>
              </a:solidFill>
              <a:latin typeface="Calibri"/>
            </a:endParaRPr>
          </a:p>
        </p:txBody>
      </p:sp>
      <p:pic>
        <p:nvPicPr>
          <p:cNvPr id="1272" name="" descr=""/>
          <p:cNvPicPr/>
          <p:nvPr/>
        </p:nvPicPr>
        <p:blipFill>
          <a:blip r:embed="rId1"/>
          <a:stretch/>
        </p:blipFill>
        <p:spPr>
          <a:xfrm>
            <a:off x="5346720" y="808200"/>
            <a:ext cx="2681280" cy="355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ángulo redondeado 26"/>
          <p:cNvSpPr/>
          <p:nvPr/>
        </p:nvSpPr>
        <p:spPr>
          <a:xfrm>
            <a:off x="2554200" y="4287960"/>
            <a:ext cx="258840" cy="255600"/>
          </a:xfrm>
          <a:prstGeom prst="roundRect">
            <a:avLst>
              <a:gd name="adj" fmla="val 50000"/>
            </a:avLst>
          </a:prstGeom>
          <a:solidFill>
            <a:srgbClr val="5fdbb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274" name="Agrupar 27" descr=""/>
          <p:cNvPicPr/>
          <p:nvPr/>
        </p:nvPicPr>
        <p:blipFill>
          <a:blip r:embed="rId1"/>
          <a:stretch/>
        </p:blipFill>
        <p:spPr>
          <a:xfrm>
            <a:off x="731880" y="4413240"/>
            <a:ext cx="268200" cy="262080"/>
          </a:xfrm>
          <a:prstGeom prst="rect">
            <a:avLst/>
          </a:prstGeom>
          <a:ln w="0">
            <a:noFill/>
          </a:ln>
        </p:spPr>
      </p:pic>
      <p:pic>
        <p:nvPicPr>
          <p:cNvPr id="1275" name="Agrupar 31" descr=""/>
          <p:cNvPicPr/>
          <p:nvPr/>
        </p:nvPicPr>
        <p:blipFill>
          <a:blip r:embed="rId2"/>
          <a:stretch/>
        </p:blipFill>
        <p:spPr>
          <a:xfrm>
            <a:off x="4614840" y="3157560"/>
            <a:ext cx="262080" cy="262080"/>
          </a:xfrm>
          <a:prstGeom prst="rect">
            <a:avLst/>
          </a:prstGeom>
          <a:ln w="0">
            <a:noFill/>
          </a:ln>
        </p:spPr>
      </p:pic>
      <p:sp>
        <p:nvSpPr>
          <p:cNvPr id="1276" name="Forma libre 39"/>
          <p:cNvSpPr/>
          <p:nvPr/>
        </p:nvSpPr>
        <p:spPr>
          <a:xfrm>
            <a:off x="7116840" y="3821040"/>
            <a:ext cx="2570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cd121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77" name="Marcador de texto 13"/>
          <p:cNvSpPr/>
          <p:nvPr/>
        </p:nvSpPr>
        <p:spPr>
          <a:xfrm>
            <a:off x="689040" y="1449360"/>
            <a:ext cx="7765920" cy="617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2f2f2"/>
                </a:solidFill>
                <a:latin typeface="Raleway Light"/>
                <a:ea typeface="Raleway Light"/>
              </a:rPr>
              <a:t>Impress</a:t>
            </a:r>
            <a:endParaRPr b="0" lang="en-US" sz="5000" spc="-1" strike="noStrike">
              <a:solidFill>
                <a:srgbClr val="000000"/>
              </a:solidFill>
              <a:latin typeface="Calibri"/>
            </a:endParaRPr>
          </a:p>
        </p:txBody>
      </p:sp>
      <p:sp>
        <p:nvSpPr>
          <p:cNvPr id="1278" name="Text Placeholder 20"/>
          <p:cNvSpPr/>
          <p:nvPr/>
        </p:nvSpPr>
        <p:spPr>
          <a:xfrm>
            <a:off x="3205080" y="2066760"/>
            <a:ext cx="2733840" cy="30492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Raleway Black"/>
                <a:ea typeface="Raleway Black"/>
              </a:rPr>
              <a:t>TITLE EXAMPLE HERE</a:t>
            </a:r>
            <a:endParaRPr b="0" lang="en-US" sz="10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Forma libre 10"/>
          <p:cNvSpPr/>
          <p:nvPr/>
        </p:nvSpPr>
        <p:spPr>
          <a:xfrm flipH="1">
            <a:off x="3673440" y="-433440"/>
            <a:ext cx="5564160" cy="5550120"/>
          </a:xfrm>
          <a:custGeom>
            <a:avLst/>
            <a:gdLst/>
            <a:ahLst/>
            <a:rect l="l" t="t" r="r" b="b"/>
            <a:pathLst>
              <a:path w="5563679" h="5550115">
                <a:moveTo>
                  <a:pt x="1087705" y="0"/>
                </a:moveTo>
                <a:lnTo>
                  <a:pt x="1157844" y="0"/>
                </a:lnTo>
                <a:lnTo>
                  <a:pt x="1161143" y="499"/>
                </a:lnTo>
                <a:cubicBezTo>
                  <a:pt x="1197505" y="11809"/>
                  <a:pt x="1226971" y="38770"/>
                  <a:pt x="1241661" y="73502"/>
                </a:cubicBezTo>
                <a:lnTo>
                  <a:pt x="1244335" y="86745"/>
                </a:lnTo>
                <a:lnTo>
                  <a:pt x="1244335" y="147409"/>
                </a:lnTo>
                <a:cubicBezTo>
                  <a:pt x="1244335" y="218669"/>
                  <a:pt x="1302102" y="276436"/>
                  <a:pt x="1373362" y="276436"/>
                </a:cubicBezTo>
                <a:lnTo>
                  <a:pt x="1373361" y="276435"/>
                </a:lnTo>
                <a:lnTo>
                  <a:pt x="1390772" y="272920"/>
                </a:lnTo>
                <a:lnTo>
                  <a:pt x="1399039" y="274589"/>
                </a:lnTo>
                <a:lnTo>
                  <a:pt x="1399039" y="275327"/>
                </a:lnTo>
                <a:lnTo>
                  <a:pt x="1422519" y="277694"/>
                </a:lnTo>
                <a:cubicBezTo>
                  <a:pt x="1468717" y="287147"/>
                  <a:pt x="1506329" y="320167"/>
                  <a:pt x="1522248" y="363643"/>
                </a:cubicBezTo>
                <a:lnTo>
                  <a:pt x="1522268" y="363756"/>
                </a:lnTo>
                <a:lnTo>
                  <a:pt x="1522268" y="923549"/>
                </a:lnTo>
                <a:cubicBezTo>
                  <a:pt x="1522268" y="976994"/>
                  <a:pt x="1554762" y="1022849"/>
                  <a:pt x="1601071" y="1042437"/>
                </a:cubicBezTo>
                <a:lnTo>
                  <a:pt x="1649141" y="1052141"/>
                </a:lnTo>
                <a:lnTo>
                  <a:pt x="1649141" y="1052879"/>
                </a:lnTo>
                <a:lnTo>
                  <a:pt x="1672621" y="1055246"/>
                </a:lnTo>
                <a:cubicBezTo>
                  <a:pt x="1718819" y="1064699"/>
                  <a:pt x="1756431" y="1097719"/>
                  <a:pt x="1772350" y="1141195"/>
                </a:cubicBezTo>
                <a:lnTo>
                  <a:pt x="1772601" y="1142618"/>
                </a:lnTo>
                <a:lnTo>
                  <a:pt x="1772601" y="1410943"/>
                </a:lnTo>
                <a:cubicBezTo>
                  <a:pt x="1772601" y="1482203"/>
                  <a:pt x="1830368" y="1539970"/>
                  <a:pt x="1901628" y="1539970"/>
                </a:cubicBezTo>
                <a:lnTo>
                  <a:pt x="1901627" y="1539969"/>
                </a:lnTo>
                <a:cubicBezTo>
                  <a:pt x="1972887" y="1539969"/>
                  <a:pt x="2030654" y="1482202"/>
                  <a:pt x="2030654" y="1410942"/>
                </a:cubicBezTo>
                <a:lnTo>
                  <a:pt x="2030654" y="1130923"/>
                </a:lnTo>
                <a:lnTo>
                  <a:pt x="2032657" y="1119572"/>
                </a:lnTo>
                <a:cubicBezTo>
                  <a:pt x="2048576" y="1076096"/>
                  <a:pt x="2086188" y="1043076"/>
                  <a:pt x="2132386" y="1033623"/>
                </a:cubicBezTo>
                <a:lnTo>
                  <a:pt x="2155866" y="1031256"/>
                </a:lnTo>
                <a:lnTo>
                  <a:pt x="2155866" y="1030518"/>
                </a:lnTo>
                <a:lnTo>
                  <a:pt x="2203936" y="1020814"/>
                </a:lnTo>
                <a:cubicBezTo>
                  <a:pt x="2250245" y="1001226"/>
                  <a:pt x="2282739" y="955371"/>
                  <a:pt x="2282739" y="901926"/>
                </a:cubicBezTo>
                <a:lnTo>
                  <a:pt x="2282739" y="811796"/>
                </a:lnTo>
                <a:lnTo>
                  <a:pt x="2291128" y="770246"/>
                </a:lnTo>
                <a:cubicBezTo>
                  <a:pt x="2310715" y="723936"/>
                  <a:pt x="2356570" y="691442"/>
                  <a:pt x="2410015" y="691442"/>
                </a:cubicBezTo>
                <a:cubicBezTo>
                  <a:pt x="2463460" y="691442"/>
                  <a:pt x="2509315" y="723936"/>
                  <a:pt x="2528902" y="770246"/>
                </a:cubicBezTo>
                <a:lnTo>
                  <a:pt x="2531092" y="781090"/>
                </a:lnTo>
                <a:lnTo>
                  <a:pt x="2531092" y="1021960"/>
                </a:lnTo>
                <a:cubicBezTo>
                  <a:pt x="2531092" y="1075405"/>
                  <a:pt x="2563586" y="1121260"/>
                  <a:pt x="2609895" y="1140848"/>
                </a:cubicBezTo>
                <a:lnTo>
                  <a:pt x="2657965" y="1150552"/>
                </a:lnTo>
                <a:lnTo>
                  <a:pt x="2657965" y="1151290"/>
                </a:lnTo>
                <a:lnTo>
                  <a:pt x="2681445" y="1153657"/>
                </a:lnTo>
                <a:cubicBezTo>
                  <a:pt x="2727642" y="1163110"/>
                  <a:pt x="2765255" y="1196130"/>
                  <a:pt x="2781174" y="1239606"/>
                </a:cubicBezTo>
                <a:lnTo>
                  <a:pt x="2781426" y="1241035"/>
                </a:lnTo>
                <a:lnTo>
                  <a:pt x="2781426" y="1345676"/>
                </a:lnTo>
                <a:cubicBezTo>
                  <a:pt x="2781426" y="1416936"/>
                  <a:pt x="2839193" y="1474703"/>
                  <a:pt x="2910453" y="1474703"/>
                </a:cubicBezTo>
                <a:lnTo>
                  <a:pt x="2910452" y="1474702"/>
                </a:lnTo>
                <a:cubicBezTo>
                  <a:pt x="2981712" y="1474702"/>
                  <a:pt x="3039479" y="1416935"/>
                  <a:pt x="3039479" y="1345675"/>
                </a:cubicBezTo>
                <a:lnTo>
                  <a:pt x="3039479" y="0"/>
                </a:lnTo>
                <a:lnTo>
                  <a:pt x="3039480" y="0"/>
                </a:lnTo>
                <a:lnTo>
                  <a:pt x="3039480" y="1362198"/>
                </a:lnTo>
                <a:lnTo>
                  <a:pt x="3049618" y="1311979"/>
                </a:lnTo>
                <a:cubicBezTo>
                  <a:pt x="3069206" y="1265669"/>
                  <a:pt x="3115061" y="1233175"/>
                  <a:pt x="3168506" y="1233175"/>
                </a:cubicBezTo>
                <a:cubicBezTo>
                  <a:pt x="3221951" y="1233175"/>
                  <a:pt x="3267806" y="1265669"/>
                  <a:pt x="3287393" y="1311979"/>
                </a:cubicBezTo>
                <a:lnTo>
                  <a:pt x="3297157" y="1360339"/>
                </a:lnTo>
                <a:lnTo>
                  <a:pt x="3297157" y="1946741"/>
                </a:lnTo>
                <a:cubicBezTo>
                  <a:pt x="3297157" y="2018001"/>
                  <a:pt x="3354924" y="2075768"/>
                  <a:pt x="3426184" y="2075768"/>
                </a:cubicBezTo>
                <a:lnTo>
                  <a:pt x="3426183" y="2075767"/>
                </a:lnTo>
                <a:cubicBezTo>
                  <a:pt x="3497443" y="2075767"/>
                  <a:pt x="3555210" y="2018000"/>
                  <a:pt x="3555210" y="1946740"/>
                </a:cubicBezTo>
                <a:lnTo>
                  <a:pt x="3555210" y="0"/>
                </a:lnTo>
                <a:lnTo>
                  <a:pt x="3555211" y="1049778"/>
                </a:lnTo>
                <a:lnTo>
                  <a:pt x="3565349" y="999559"/>
                </a:lnTo>
                <a:cubicBezTo>
                  <a:pt x="3584937" y="953249"/>
                  <a:pt x="3630792" y="920755"/>
                  <a:pt x="3684237" y="920755"/>
                </a:cubicBezTo>
                <a:cubicBezTo>
                  <a:pt x="3737682" y="920755"/>
                  <a:pt x="3783537" y="953249"/>
                  <a:pt x="3803124" y="999559"/>
                </a:cubicBezTo>
                <a:lnTo>
                  <a:pt x="3806722" y="1017378"/>
                </a:lnTo>
                <a:lnTo>
                  <a:pt x="3806722" y="1326324"/>
                </a:lnTo>
                <a:cubicBezTo>
                  <a:pt x="3806722" y="1397584"/>
                  <a:pt x="3864489" y="1455351"/>
                  <a:pt x="3935749" y="1455351"/>
                </a:cubicBezTo>
                <a:lnTo>
                  <a:pt x="3935748" y="1455350"/>
                </a:lnTo>
                <a:cubicBezTo>
                  <a:pt x="4007008" y="1455350"/>
                  <a:pt x="4064775" y="1397583"/>
                  <a:pt x="4064775" y="1326323"/>
                </a:cubicBezTo>
                <a:lnTo>
                  <a:pt x="4064775" y="1279585"/>
                </a:lnTo>
                <a:lnTo>
                  <a:pt x="4083444" y="1247043"/>
                </a:lnTo>
                <a:cubicBezTo>
                  <a:pt x="4102728" y="1223677"/>
                  <a:pt x="4129710" y="1206901"/>
                  <a:pt x="4160509" y="1200599"/>
                </a:cubicBezTo>
                <a:lnTo>
                  <a:pt x="4183989" y="1198232"/>
                </a:lnTo>
                <a:lnTo>
                  <a:pt x="4183989" y="1197494"/>
                </a:lnTo>
                <a:lnTo>
                  <a:pt x="4232059" y="1187790"/>
                </a:lnTo>
                <a:cubicBezTo>
                  <a:pt x="4278368" y="1168202"/>
                  <a:pt x="4310862" y="1122347"/>
                  <a:pt x="4310862" y="1068902"/>
                </a:cubicBezTo>
                <a:lnTo>
                  <a:pt x="4310862" y="954918"/>
                </a:lnTo>
                <a:lnTo>
                  <a:pt x="4319251" y="913368"/>
                </a:lnTo>
                <a:cubicBezTo>
                  <a:pt x="4338838" y="867058"/>
                  <a:pt x="4384693" y="834564"/>
                  <a:pt x="4438138" y="834564"/>
                </a:cubicBezTo>
                <a:cubicBezTo>
                  <a:pt x="4491583" y="834564"/>
                  <a:pt x="4537438" y="867058"/>
                  <a:pt x="4557025" y="913368"/>
                </a:cubicBezTo>
                <a:lnTo>
                  <a:pt x="4559215" y="924213"/>
                </a:lnTo>
                <a:lnTo>
                  <a:pt x="4559215" y="1077616"/>
                </a:lnTo>
                <a:cubicBezTo>
                  <a:pt x="4559215" y="1131061"/>
                  <a:pt x="4591709" y="1176916"/>
                  <a:pt x="4638018" y="1196504"/>
                </a:cubicBezTo>
                <a:lnTo>
                  <a:pt x="4686088" y="1206208"/>
                </a:lnTo>
                <a:lnTo>
                  <a:pt x="4686088" y="1206946"/>
                </a:lnTo>
                <a:lnTo>
                  <a:pt x="4709568" y="1209313"/>
                </a:lnTo>
                <a:cubicBezTo>
                  <a:pt x="4755766" y="1218766"/>
                  <a:pt x="4793378" y="1251786"/>
                  <a:pt x="4809296" y="1295262"/>
                </a:cubicBezTo>
                <a:lnTo>
                  <a:pt x="4811500" y="1307752"/>
                </a:lnTo>
                <a:lnTo>
                  <a:pt x="4811500" y="1441660"/>
                </a:lnTo>
                <a:cubicBezTo>
                  <a:pt x="4811500" y="1512920"/>
                  <a:pt x="4869267" y="1570687"/>
                  <a:pt x="4940527" y="1570687"/>
                </a:cubicBezTo>
                <a:lnTo>
                  <a:pt x="4940526" y="1570686"/>
                </a:lnTo>
                <a:cubicBezTo>
                  <a:pt x="5011786" y="1570686"/>
                  <a:pt x="5069553" y="1512919"/>
                  <a:pt x="5069553" y="1441659"/>
                </a:cubicBezTo>
                <a:lnTo>
                  <a:pt x="5069553" y="1076405"/>
                </a:lnTo>
                <a:lnTo>
                  <a:pt x="5071757" y="1063915"/>
                </a:lnTo>
                <a:cubicBezTo>
                  <a:pt x="5087676" y="1020439"/>
                  <a:pt x="5125288" y="987419"/>
                  <a:pt x="5171486" y="977966"/>
                </a:cubicBezTo>
                <a:lnTo>
                  <a:pt x="5194966" y="975599"/>
                </a:lnTo>
                <a:lnTo>
                  <a:pt x="5194966" y="974861"/>
                </a:lnTo>
                <a:lnTo>
                  <a:pt x="5243036" y="965157"/>
                </a:lnTo>
                <a:cubicBezTo>
                  <a:pt x="5289345" y="945569"/>
                  <a:pt x="5321839" y="899714"/>
                  <a:pt x="5321839" y="846269"/>
                </a:cubicBezTo>
                <a:lnTo>
                  <a:pt x="5321839" y="469894"/>
                </a:lnTo>
                <a:lnTo>
                  <a:pt x="5330228" y="428344"/>
                </a:lnTo>
                <a:cubicBezTo>
                  <a:pt x="5349815" y="382034"/>
                  <a:pt x="5395670" y="349540"/>
                  <a:pt x="5449115" y="349540"/>
                </a:cubicBezTo>
                <a:cubicBezTo>
                  <a:pt x="5489199" y="349540"/>
                  <a:pt x="5525013" y="367818"/>
                  <a:pt x="5548678" y="396494"/>
                </a:cubicBezTo>
                <a:lnTo>
                  <a:pt x="5562692" y="419592"/>
                </a:lnTo>
                <a:lnTo>
                  <a:pt x="5562692" y="2265528"/>
                </a:lnTo>
                <a:lnTo>
                  <a:pt x="5563679" y="2265528"/>
                </a:lnTo>
                <a:lnTo>
                  <a:pt x="5563679" y="3341998"/>
                </a:lnTo>
                <a:cubicBezTo>
                  <a:pt x="5563679" y="3395443"/>
                  <a:pt x="5531185" y="3441298"/>
                  <a:pt x="5484876" y="3460886"/>
                </a:cubicBezTo>
                <a:lnTo>
                  <a:pt x="5436806" y="3470590"/>
                </a:lnTo>
                <a:lnTo>
                  <a:pt x="5436806" y="3471328"/>
                </a:lnTo>
                <a:lnTo>
                  <a:pt x="5413326" y="3473695"/>
                </a:lnTo>
                <a:cubicBezTo>
                  <a:pt x="5382527" y="3479997"/>
                  <a:pt x="5355545" y="3496773"/>
                  <a:pt x="5336262" y="3520139"/>
                </a:cubicBezTo>
                <a:lnTo>
                  <a:pt x="5315097" y="3557030"/>
                </a:lnTo>
                <a:lnTo>
                  <a:pt x="5315097" y="3620344"/>
                </a:lnTo>
                <a:cubicBezTo>
                  <a:pt x="5315097" y="3673789"/>
                  <a:pt x="5282603" y="3719644"/>
                  <a:pt x="5236294" y="3739232"/>
                </a:cubicBezTo>
                <a:lnTo>
                  <a:pt x="5188224" y="3748936"/>
                </a:lnTo>
                <a:lnTo>
                  <a:pt x="5188224" y="3749674"/>
                </a:lnTo>
                <a:lnTo>
                  <a:pt x="5164744" y="3752041"/>
                </a:lnTo>
                <a:cubicBezTo>
                  <a:pt x="5118546" y="3761494"/>
                  <a:pt x="5080934" y="3794514"/>
                  <a:pt x="5065015" y="3837990"/>
                </a:cubicBezTo>
                <a:lnTo>
                  <a:pt x="5064995" y="3838103"/>
                </a:lnTo>
                <a:lnTo>
                  <a:pt x="5064995" y="4397896"/>
                </a:lnTo>
                <a:cubicBezTo>
                  <a:pt x="5064995" y="4451341"/>
                  <a:pt x="5032501" y="4497196"/>
                  <a:pt x="4986192" y="4516784"/>
                </a:cubicBezTo>
                <a:lnTo>
                  <a:pt x="4938122" y="4526488"/>
                </a:lnTo>
                <a:lnTo>
                  <a:pt x="4938122" y="4527226"/>
                </a:lnTo>
                <a:lnTo>
                  <a:pt x="4914642" y="4529593"/>
                </a:lnTo>
                <a:cubicBezTo>
                  <a:pt x="4868444" y="4539046"/>
                  <a:pt x="4830832" y="4572066"/>
                  <a:pt x="4814913" y="4615542"/>
                </a:cubicBezTo>
                <a:lnTo>
                  <a:pt x="4814662" y="4616965"/>
                </a:lnTo>
                <a:lnTo>
                  <a:pt x="4814662" y="4885290"/>
                </a:lnTo>
                <a:cubicBezTo>
                  <a:pt x="4814662" y="4956550"/>
                  <a:pt x="4756895" y="5014317"/>
                  <a:pt x="4685635" y="5014317"/>
                </a:cubicBezTo>
                <a:lnTo>
                  <a:pt x="4685636" y="5014316"/>
                </a:lnTo>
                <a:cubicBezTo>
                  <a:pt x="4614376" y="5014316"/>
                  <a:pt x="4556609" y="4956549"/>
                  <a:pt x="4556609" y="4885289"/>
                </a:cubicBezTo>
                <a:lnTo>
                  <a:pt x="4556609" y="4605270"/>
                </a:lnTo>
                <a:lnTo>
                  <a:pt x="4554606" y="4593919"/>
                </a:lnTo>
                <a:cubicBezTo>
                  <a:pt x="4538687" y="4550443"/>
                  <a:pt x="4501075" y="4517423"/>
                  <a:pt x="4454877" y="4507970"/>
                </a:cubicBezTo>
                <a:lnTo>
                  <a:pt x="4431397" y="4505603"/>
                </a:lnTo>
                <a:lnTo>
                  <a:pt x="4431397" y="4504865"/>
                </a:lnTo>
                <a:lnTo>
                  <a:pt x="4383327" y="4495161"/>
                </a:lnTo>
                <a:cubicBezTo>
                  <a:pt x="4337018" y="4475573"/>
                  <a:pt x="4304524" y="4429718"/>
                  <a:pt x="4304524" y="4376273"/>
                </a:cubicBezTo>
                <a:lnTo>
                  <a:pt x="4304524" y="4286143"/>
                </a:lnTo>
                <a:lnTo>
                  <a:pt x="4296135" y="4244593"/>
                </a:lnTo>
                <a:cubicBezTo>
                  <a:pt x="4276548" y="4198283"/>
                  <a:pt x="4230693" y="4165789"/>
                  <a:pt x="4177248" y="4165789"/>
                </a:cubicBezTo>
                <a:cubicBezTo>
                  <a:pt x="4123803" y="4165789"/>
                  <a:pt x="4077948" y="4198283"/>
                  <a:pt x="4058361" y="4244593"/>
                </a:cubicBezTo>
                <a:lnTo>
                  <a:pt x="4056171" y="4255437"/>
                </a:lnTo>
                <a:lnTo>
                  <a:pt x="4056171" y="4496307"/>
                </a:lnTo>
                <a:cubicBezTo>
                  <a:pt x="4056171" y="4549752"/>
                  <a:pt x="4023677" y="4595607"/>
                  <a:pt x="3977368" y="4615195"/>
                </a:cubicBezTo>
                <a:lnTo>
                  <a:pt x="3929298" y="4624899"/>
                </a:lnTo>
                <a:lnTo>
                  <a:pt x="3929298" y="4625637"/>
                </a:lnTo>
                <a:lnTo>
                  <a:pt x="3905818" y="4628004"/>
                </a:lnTo>
                <a:cubicBezTo>
                  <a:pt x="3859621" y="4637457"/>
                  <a:pt x="3822008" y="4670477"/>
                  <a:pt x="3806089" y="4713953"/>
                </a:cubicBezTo>
                <a:lnTo>
                  <a:pt x="3805837" y="4715382"/>
                </a:lnTo>
                <a:lnTo>
                  <a:pt x="3805837" y="4820023"/>
                </a:lnTo>
                <a:cubicBezTo>
                  <a:pt x="3805837" y="4891283"/>
                  <a:pt x="3748070" y="4949050"/>
                  <a:pt x="3676810" y="4949050"/>
                </a:cubicBezTo>
                <a:lnTo>
                  <a:pt x="3676811" y="4949049"/>
                </a:lnTo>
                <a:cubicBezTo>
                  <a:pt x="3605551" y="4949049"/>
                  <a:pt x="3547784" y="4891282"/>
                  <a:pt x="3547784" y="4820022"/>
                </a:cubicBezTo>
                <a:lnTo>
                  <a:pt x="3547784" y="2265528"/>
                </a:lnTo>
                <a:lnTo>
                  <a:pt x="3547783" y="4836545"/>
                </a:lnTo>
                <a:lnTo>
                  <a:pt x="3537645" y="4786326"/>
                </a:lnTo>
                <a:cubicBezTo>
                  <a:pt x="3518057" y="4740016"/>
                  <a:pt x="3472202" y="4707522"/>
                  <a:pt x="3418757" y="4707522"/>
                </a:cubicBezTo>
                <a:cubicBezTo>
                  <a:pt x="3365312" y="4707522"/>
                  <a:pt x="3319457" y="4740016"/>
                  <a:pt x="3299870" y="4786326"/>
                </a:cubicBezTo>
                <a:lnTo>
                  <a:pt x="3290106" y="4834686"/>
                </a:lnTo>
                <a:lnTo>
                  <a:pt x="3290106" y="5421088"/>
                </a:lnTo>
                <a:cubicBezTo>
                  <a:pt x="3290106" y="5492348"/>
                  <a:pt x="3232339" y="5550115"/>
                  <a:pt x="3161079" y="5550115"/>
                </a:cubicBezTo>
                <a:lnTo>
                  <a:pt x="3161080" y="5550114"/>
                </a:lnTo>
                <a:cubicBezTo>
                  <a:pt x="3089820" y="5550114"/>
                  <a:pt x="3032053" y="5492347"/>
                  <a:pt x="3032053" y="5421087"/>
                </a:cubicBezTo>
                <a:lnTo>
                  <a:pt x="3032053" y="2265528"/>
                </a:lnTo>
                <a:lnTo>
                  <a:pt x="3032052" y="4524125"/>
                </a:lnTo>
                <a:lnTo>
                  <a:pt x="3021914" y="4473906"/>
                </a:lnTo>
                <a:cubicBezTo>
                  <a:pt x="3002326" y="4427596"/>
                  <a:pt x="2956471" y="4395102"/>
                  <a:pt x="2903026" y="4395102"/>
                </a:cubicBezTo>
                <a:cubicBezTo>
                  <a:pt x="2849581" y="4395102"/>
                  <a:pt x="2803726" y="4427596"/>
                  <a:pt x="2784139" y="4473906"/>
                </a:cubicBezTo>
                <a:lnTo>
                  <a:pt x="2780541" y="4491725"/>
                </a:lnTo>
                <a:lnTo>
                  <a:pt x="2780541" y="4800671"/>
                </a:lnTo>
                <a:cubicBezTo>
                  <a:pt x="2780541" y="4871931"/>
                  <a:pt x="2722774" y="4929698"/>
                  <a:pt x="2651514" y="4929698"/>
                </a:cubicBezTo>
                <a:lnTo>
                  <a:pt x="2651515" y="4929697"/>
                </a:lnTo>
                <a:cubicBezTo>
                  <a:pt x="2580255" y="4929697"/>
                  <a:pt x="2522488" y="4871930"/>
                  <a:pt x="2522488" y="4800670"/>
                </a:cubicBezTo>
                <a:lnTo>
                  <a:pt x="2522488" y="4753932"/>
                </a:lnTo>
                <a:lnTo>
                  <a:pt x="2503819" y="4721390"/>
                </a:lnTo>
                <a:cubicBezTo>
                  <a:pt x="2484535" y="4698024"/>
                  <a:pt x="2457553" y="4681248"/>
                  <a:pt x="2426754" y="4674946"/>
                </a:cubicBezTo>
                <a:lnTo>
                  <a:pt x="2403274" y="4672579"/>
                </a:lnTo>
                <a:lnTo>
                  <a:pt x="2403274" y="4671841"/>
                </a:lnTo>
                <a:lnTo>
                  <a:pt x="2355204" y="4662137"/>
                </a:lnTo>
                <a:cubicBezTo>
                  <a:pt x="2308895" y="4642549"/>
                  <a:pt x="2276401" y="4596694"/>
                  <a:pt x="2276401" y="4543249"/>
                </a:cubicBezTo>
                <a:lnTo>
                  <a:pt x="2276401" y="4429265"/>
                </a:lnTo>
                <a:lnTo>
                  <a:pt x="2268012" y="4387715"/>
                </a:lnTo>
                <a:cubicBezTo>
                  <a:pt x="2248425" y="4341405"/>
                  <a:pt x="2202570" y="4308911"/>
                  <a:pt x="2149125" y="4308911"/>
                </a:cubicBezTo>
                <a:cubicBezTo>
                  <a:pt x="2095680" y="4308911"/>
                  <a:pt x="2049825" y="4341405"/>
                  <a:pt x="2030238" y="4387715"/>
                </a:cubicBezTo>
                <a:lnTo>
                  <a:pt x="2028048" y="4398560"/>
                </a:lnTo>
                <a:lnTo>
                  <a:pt x="2028048" y="4551963"/>
                </a:lnTo>
                <a:cubicBezTo>
                  <a:pt x="2028048" y="4605408"/>
                  <a:pt x="1995554" y="4651263"/>
                  <a:pt x="1949245" y="4670851"/>
                </a:cubicBezTo>
                <a:lnTo>
                  <a:pt x="1901175" y="4680555"/>
                </a:lnTo>
                <a:lnTo>
                  <a:pt x="1901175" y="4681293"/>
                </a:lnTo>
                <a:lnTo>
                  <a:pt x="1877695" y="4683660"/>
                </a:lnTo>
                <a:cubicBezTo>
                  <a:pt x="1831497" y="4693113"/>
                  <a:pt x="1793885" y="4726133"/>
                  <a:pt x="1777966" y="4769609"/>
                </a:cubicBezTo>
                <a:lnTo>
                  <a:pt x="1775762" y="4782099"/>
                </a:lnTo>
                <a:lnTo>
                  <a:pt x="1775762" y="4916007"/>
                </a:lnTo>
                <a:cubicBezTo>
                  <a:pt x="1775762" y="4987267"/>
                  <a:pt x="1717995" y="5045034"/>
                  <a:pt x="1646735" y="5045034"/>
                </a:cubicBezTo>
                <a:lnTo>
                  <a:pt x="1646736" y="5045033"/>
                </a:lnTo>
                <a:cubicBezTo>
                  <a:pt x="1575476" y="5045033"/>
                  <a:pt x="1517709" y="4987266"/>
                  <a:pt x="1517709" y="4916006"/>
                </a:cubicBezTo>
                <a:lnTo>
                  <a:pt x="1517709" y="4550752"/>
                </a:lnTo>
                <a:lnTo>
                  <a:pt x="1515505" y="4538262"/>
                </a:lnTo>
                <a:cubicBezTo>
                  <a:pt x="1499586" y="4494786"/>
                  <a:pt x="1461974" y="4461766"/>
                  <a:pt x="1415776" y="4452313"/>
                </a:cubicBezTo>
                <a:lnTo>
                  <a:pt x="1392296" y="4449946"/>
                </a:lnTo>
                <a:lnTo>
                  <a:pt x="1392296" y="4449208"/>
                </a:lnTo>
                <a:lnTo>
                  <a:pt x="1344226" y="4439504"/>
                </a:lnTo>
                <a:cubicBezTo>
                  <a:pt x="1297917" y="4419916"/>
                  <a:pt x="1265423" y="4374061"/>
                  <a:pt x="1265423" y="4320616"/>
                </a:cubicBezTo>
                <a:lnTo>
                  <a:pt x="1265423" y="3944241"/>
                </a:lnTo>
                <a:lnTo>
                  <a:pt x="1257034" y="3902691"/>
                </a:lnTo>
                <a:cubicBezTo>
                  <a:pt x="1237447" y="3856381"/>
                  <a:pt x="1191592" y="3823887"/>
                  <a:pt x="1138147" y="3823887"/>
                </a:cubicBezTo>
                <a:cubicBezTo>
                  <a:pt x="1084702" y="3823887"/>
                  <a:pt x="1038847" y="3856381"/>
                  <a:pt x="1019260" y="3902691"/>
                </a:cubicBezTo>
                <a:lnTo>
                  <a:pt x="1016586" y="3915934"/>
                </a:lnTo>
                <a:lnTo>
                  <a:pt x="1016586" y="3976598"/>
                </a:lnTo>
                <a:cubicBezTo>
                  <a:pt x="1016586" y="4047858"/>
                  <a:pt x="958819" y="4105625"/>
                  <a:pt x="887559" y="4105625"/>
                </a:cubicBezTo>
                <a:lnTo>
                  <a:pt x="887560" y="4105624"/>
                </a:lnTo>
                <a:cubicBezTo>
                  <a:pt x="816300" y="4105624"/>
                  <a:pt x="758533" y="4047857"/>
                  <a:pt x="758533" y="3976597"/>
                </a:cubicBezTo>
                <a:lnTo>
                  <a:pt x="758533" y="3835817"/>
                </a:lnTo>
                <a:lnTo>
                  <a:pt x="737116" y="3798485"/>
                </a:lnTo>
                <a:cubicBezTo>
                  <a:pt x="717833" y="3775119"/>
                  <a:pt x="690850" y="3758343"/>
                  <a:pt x="660051" y="3752041"/>
                </a:cubicBezTo>
                <a:lnTo>
                  <a:pt x="636571" y="3749674"/>
                </a:lnTo>
                <a:lnTo>
                  <a:pt x="636571" y="3748936"/>
                </a:lnTo>
                <a:lnTo>
                  <a:pt x="588501" y="3739232"/>
                </a:lnTo>
                <a:cubicBezTo>
                  <a:pt x="542192" y="3719644"/>
                  <a:pt x="509698" y="3673789"/>
                  <a:pt x="509698" y="3620344"/>
                </a:cubicBezTo>
                <a:lnTo>
                  <a:pt x="509698" y="2675086"/>
                </a:lnTo>
                <a:lnTo>
                  <a:pt x="501309" y="2633537"/>
                </a:lnTo>
                <a:cubicBezTo>
                  <a:pt x="481722" y="2587227"/>
                  <a:pt x="435867" y="2554733"/>
                  <a:pt x="382422" y="2554733"/>
                </a:cubicBezTo>
                <a:cubicBezTo>
                  <a:pt x="328977" y="2554733"/>
                  <a:pt x="283122" y="2587227"/>
                  <a:pt x="263535" y="2633537"/>
                </a:cubicBezTo>
                <a:lnTo>
                  <a:pt x="258053" y="2660688"/>
                </a:lnTo>
                <a:lnTo>
                  <a:pt x="258053" y="2715723"/>
                </a:lnTo>
                <a:cubicBezTo>
                  <a:pt x="258053" y="2786983"/>
                  <a:pt x="200286" y="2844750"/>
                  <a:pt x="129026" y="2844750"/>
                </a:cubicBezTo>
                <a:lnTo>
                  <a:pt x="129027" y="2844749"/>
                </a:lnTo>
                <a:cubicBezTo>
                  <a:pt x="57767" y="2844749"/>
                  <a:pt x="0" y="2786982"/>
                  <a:pt x="0" y="2715722"/>
                </a:cubicBezTo>
                <a:lnTo>
                  <a:pt x="0" y="2265528"/>
                </a:lnTo>
                <a:lnTo>
                  <a:pt x="0" y="546839"/>
                </a:lnTo>
                <a:lnTo>
                  <a:pt x="12233" y="526676"/>
                </a:lnTo>
                <a:cubicBezTo>
                  <a:pt x="35899" y="498000"/>
                  <a:pt x="71713" y="479722"/>
                  <a:pt x="111797" y="479722"/>
                </a:cubicBezTo>
                <a:cubicBezTo>
                  <a:pt x="165242" y="479722"/>
                  <a:pt x="211097" y="512216"/>
                  <a:pt x="230684" y="558526"/>
                </a:cubicBezTo>
                <a:lnTo>
                  <a:pt x="232874" y="569371"/>
                </a:lnTo>
                <a:lnTo>
                  <a:pt x="232874" y="722774"/>
                </a:lnTo>
                <a:cubicBezTo>
                  <a:pt x="232874" y="776219"/>
                  <a:pt x="265368" y="822074"/>
                  <a:pt x="311677" y="841662"/>
                </a:cubicBezTo>
                <a:lnTo>
                  <a:pt x="359747" y="851366"/>
                </a:lnTo>
                <a:lnTo>
                  <a:pt x="359747" y="852104"/>
                </a:lnTo>
                <a:lnTo>
                  <a:pt x="383227" y="854471"/>
                </a:lnTo>
                <a:cubicBezTo>
                  <a:pt x="429425" y="863924"/>
                  <a:pt x="467037" y="896944"/>
                  <a:pt x="482956" y="940420"/>
                </a:cubicBezTo>
                <a:lnTo>
                  <a:pt x="485160" y="952910"/>
                </a:lnTo>
                <a:lnTo>
                  <a:pt x="485160" y="1086818"/>
                </a:lnTo>
                <a:cubicBezTo>
                  <a:pt x="485160" y="1158078"/>
                  <a:pt x="542926" y="1215845"/>
                  <a:pt x="614186" y="1215845"/>
                </a:cubicBezTo>
                <a:lnTo>
                  <a:pt x="614185" y="1215844"/>
                </a:lnTo>
                <a:cubicBezTo>
                  <a:pt x="685445" y="1215844"/>
                  <a:pt x="743212" y="1158077"/>
                  <a:pt x="743212" y="1086817"/>
                </a:cubicBezTo>
                <a:lnTo>
                  <a:pt x="743212" y="721563"/>
                </a:lnTo>
                <a:lnTo>
                  <a:pt x="745416" y="709073"/>
                </a:lnTo>
                <a:cubicBezTo>
                  <a:pt x="761335" y="665597"/>
                  <a:pt x="798947" y="632577"/>
                  <a:pt x="845145" y="623124"/>
                </a:cubicBezTo>
                <a:lnTo>
                  <a:pt x="868625" y="620757"/>
                </a:lnTo>
                <a:lnTo>
                  <a:pt x="868625" y="620019"/>
                </a:lnTo>
                <a:lnTo>
                  <a:pt x="916695" y="610315"/>
                </a:lnTo>
                <a:cubicBezTo>
                  <a:pt x="963004" y="590727"/>
                  <a:pt x="995498" y="544872"/>
                  <a:pt x="995498" y="491427"/>
                </a:cubicBezTo>
                <a:lnTo>
                  <a:pt x="995498" y="115052"/>
                </a:lnTo>
                <a:lnTo>
                  <a:pt x="1003887" y="73502"/>
                </a:lnTo>
                <a:cubicBezTo>
                  <a:pt x="1018578" y="38770"/>
                  <a:pt x="1048044" y="11809"/>
                  <a:pt x="1084406" y="499"/>
                </a:cubicBezTo>
                <a:lnTo>
                  <a:pt x="108770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1280" name="Agrupar 35" descr=""/>
          <p:cNvPicPr/>
          <p:nvPr/>
        </p:nvPicPr>
        <p:blipFill>
          <a:blip r:embed="rId1"/>
          <a:stretch/>
        </p:blipFill>
        <p:spPr>
          <a:xfrm>
            <a:off x="5364000" y="4475160"/>
            <a:ext cx="262080" cy="255600"/>
          </a:xfrm>
          <a:prstGeom prst="rect">
            <a:avLst/>
          </a:prstGeom>
          <a:ln w="0">
            <a:noFill/>
          </a:ln>
        </p:spPr>
      </p:pic>
      <p:sp>
        <p:nvSpPr>
          <p:cNvPr id="1281" name="Rectángulo redondeado 39"/>
          <p:cNvSpPr/>
          <p:nvPr/>
        </p:nvSpPr>
        <p:spPr>
          <a:xfrm>
            <a:off x="8231040" y="4602240"/>
            <a:ext cx="258840" cy="255600"/>
          </a:xfrm>
          <a:prstGeom prst="roundRect">
            <a:avLst>
              <a:gd name="adj" fmla="val 50000"/>
            </a:avLst>
          </a:pr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2" name="Forma libre 13"/>
          <p:cNvSpPr/>
          <p:nvPr/>
        </p:nvSpPr>
        <p:spPr>
          <a:xfrm>
            <a:off x="3673440" y="2421000"/>
            <a:ext cx="258840" cy="255600"/>
          </a:xfrm>
          <a:custGeom>
            <a:avLst/>
            <a:gdLst/>
            <a:ahLst/>
            <a:rect l="l" t="t" r="r" b="b"/>
            <a:pathLst>
              <a:path w="258053" h="255600">
                <a:moveTo>
                  <a:pt x="128396" y="63180"/>
                </a:moveTo>
                <a:cubicBezTo>
                  <a:pt x="92093" y="63180"/>
                  <a:pt x="62663" y="92610"/>
                  <a:pt x="62663" y="128913"/>
                </a:cubicBezTo>
                <a:cubicBezTo>
                  <a:pt x="62663" y="165216"/>
                  <a:pt x="92093" y="194646"/>
                  <a:pt x="128396" y="194646"/>
                </a:cubicBezTo>
                <a:lnTo>
                  <a:pt x="129658" y="194646"/>
                </a:lnTo>
                <a:cubicBezTo>
                  <a:pt x="165961" y="194646"/>
                  <a:pt x="195391" y="165216"/>
                  <a:pt x="195391" y="128913"/>
                </a:cubicBezTo>
                <a:cubicBezTo>
                  <a:pt x="195391" y="92610"/>
                  <a:pt x="165961" y="63180"/>
                  <a:pt x="129658" y="63180"/>
                </a:cubicBezTo>
                <a:lnTo>
                  <a:pt x="128396" y="63180"/>
                </a:lnTo>
                <a:close/>
                <a:moveTo>
                  <a:pt x="127800" y="0"/>
                </a:moveTo>
                <a:lnTo>
                  <a:pt x="130253" y="0"/>
                </a:lnTo>
                <a:cubicBezTo>
                  <a:pt x="200835" y="0"/>
                  <a:pt x="258053" y="57218"/>
                  <a:pt x="258053" y="127800"/>
                </a:cubicBezTo>
                <a:cubicBezTo>
                  <a:pt x="258053" y="198382"/>
                  <a:pt x="200835" y="255600"/>
                  <a:pt x="130253" y="255600"/>
                </a:cubicBezTo>
                <a:lnTo>
                  <a:pt x="127800" y="255600"/>
                </a:lnTo>
                <a:cubicBezTo>
                  <a:pt x="57218" y="255600"/>
                  <a:pt x="0" y="198382"/>
                  <a:pt x="0" y="127800"/>
                </a:cubicBezTo>
                <a:cubicBezTo>
                  <a:pt x="0" y="57218"/>
                  <a:pt x="57218" y="0"/>
                  <a:pt x="127800" y="0"/>
                </a:cubicBezTo>
                <a:close/>
              </a:path>
            </a:pathLst>
          </a:custGeom>
          <a:solidFill>
            <a:srgbClr val="009ac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83" name="PlaceHolder 1"/>
          <p:cNvSpPr>
            <a:spLocks noGrp="1"/>
          </p:cNvSpPr>
          <p:nvPr>
            <p:ph/>
          </p:nvPr>
        </p:nvSpPr>
        <p:spPr>
          <a:xfrm>
            <a:off x="468000" y="847440"/>
            <a:ext cx="4103640" cy="57636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HANKS</a:t>
            </a:r>
            <a:endParaRPr b="0" lang="en-US" sz="4000" spc="-1" strike="noStrike">
              <a:solidFill>
                <a:srgbClr val="000000"/>
              </a:solidFill>
              <a:latin typeface="Calibri"/>
            </a:endParaRPr>
          </a:p>
        </p:txBody>
      </p:sp>
      <p:sp>
        <p:nvSpPr>
          <p:cNvPr id="1284" name="PlaceHolder 2"/>
          <p:cNvSpPr>
            <a:spLocks noGrp="1"/>
          </p:cNvSpPr>
          <p:nvPr>
            <p:ph/>
          </p:nvPr>
        </p:nvSpPr>
        <p:spPr>
          <a:xfrm>
            <a:off x="468000" y="1390320"/>
            <a:ext cx="4103640" cy="22068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THE LAST SUBTITLE EXAMPLE HERE</a:t>
            </a:r>
            <a:endParaRPr b="0" lang="en-US" sz="1000" spc="-1" strike="noStrike">
              <a:solidFill>
                <a:srgbClr val="000000"/>
              </a:solidFill>
              <a:latin typeface="Calibri"/>
            </a:endParaRPr>
          </a:p>
        </p:txBody>
      </p:sp>
      <p:sp>
        <p:nvSpPr>
          <p:cNvPr id="1285" name="Rectángulo redondeado 14"/>
          <p:cNvSpPr/>
          <p:nvPr/>
        </p:nvSpPr>
        <p:spPr>
          <a:xfrm>
            <a:off x="479520" y="2021040"/>
            <a:ext cx="610920" cy="610920"/>
          </a:xfrm>
          <a:prstGeom prst="roundRect">
            <a:avLst>
              <a:gd name="adj" fmla="val 22676"/>
            </a:avLst>
          </a:prstGeom>
          <a:solidFill>
            <a:srgbClr val="004b6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6" name="Rectángulo redondeado 15"/>
          <p:cNvSpPr/>
          <p:nvPr/>
        </p:nvSpPr>
        <p:spPr>
          <a:xfrm>
            <a:off x="490680" y="2833560"/>
            <a:ext cx="610920" cy="611280"/>
          </a:xfrm>
          <a:custGeom>
            <a:avLst/>
            <a:gdLst>
              <a:gd name="textAreaLeft" fmla="*/ 30240 w 610920"/>
              <a:gd name="textAreaRight" fmla="*/ 580680 w 610920"/>
              <a:gd name="textAreaTop" fmla="*/ 30240 h 611280"/>
              <a:gd name="textAreaBottom" fmla="*/ 581040 h 611280"/>
            </a:gdLst>
            <a:ahLst/>
            <a:rect l="textAreaLeft" t="textAreaTop" r="textAreaRight" b="textAreaBottom"/>
            <a:pathLst>
              <a:path w="21600" h="21613">
                <a:moveTo>
                  <a:pt x="3656" y="0"/>
                </a:moveTo>
                <a:arcTo wR="3656" hR="3656" stAng="16200000" swAng="-5400000"/>
                <a:lnTo>
                  <a:pt x="0" y="17957"/>
                </a:lnTo>
                <a:arcTo wR="3656" hR="3656" stAng="10800000" swAng="-5400000"/>
                <a:lnTo>
                  <a:pt x="17944" y="21613"/>
                </a:lnTo>
                <a:arcTo wR="3656" hR="3656" stAng="5400000" swAng="-5400000"/>
                <a:lnTo>
                  <a:pt x="21600" y="3656"/>
                </a:lnTo>
                <a:arcTo wR="3656" hR="3656" stAng="0" swAng="-5400000"/>
                <a:close/>
              </a:path>
            </a:pathLst>
          </a:custGeom>
          <a:solidFill>
            <a:srgbClr val="a0ba1e"/>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7" name="Rectángulo redondeado 16"/>
          <p:cNvSpPr/>
          <p:nvPr/>
        </p:nvSpPr>
        <p:spPr>
          <a:xfrm>
            <a:off x="479520" y="3651120"/>
            <a:ext cx="610920" cy="613080"/>
          </a:xfrm>
          <a:custGeom>
            <a:avLst/>
            <a:gdLst>
              <a:gd name="textAreaLeft" fmla="*/ 35280 w 610920"/>
              <a:gd name="textAreaRight" fmla="*/ 575640 w 610920"/>
              <a:gd name="textAreaTop" fmla="*/ 35280 h 613080"/>
              <a:gd name="textAreaBottom" fmla="*/ 577800 h 613080"/>
            </a:gdLst>
            <a:ahLst/>
            <a:rect l="textAreaLeft" t="textAreaTop" r="textAreaRight" b="textAreaBottom"/>
            <a:pathLst>
              <a:path w="21600" h="21676">
                <a:moveTo>
                  <a:pt x="4277" y="0"/>
                </a:moveTo>
                <a:arcTo wR="4277" hR="4277" stAng="16200000" swAng="-5400000"/>
                <a:lnTo>
                  <a:pt x="0" y="17399"/>
                </a:lnTo>
                <a:arcTo wR="4277" hR="4277" stAng="10800000" swAng="-5400000"/>
                <a:lnTo>
                  <a:pt x="17323" y="21676"/>
                </a:lnTo>
                <a:arcTo wR="4277" hR="4277" stAng="5400000" swAng="-5400000"/>
                <a:lnTo>
                  <a:pt x="21600" y="4277"/>
                </a:lnTo>
                <a:arcTo wR="4277" hR="4277" stAng="0" swAng="-5400000"/>
                <a:close/>
              </a:path>
            </a:pathLst>
          </a:custGeom>
          <a:solidFill>
            <a:srgbClr val="fd7f00"/>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88" name="AutoShape 14"/>
          <p:cNvSpPr/>
          <p:nvPr/>
        </p:nvSpPr>
        <p:spPr>
          <a:xfrm>
            <a:off x="636480" y="2143080"/>
            <a:ext cx="28440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289" name="AutoShape 14"/>
          <p:cNvSpPr/>
          <p:nvPr/>
        </p:nvSpPr>
        <p:spPr>
          <a:xfrm>
            <a:off x="654120" y="29541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290" name="AutoShape 14"/>
          <p:cNvSpPr/>
          <p:nvPr/>
        </p:nvSpPr>
        <p:spPr>
          <a:xfrm>
            <a:off x="636480" y="3782880"/>
            <a:ext cx="2844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800" spc="-1" strike="noStrike">
                <a:solidFill>
                  <a:srgbClr val="ffffff"/>
                </a:solidFill>
                <a:latin typeface="FontAwesome"/>
                <a:ea typeface="FontAwesome"/>
              </a:rPr>
              <a:t></a:t>
            </a:r>
            <a:endParaRPr b="0" lang="en-US" sz="1800" spc="-1" strike="noStrike">
              <a:solidFill>
                <a:srgbClr val="000000"/>
              </a:solidFill>
              <a:latin typeface="Calibri"/>
            </a:endParaRPr>
          </a:p>
        </p:txBody>
      </p:sp>
      <p:sp>
        <p:nvSpPr>
          <p:cNvPr id="1291" name="Text Placeholder 20"/>
          <p:cNvSpPr/>
          <p:nvPr/>
        </p:nvSpPr>
        <p:spPr>
          <a:xfrm>
            <a:off x="1224000" y="196848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FOLLOW US ON FACEBOOK</a:t>
            </a:r>
            <a:endParaRPr b="0" lang="en-US" sz="1000" spc="-1" strike="noStrike">
              <a:solidFill>
                <a:srgbClr val="000000"/>
              </a:solidFill>
              <a:latin typeface="Calibri"/>
            </a:endParaRPr>
          </a:p>
        </p:txBody>
      </p:sp>
      <p:sp>
        <p:nvSpPr>
          <p:cNvPr id="1292" name="Text Placeholder 23"/>
          <p:cNvSpPr/>
          <p:nvPr/>
        </p:nvSpPr>
        <p:spPr>
          <a:xfrm>
            <a:off x="1224000" y="2220840"/>
            <a:ext cx="205272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usce diam tortor.</a:t>
            </a:r>
            <a:endParaRPr b="0" lang="en-US" sz="900" spc="-1" strike="noStrike">
              <a:solidFill>
                <a:srgbClr val="000000"/>
              </a:solidFill>
              <a:latin typeface="Calibri"/>
            </a:endParaRPr>
          </a:p>
        </p:txBody>
      </p:sp>
      <p:sp>
        <p:nvSpPr>
          <p:cNvPr id="1293" name="Text Placeholder 20"/>
          <p:cNvSpPr/>
          <p:nvPr/>
        </p:nvSpPr>
        <p:spPr>
          <a:xfrm>
            <a:off x="1224000" y="2836800"/>
            <a:ext cx="2957400" cy="3049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WRITE TO SUPPORT@ZACOMIC.COM</a:t>
            </a:r>
            <a:endParaRPr b="0" lang="en-US" sz="1000" spc="-1" strike="noStrike">
              <a:solidFill>
                <a:srgbClr val="000000"/>
              </a:solidFill>
              <a:latin typeface="Calibri"/>
            </a:endParaRPr>
          </a:p>
        </p:txBody>
      </p:sp>
      <p:sp>
        <p:nvSpPr>
          <p:cNvPr id="1294" name="Text Placeholder 23"/>
          <p:cNvSpPr/>
          <p:nvPr/>
        </p:nvSpPr>
        <p:spPr>
          <a:xfrm>
            <a:off x="1224000" y="3089160"/>
            <a:ext cx="205272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usce diam tortor.</a:t>
            </a:r>
            <a:endParaRPr b="0" lang="en-US" sz="900" spc="-1" strike="noStrike">
              <a:solidFill>
                <a:srgbClr val="000000"/>
              </a:solidFill>
              <a:latin typeface="Calibri"/>
            </a:endParaRPr>
          </a:p>
        </p:txBody>
      </p:sp>
      <p:sp>
        <p:nvSpPr>
          <p:cNvPr id="1295" name="Text Placeholder 20"/>
          <p:cNvSpPr/>
          <p:nvPr/>
        </p:nvSpPr>
        <p:spPr>
          <a:xfrm>
            <a:off x="1224000" y="364176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FOLLOW US ON GOOGLE+</a:t>
            </a:r>
            <a:endParaRPr b="0" lang="en-US" sz="1000" spc="-1" strike="noStrike">
              <a:solidFill>
                <a:srgbClr val="000000"/>
              </a:solidFill>
              <a:latin typeface="Calibri"/>
            </a:endParaRPr>
          </a:p>
        </p:txBody>
      </p:sp>
      <p:sp>
        <p:nvSpPr>
          <p:cNvPr id="1296" name="Text Placeholder 23"/>
          <p:cNvSpPr/>
          <p:nvPr/>
        </p:nvSpPr>
        <p:spPr>
          <a:xfrm>
            <a:off x="1224000" y="389412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usce diam tortor.</a:t>
            </a:r>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644040" y="3096720"/>
            <a:ext cx="153684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Santiago</a:t>
            </a:r>
            <a:endParaRPr b="0" lang="en-US" sz="1600" spc="-1" strike="noStrike">
              <a:solidFill>
                <a:srgbClr val="000000"/>
              </a:solidFill>
              <a:latin typeface="Calibri"/>
            </a:endParaRPr>
          </a:p>
        </p:txBody>
      </p:sp>
      <p:sp>
        <p:nvSpPr>
          <p:cNvPr id="634" name="PlaceHolder 2"/>
          <p:cNvSpPr>
            <a:spLocks noGrp="1"/>
          </p:cNvSpPr>
          <p:nvPr>
            <p:ph/>
          </p:nvPr>
        </p:nvSpPr>
        <p:spPr>
          <a:xfrm>
            <a:off x="644040" y="3465360"/>
            <a:ext cx="153684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Creative Director</a:t>
            </a:r>
            <a:endParaRPr b="0" lang="en-US" sz="1000" spc="-1" strike="noStrike">
              <a:solidFill>
                <a:srgbClr val="000000"/>
              </a:solidFill>
              <a:latin typeface="Calibri"/>
            </a:endParaRPr>
          </a:p>
        </p:txBody>
      </p:sp>
      <p:sp>
        <p:nvSpPr>
          <p:cNvPr id="635" name="PlaceHolder 3"/>
          <p:cNvSpPr>
            <a:spLocks noGrp="1"/>
          </p:cNvSpPr>
          <p:nvPr>
            <p:ph/>
          </p:nvPr>
        </p:nvSpPr>
        <p:spPr>
          <a:xfrm>
            <a:off x="644040" y="3724200"/>
            <a:ext cx="153684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36" name="PlaceHolder 4"/>
          <p:cNvSpPr>
            <a:spLocks noGrp="1"/>
          </p:cNvSpPr>
          <p:nvPr>
            <p:ph/>
          </p:nvPr>
        </p:nvSpPr>
        <p:spPr>
          <a:xfrm>
            <a:off x="1208160" y="4390560"/>
            <a:ext cx="48096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22957b"/>
                </a:solidFill>
                <a:latin typeface="FontAwesome"/>
                <a:ea typeface="FontAwesome"/>
              </a:rPr>
              <a:t></a:t>
            </a:r>
            <a:endParaRPr b="0" lang="en-US" sz="2500" spc="-1" strike="noStrike">
              <a:solidFill>
                <a:srgbClr val="000000"/>
              </a:solidFill>
              <a:latin typeface="Calibri"/>
            </a:endParaRPr>
          </a:p>
        </p:txBody>
      </p:sp>
      <p:sp>
        <p:nvSpPr>
          <p:cNvPr id="637" name="PlaceHolder 5"/>
          <p:cNvSpPr>
            <a:spLocks noGrp="1"/>
          </p:cNvSpPr>
          <p:nvPr>
            <p:ph/>
          </p:nvPr>
        </p:nvSpPr>
        <p:spPr>
          <a:xfrm>
            <a:off x="2707920" y="3096720"/>
            <a:ext cx="153684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Paola</a:t>
            </a:r>
            <a:endParaRPr b="0" lang="en-US" sz="1600" spc="-1" strike="noStrike">
              <a:solidFill>
                <a:srgbClr val="000000"/>
              </a:solidFill>
              <a:latin typeface="Calibri"/>
            </a:endParaRPr>
          </a:p>
        </p:txBody>
      </p:sp>
      <p:sp>
        <p:nvSpPr>
          <p:cNvPr id="638" name="PlaceHolder 6"/>
          <p:cNvSpPr>
            <a:spLocks noGrp="1"/>
          </p:cNvSpPr>
          <p:nvPr>
            <p:ph/>
          </p:nvPr>
        </p:nvSpPr>
        <p:spPr>
          <a:xfrm>
            <a:off x="2707920" y="3465360"/>
            <a:ext cx="153684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Sales Manager</a:t>
            </a:r>
            <a:endParaRPr b="0" lang="en-US" sz="1000" spc="-1" strike="noStrike">
              <a:solidFill>
                <a:srgbClr val="000000"/>
              </a:solidFill>
              <a:latin typeface="Calibri"/>
            </a:endParaRPr>
          </a:p>
        </p:txBody>
      </p:sp>
      <p:sp>
        <p:nvSpPr>
          <p:cNvPr id="639" name="PlaceHolder 7"/>
          <p:cNvSpPr>
            <a:spLocks noGrp="1"/>
          </p:cNvSpPr>
          <p:nvPr>
            <p:ph/>
          </p:nvPr>
        </p:nvSpPr>
        <p:spPr>
          <a:xfrm>
            <a:off x="2707920" y="3724200"/>
            <a:ext cx="153684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40" name="PlaceHolder 8"/>
          <p:cNvSpPr>
            <a:spLocks noGrp="1"/>
          </p:cNvSpPr>
          <p:nvPr>
            <p:ph/>
          </p:nvPr>
        </p:nvSpPr>
        <p:spPr>
          <a:xfrm>
            <a:off x="3271320" y="4390560"/>
            <a:ext cx="48132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a0ba1e"/>
                </a:solidFill>
                <a:latin typeface="FontAwesome"/>
                <a:ea typeface="FontAwesome"/>
              </a:rPr>
              <a:t></a:t>
            </a:r>
            <a:endParaRPr b="0" lang="en-US" sz="2500" spc="-1" strike="noStrike">
              <a:solidFill>
                <a:srgbClr val="000000"/>
              </a:solidFill>
              <a:latin typeface="Calibri"/>
            </a:endParaRPr>
          </a:p>
        </p:txBody>
      </p:sp>
      <p:sp>
        <p:nvSpPr>
          <p:cNvPr id="641" name="PlaceHolder 9"/>
          <p:cNvSpPr>
            <a:spLocks noGrp="1"/>
          </p:cNvSpPr>
          <p:nvPr>
            <p:ph/>
          </p:nvPr>
        </p:nvSpPr>
        <p:spPr>
          <a:xfrm>
            <a:off x="4781160" y="3096720"/>
            <a:ext cx="153684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Isabel</a:t>
            </a:r>
            <a:endParaRPr b="0" lang="en-US" sz="1600" spc="-1" strike="noStrike">
              <a:solidFill>
                <a:srgbClr val="000000"/>
              </a:solidFill>
              <a:latin typeface="Calibri"/>
            </a:endParaRPr>
          </a:p>
        </p:txBody>
      </p:sp>
      <p:sp>
        <p:nvSpPr>
          <p:cNvPr id="642" name="PlaceHolder 10"/>
          <p:cNvSpPr>
            <a:spLocks noGrp="1"/>
          </p:cNvSpPr>
          <p:nvPr>
            <p:ph/>
          </p:nvPr>
        </p:nvSpPr>
        <p:spPr>
          <a:xfrm>
            <a:off x="4781160" y="3465360"/>
            <a:ext cx="153684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Account Manager</a:t>
            </a:r>
            <a:endParaRPr b="0" lang="en-US" sz="1000" spc="-1" strike="noStrike">
              <a:solidFill>
                <a:srgbClr val="000000"/>
              </a:solidFill>
              <a:latin typeface="Calibri"/>
            </a:endParaRPr>
          </a:p>
        </p:txBody>
      </p:sp>
      <p:sp>
        <p:nvSpPr>
          <p:cNvPr id="643" name="PlaceHolder 11"/>
          <p:cNvSpPr>
            <a:spLocks noGrp="1"/>
          </p:cNvSpPr>
          <p:nvPr>
            <p:ph/>
          </p:nvPr>
        </p:nvSpPr>
        <p:spPr>
          <a:xfrm>
            <a:off x="4781160" y="3724200"/>
            <a:ext cx="153684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44" name="PlaceHolder 12"/>
          <p:cNvSpPr>
            <a:spLocks noGrp="1"/>
          </p:cNvSpPr>
          <p:nvPr>
            <p:ph/>
          </p:nvPr>
        </p:nvSpPr>
        <p:spPr>
          <a:xfrm>
            <a:off x="5345280" y="4390560"/>
            <a:ext cx="48096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d7f00"/>
                </a:solidFill>
                <a:latin typeface="FontAwesome"/>
                <a:ea typeface="FontAwesome"/>
              </a:rPr>
              <a:t></a:t>
            </a:r>
            <a:endParaRPr b="0" lang="en-US" sz="2500" spc="-1" strike="noStrike">
              <a:solidFill>
                <a:srgbClr val="000000"/>
              </a:solidFill>
              <a:latin typeface="Calibri"/>
            </a:endParaRPr>
          </a:p>
        </p:txBody>
      </p:sp>
      <p:sp>
        <p:nvSpPr>
          <p:cNvPr id="645" name="PlaceHolder 13"/>
          <p:cNvSpPr>
            <a:spLocks noGrp="1"/>
          </p:cNvSpPr>
          <p:nvPr>
            <p:ph/>
          </p:nvPr>
        </p:nvSpPr>
        <p:spPr>
          <a:xfrm>
            <a:off x="6899040" y="3096720"/>
            <a:ext cx="1538280" cy="360360"/>
          </a:xfrm>
          <a:prstGeom prst="rect">
            <a:avLst/>
          </a:prstGeom>
          <a:noFill/>
          <a:ln w="0">
            <a:noFill/>
          </a:ln>
        </p:spPr>
        <p:txBody>
          <a:bodyPr lIns="0" rIns="0" tIns="40680" bIns="4068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a:ea typeface="Raleway"/>
              </a:rPr>
              <a:t>Manuel</a:t>
            </a:r>
            <a:endParaRPr b="0" lang="en-US" sz="1600" spc="-1" strike="noStrike">
              <a:solidFill>
                <a:srgbClr val="000000"/>
              </a:solidFill>
              <a:latin typeface="Calibri"/>
            </a:endParaRPr>
          </a:p>
        </p:txBody>
      </p:sp>
      <p:sp>
        <p:nvSpPr>
          <p:cNvPr id="646" name="PlaceHolder 14"/>
          <p:cNvSpPr>
            <a:spLocks noGrp="1"/>
          </p:cNvSpPr>
          <p:nvPr>
            <p:ph/>
          </p:nvPr>
        </p:nvSpPr>
        <p:spPr>
          <a:xfrm>
            <a:off x="6899040" y="3465360"/>
            <a:ext cx="1538280" cy="190800"/>
          </a:xfrm>
          <a:prstGeom prst="rect">
            <a:avLst/>
          </a:prstGeom>
          <a:noFill/>
          <a:ln w="0">
            <a:noFill/>
          </a:ln>
        </p:spPr>
        <p:txBody>
          <a:bodyPr lIns="0" rIns="0" tIns="40680" bIns="40680" anchor="ctr">
            <a:normAutofit fontScale="72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9705c"/>
                </a:solidFill>
                <a:latin typeface="Raleway Black"/>
                <a:ea typeface="Raleway Black"/>
              </a:rPr>
              <a:t>Copywriter</a:t>
            </a:r>
            <a:endParaRPr b="0" lang="en-US" sz="1000" spc="-1" strike="noStrike">
              <a:solidFill>
                <a:srgbClr val="000000"/>
              </a:solidFill>
              <a:latin typeface="Calibri"/>
            </a:endParaRPr>
          </a:p>
        </p:txBody>
      </p:sp>
      <p:sp>
        <p:nvSpPr>
          <p:cNvPr id="647" name="PlaceHolder 15"/>
          <p:cNvSpPr>
            <a:spLocks noGrp="1"/>
          </p:cNvSpPr>
          <p:nvPr>
            <p:ph/>
          </p:nvPr>
        </p:nvSpPr>
        <p:spPr>
          <a:xfrm>
            <a:off x="6899040" y="3724200"/>
            <a:ext cx="1538280" cy="649440"/>
          </a:xfrm>
          <a:prstGeom prst="rect">
            <a:avLst/>
          </a:prstGeom>
          <a:noFill/>
          <a:ln w="0">
            <a:noFill/>
          </a:ln>
        </p:spPr>
        <p:txBody>
          <a:bodyPr lIns="0" rIns="0" tIns="0" bIns="0" anchor="t">
            <a:normAutofit/>
          </a:bodyPr>
          <a:p>
            <a:pPr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Regular"/>
                <a:ea typeface="Lato Regular"/>
              </a:rPr>
              <a:t>Lorem ipsum dolor sit amet, consectetur adipiscing elit. Fusce diam tortor, matti.</a:t>
            </a:r>
            <a:endParaRPr b="0" lang="en-US" sz="900" spc="-1" strike="noStrike">
              <a:solidFill>
                <a:srgbClr val="000000"/>
              </a:solidFill>
              <a:latin typeface="Calibri"/>
            </a:endParaRPr>
          </a:p>
        </p:txBody>
      </p:sp>
      <p:sp>
        <p:nvSpPr>
          <p:cNvPr id="648" name="PlaceHolder 16"/>
          <p:cNvSpPr>
            <a:spLocks noGrp="1"/>
          </p:cNvSpPr>
          <p:nvPr>
            <p:ph/>
          </p:nvPr>
        </p:nvSpPr>
        <p:spPr>
          <a:xfrm>
            <a:off x="7464600" y="4390560"/>
            <a:ext cx="480960" cy="466920"/>
          </a:xfrm>
          <a:prstGeom prst="rect">
            <a:avLst/>
          </a:prstGeom>
          <a:noFill/>
          <a:ln w="0">
            <a:noFill/>
          </a:ln>
        </p:spPr>
        <p:txBody>
          <a:bodyPr lIns="0" rIns="0" tIns="104040" bIns="104040" anchor="ctr">
            <a:normAutofit fontScale="6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cd1219"/>
                </a:solidFill>
                <a:latin typeface="FontAwesome"/>
                <a:ea typeface="FontAwesome"/>
              </a:rPr>
              <a:t></a:t>
            </a:r>
            <a:endParaRPr b="0" lang="en-US" sz="2500" spc="-1" strike="noStrike">
              <a:solidFill>
                <a:srgbClr val="000000"/>
              </a:solidFill>
              <a:latin typeface="Calibri"/>
            </a:endParaRPr>
          </a:p>
        </p:txBody>
      </p:sp>
      <p:sp>
        <p:nvSpPr>
          <p:cNvPr id="649" name="PlaceHolder 17"/>
          <p:cNvSpPr>
            <a:spLocks noGrp="1"/>
          </p:cNvSpPr>
          <p:nvPr>
            <p:ph/>
          </p:nvPr>
        </p:nvSpPr>
        <p:spPr>
          <a:xfrm>
            <a:off x="2496600" y="185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Meet our team</a:t>
            </a:r>
            <a:endParaRPr b="0" lang="en-US" sz="4000" spc="-1" strike="noStrike">
              <a:solidFill>
                <a:srgbClr val="000000"/>
              </a:solidFill>
              <a:latin typeface="Calibri"/>
            </a:endParaRPr>
          </a:p>
        </p:txBody>
      </p:sp>
      <p:sp>
        <p:nvSpPr>
          <p:cNvPr id="650" name="PlaceHolder 18"/>
          <p:cNvSpPr>
            <a:spLocks noGrp="1"/>
          </p:cNvSpPr>
          <p:nvPr>
            <p:ph/>
          </p:nvPr>
        </p:nvSpPr>
        <p:spPr>
          <a:xfrm>
            <a:off x="2496600" y="807840"/>
            <a:ext cx="4164120" cy="22212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MORE QUALITY LESS QUANTITY</a:t>
            </a:r>
            <a:endParaRPr b="0" lang="en-US" sz="1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Forma libre 8"/>
          <p:cNvSpPr/>
          <p:nvPr/>
        </p:nvSpPr>
        <p:spPr>
          <a:xfrm rot="5400000">
            <a:off x="572400" y="1550160"/>
            <a:ext cx="758880" cy="836640"/>
          </a:xfrm>
          <a:custGeom>
            <a:avLst/>
            <a:gdLst/>
            <a:ahLst/>
            <a:rect l="l" t="t" r="r" b="b"/>
            <a:pathLst>
              <a:path w="759125" h="837924">
                <a:moveTo>
                  <a:pt x="129027" y="0"/>
                </a:moveTo>
                <a:cubicBezTo>
                  <a:pt x="200287" y="0"/>
                  <a:pt x="258054" y="57767"/>
                  <a:pt x="258054" y="129027"/>
                </a:cubicBezTo>
                <a:lnTo>
                  <a:pt x="258054" y="310206"/>
                </a:lnTo>
                <a:lnTo>
                  <a:pt x="260676" y="297216"/>
                </a:lnTo>
                <a:cubicBezTo>
                  <a:pt x="280264" y="250906"/>
                  <a:pt x="326119" y="218412"/>
                  <a:pt x="379564" y="218412"/>
                </a:cubicBezTo>
                <a:cubicBezTo>
                  <a:pt x="433009" y="218412"/>
                  <a:pt x="478864" y="250906"/>
                  <a:pt x="498451" y="297216"/>
                </a:cubicBezTo>
                <a:lnTo>
                  <a:pt x="501071" y="310191"/>
                </a:lnTo>
                <a:lnTo>
                  <a:pt x="501071" y="129027"/>
                </a:lnTo>
                <a:cubicBezTo>
                  <a:pt x="501071" y="57767"/>
                  <a:pt x="558838" y="0"/>
                  <a:pt x="630098" y="0"/>
                </a:cubicBezTo>
                <a:cubicBezTo>
                  <a:pt x="701358" y="0"/>
                  <a:pt x="759125" y="57767"/>
                  <a:pt x="759125" y="129027"/>
                </a:cubicBezTo>
                <a:lnTo>
                  <a:pt x="759125" y="408036"/>
                </a:lnTo>
                <a:lnTo>
                  <a:pt x="759124" y="408036"/>
                </a:lnTo>
                <a:lnTo>
                  <a:pt x="759124" y="457699"/>
                </a:lnTo>
                <a:cubicBezTo>
                  <a:pt x="759124" y="511144"/>
                  <a:pt x="726630" y="556999"/>
                  <a:pt x="680321" y="576587"/>
                </a:cubicBezTo>
                <a:lnTo>
                  <a:pt x="632251" y="586291"/>
                </a:lnTo>
                <a:lnTo>
                  <a:pt x="632251" y="587029"/>
                </a:lnTo>
                <a:lnTo>
                  <a:pt x="608771" y="589396"/>
                </a:lnTo>
                <a:cubicBezTo>
                  <a:pt x="562573" y="598849"/>
                  <a:pt x="524961" y="631869"/>
                  <a:pt x="509042" y="675345"/>
                </a:cubicBezTo>
                <a:lnTo>
                  <a:pt x="508590" y="677907"/>
                </a:lnTo>
                <a:lnTo>
                  <a:pt x="508590" y="708897"/>
                </a:lnTo>
                <a:cubicBezTo>
                  <a:pt x="508590" y="780157"/>
                  <a:pt x="450823" y="837924"/>
                  <a:pt x="379563" y="837924"/>
                </a:cubicBezTo>
                <a:lnTo>
                  <a:pt x="379564" y="837923"/>
                </a:lnTo>
                <a:cubicBezTo>
                  <a:pt x="308304" y="837923"/>
                  <a:pt x="250537" y="780156"/>
                  <a:pt x="250537" y="708896"/>
                </a:cubicBezTo>
                <a:lnTo>
                  <a:pt x="250537" y="677919"/>
                </a:lnTo>
                <a:lnTo>
                  <a:pt x="250083" y="675345"/>
                </a:lnTo>
                <a:cubicBezTo>
                  <a:pt x="234164" y="631869"/>
                  <a:pt x="196552" y="598849"/>
                  <a:pt x="150354" y="589396"/>
                </a:cubicBezTo>
                <a:lnTo>
                  <a:pt x="126874" y="587029"/>
                </a:lnTo>
                <a:lnTo>
                  <a:pt x="126874" y="586291"/>
                </a:lnTo>
                <a:lnTo>
                  <a:pt x="78804" y="576587"/>
                </a:lnTo>
                <a:cubicBezTo>
                  <a:pt x="32495" y="556999"/>
                  <a:pt x="1" y="511144"/>
                  <a:pt x="1" y="457699"/>
                </a:cubicBezTo>
                <a:lnTo>
                  <a:pt x="1" y="408036"/>
                </a:lnTo>
                <a:lnTo>
                  <a:pt x="0" y="408036"/>
                </a:lnTo>
                <a:lnTo>
                  <a:pt x="0" y="129027"/>
                </a:lnTo>
                <a:cubicBezTo>
                  <a:pt x="0" y="57767"/>
                  <a:pt x="57767" y="0"/>
                  <a:pt x="129027" y="0"/>
                </a:cubicBezTo>
                <a:close/>
              </a:path>
            </a:pathLst>
          </a:custGeom>
          <a:solidFill>
            <a:srgbClr val="ee3b42"/>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298" name="PlaceHolder 1"/>
          <p:cNvSpPr>
            <a:spLocks noGrp="1"/>
          </p:cNvSpPr>
          <p:nvPr>
            <p:ph/>
          </p:nvPr>
        </p:nvSpPr>
        <p:spPr>
          <a:xfrm>
            <a:off x="475920" y="2424240"/>
            <a:ext cx="4164120" cy="576000"/>
          </a:xfrm>
          <a:prstGeom prst="rect">
            <a:avLst/>
          </a:prstGeom>
          <a:noFill/>
          <a:ln w="0">
            <a:noFill/>
          </a:ln>
        </p:spPr>
        <p:txBody>
          <a:bodyPr lIns="0" rIns="90000" tIns="46800" bIns="46800" anchor="t">
            <a:normAutofit fontScale="8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Thank you</a:t>
            </a:r>
            <a:endParaRPr b="0" lang="en-US" sz="4000" spc="-1" strike="noStrike">
              <a:solidFill>
                <a:srgbClr val="000000"/>
              </a:solidFill>
              <a:latin typeface="Calibri"/>
            </a:endParaRPr>
          </a:p>
        </p:txBody>
      </p:sp>
      <p:sp>
        <p:nvSpPr>
          <p:cNvPr id="1299" name="PlaceHolder 2"/>
          <p:cNvSpPr>
            <a:spLocks noGrp="1"/>
          </p:cNvSpPr>
          <p:nvPr>
            <p:ph/>
          </p:nvPr>
        </p:nvSpPr>
        <p:spPr>
          <a:xfrm>
            <a:off x="475920" y="3044520"/>
            <a:ext cx="4164120" cy="222120"/>
          </a:xfrm>
          <a:prstGeom prst="rect">
            <a:avLst/>
          </a:prstGeom>
          <a:noFill/>
          <a:ln w="0">
            <a:noFill/>
          </a:ln>
        </p:spPr>
        <p:txBody>
          <a:bodyPr lIns="0" rIns="90000" tIns="46800" bIns="46800" anchor="t">
            <a:normAutofit fontScale="94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ULTIMATE POWERPOINT PRESENTATION</a:t>
            </a:r>
            <a:endParaRPr b="0" lang="en-US" sz="1000" spc="-1" strike="noStrike">
              <a:solidFill>
                <a:srgbClr val="000000"/>
              </a:solidFill>
              <a:latin typeface="Calibri"/>
            </a:endParaRPr>
          </a:p>
        </p:txBody>
      </p:sp>
      <p:sp>
        <p:nvSpPr>
          <p:cNvPr id="1300" name="Text Placeholder 23"/>
          <p:cNvSpPr/>
          <p:nvPr/>
        </p:nvSpPr>
        <p:spPr>
          <a:xfrm>
            <a:off x="533520" y="3311640"/>
            <a:ext cx="3614760" cy="6904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euismod non purus. Maecenas ut lacus nec mauris feugiat tristique et in metus. </a:t>
            </a:r>
            <a:endParaRPr b="0" lang="en-US" sz="9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2496600" y="482400"/>
            <a:ext cx="4164120" cy="57780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Feature Services</a:t>
            </a:r>
            <a:endParaRPr b="0" lang="en-US" sz="4000" spc="-1" strike="noStrike">
              <a:solidFill>
                <a:srgbClr val="000000"/>
              </a:solidFill>
              <a:latin typeface="Calibri"/>
            </a:endParaRPr>
          </a:p>
        </p:txBody>
      </p:sp>
      <p:sp>
        <p:nvSpPr>
          <p:cNvPr id="652" name="PlaceHolder 2"/>
          <p:cNvSpPr>
            <a:spLocks noGrp="1"/>
          </p:cNvSpPr>
          <p:nvPr>
            <p:ph/>
          </p:nvPr>
        </p:nvSpPr>
        <p:spPr>
          <a:xfrm>
            <a:off x="2496600" y="1104480"/>
            <a:ext cx="4164120" cy="220680"/>
          </a:xfrm>
          <a:prstGeom prst="rect">
            <a:avLst/>
          </a:prstGeom>
          <a:noFill/>
          <a:ln w="0">
            <a:noFill/>
          </a:ln>
        </p:spPr>
        <p:txBody>
          <a:bodyPr lIns="0" rIns="90000" tIns="46800" bIns="46800" anchor="t">
            <a:normAutofit fontScale="94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PUT YOUR TITLE HERE</a:t>
            </a:r>
            <a:endParaRPr b="0" lang="en-US" sz="1000" spc="-1" strike="noStrike">
              <a:solidFill>
                <a:srgbClr val="000000"/>
              </a:solidFill>
              <a:latin typeface="Calibri"/>
            </a:endParaRPr>
          </a:p>
        </p:txBody>
      </p:sp>
      <p:sp>
        <p:nvSpPr>
          <p:cNvPr id="653" name="Forma libre 51"/>
          <p:cNvSpPr/>
          <p:nvPr/>
        </p:nvSpPr>
        <p:spPr>
          <a:xfrm>
            <a:off x="615960" y="2330280"/>
            <a:ext cx="324000" cy="25272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54" name="Rectángulo redondeado 6"/>
          <p:cNvSpPr/>
          <p:nvPr/>
        </p:nvSpPr>
        <p:spPr>
          <a:xfrm>
            <a:off x="654120" y="2408400"/>
            <a:ext cx="257040" cy="922320"/>
          </a:xfrm>
          <a:custGeom>
            <a:avLst/>
            <a:gdLst>
              <a:gd name="textAreaLeft" fmla="*/ 37440 w 257040"/>
              <a:gd name="textAreaRight" fmla="*/ 219600 w 257040"/>
              <a:gd name="textAreaTop" fmla="*/ 37440 h 922320"/>
              <a:gd name="textAreaBottom" fmla="*/ 884880 h 922320"/>
            </a:gdLst>
            <a:ahLst/>
            <a:rect l="textAreaLeft" t="textAreaTop" r="textAreaRight" b="textAreaBottom"/>
            <a:pathLst>
              <a:path w="21600" h="77428">
                <a:moveTo>
                  <a:pt x="10800" y="0"/>
                </a:moveTo>
                <a:arcTo wR="10800" hR="10800" stAng="16200000" swAng="-5400000"/>
                <a:lnTo>
                  <a:pt x="0" y="66628"/>
                </a:lnTo>
                <a:arcTo wR="10800" hR="10800" stAng="10800000" swAng="-5400000"/>
                <a:lnTo>
                  <a:pt x="10800" y="77428"/>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5" name="Forma libre 52"/>
          <p:cNvSpPr/>
          <p:nvPr/>
        </p:nvSpPr>
        <p:spPr>
          <a:xfrm rot="10800000">
            <a:off x="622080" y="3186000"/>
            <a:ext cx="323640" cy="254160"/>
          </a:xfrm>
          <a:custGeom>
            <a:avLst/>
            <a:gdLst/>
            <a:ahLst/>
            <a:rect l="l" t="t" r="r" b="b"/>
            <a:pathLst>
              <a:path w="324232" h="253290">
                <a:moveTo>
                  <a:pt x="0" y="0"/>
                </a:moveTo>
                <a:lnTo>
                  <a:pt x="50834" y="27591"/>
                </a:lnTo>
                <a:cubicBezTo>
                  <a:pt x="87410" y="43062"/>
                  <a:pt x="127622" y="51616"/>
                  <a:pt x="169832" y="51616"/>
                </a:cubicBezTo>
                <a:lnTo>
                  <a:pt x="170468" y="51617"/>
                </a:lnTo>
                <a:cubicBezTo>
                  <a:pt x="212678" y="51617"/>
                  <a:pt x="252891" y="43063"/>
                  <a:pt x="289466" y="27592"/>
                </a:cubicBezTo>
                <a:lnTo>
                  <a:pt x="324232" y="8722"/>
                </a:lnTo>
                <a:lnTo>
                  <a:pt x="315001" y="19003"/>
                </a:lnTo>
                <a:cubicBezTo>
                  <a:pt x="308515" y="28361"/>
                  <a:pt x="303179" y="38576"/>
                  <a:pt x="299199" y="49445"/>
                </a:cubicBezTo>
                <a:lnTo>
                  <a:pt x="295116" y="72582"/>
                </a:lnTo>
                <a:lnTo>
                  <a:pt x="295116" y="253290"/>
                </a:lnTo>
                <a:lnTo>
                  <a:pt x="37063" y="253290"/>
                </a:lnTo>
                <a:lnTo>
                  <a:pt x="37063" y="73239"/>
                </a:lnTo>
                <a:lnTo>
                  <a:pt x="32864" y="49445"/>
                </a:lnTo>
                <a:cubicBezTo>
                  <a:pt x="28884" y="38576"/>
                  <a:pt x="23549" y="28361"/>
                  <a:pt x="17062" y="19003"/>
                </a:cubicBezTo>
                <a:lnTo>
                  <a:pt x="0" y="0"/>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656" name="Rectángulo redondeado 53"/>
          <p:cNvSpPr/>
          <p:nvPr/>
        </p:nvSpPr>
        <p:spPr>
          <a:xfrm rot="10800000">
            <a:off x="651960" y="3068280"/>
            <a:ext cx="257400" cy="312840"/>
          </a:xfrm>
          <a:custGeom>
            <a:avLst/>
            <a:gdLst>
              <a:gd name="textAreaLeft" fmla="*/ 37440 w 257400"/>
              <a:gd name="textAreaRight" fmla="*/ 219960 w 257400"/>
              <a:gd name="textAreaTop" fmla="*/ 37440 h 312840"/>
              <a:gd name="textAreaBottom" fmla="*/ 275400 h 312840"/>
            </a:gdLst>
            <a:ahLst/>
            <a:rect l="textAreaLeft" t="textAreaTop" r="textAreaRight" b="textAreaBottom"/>
            <a:pathLst>
              <a:path w="21600" h="26246">
                <a:moveTo>
                  <a:pt x="10800" y="0"/>
                </a:moveTo>
                <a:arcTo wR="10800" hR="10800" stAng="16200000" swAng="-5400000"/>
                <a:lnTo>
                  <a:pt x="0" y="15446"/>
                </a:lnTo>
                <a:arcTo wR="10800" hR="10800" stAng="10800000" swAng="-5400000"/>
                <a:lnTo>
                  <a:pt x="10800" y="26246"/>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7" name="Rectángulo redondeado 55"/>
          <p:cNvSpPr/>
          <p:nvPr/>
        </p:nvSpPr>
        <p:spPr>
          <a:xfrm>
            <a:off x="477720" y="1778040"/>
            <a:ext cx="612720" cy="611280"/>
          </a:xfrm>
          <a:prstGeom prst="roundRect">
            <a:avLst>
              <a:gd name="adj" fmla="val 5000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8" name="Rectángulo redondeado 56"/>
          <p:cNvSpPr/>
          <p:nvPr/>
        </p:nvSpPr>
        <p:spPr>
          <a:xfrm>
            <a:off x="477720" y="3378240"/>
            <a:ext cx="612720" cy="611280"/>
          </a:xfrm>
          <a:prstGeom prst="roundRect">
            <a:avLst>
              <a:gd name="adj" fmla="val 50000"/>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59" name="Text Placeholder 20"/>
          <p:cNvSpPr/>
          <p:nvPr/>
        </p:nvSpPr>
        <p:spPr>
          <a:xfrm>
            <a:off x="1228680" y="173664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0" name="Text Placeholder 23"/>
          <p:cNvSpPr/>
          <p:nvPr/>
        </p:nvSpPr>
        <p:spPr>
          <a:xfrm>
            <a:off x="1228680" y="1989000"/>
            <a:ext cx="295596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61" name="Text Placeholder 20"/>
          <p:cNvSpPr/>
          <p:nvPr/>
        </p:nvSpPr>
        <p:spPr>
          <a:xfrm>
            <a:off x="477720" y="4118040"/>
            <a:ext cx="295776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2" name="Text Placeholder 23"/>
          <p:cNvSpPr/>
          <p:nvPr/>
        </p:nvSpPr>
        <p:spPr>
          <a:xfrm>
            <a:off x="477720" y="4370400"/>
            <a:ext cx="29577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pic>
        <p:nvPicPr>
          <p:cNvPr id="663" name="Agrupar 78" descr=""/>
          <p:cNvPicPr/>
          <p:nvPr/>
        </p:nvPicPr>
        <p:blipFill>
          <a:blip r:embed="rId1"/>
          <a:stretch/>
        </p:blipFill>
        <p:spPr>
          <a:xfrm>
            <a:off x="3286080" y="3376440"/>
            <a:ext cx="2975040" cy="615960"/>
          </a:xfrm>
          <a:prstGeom prst="rect">
            <a:avLst/>
          </a:prstGeom>
          <a:ln w="0">
            <a:noFill/>
          </a:ln>
        </p:spPr>
      </p:pic>
      <p:pic>
        <p:nvPicPr>
          <p:cNvPr id="664" name="Agrupar 82" descr=""/>
          <p:cNvPicPr/>
          <p:nvPr/>
        </p:nvPicPr>
        <p:blipFill>
          <a:blip r:embed="rId2"/>
          <a:stretch/>
        </p:blipFill>
        <p:spPr>
          <a:xfrm>
            <a:off x="1023840" y="3524400"/>
            <a:ext cx="2554560" cy="322200"/>
          </a:xfrm>
          <a:prstGeom prst="rect">
            <a:avLst/>
          </a:prstGeom>
          <a:ln w="0">
            <a:noFill/>
          </a:ln>
        </p:spPr>
      </p:pic>
      <p:sp>
        <p:nvSpPr>
          <p:cNvPr id="665" name="Text Placeholder 20"/>
          <p:cNvSpPr/>
          <p:nvPr/>
        </p:nvSpPr>
        <p:spPr>
          <a:xfrm>
            <a:off x="5651640" y="4118040"/>
            <a:ext cx="2957400" cy="30456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6" name="Text Placeholder 23"/>
          <p:cNvSpPr/>
          <p:nvPr/>
        </p:nvSpPr>
        <p:spPr>
          <a:xfrm>
            <a:off x="5651640" y="4370400"/>
            <a:ext cx="29574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67" name="Rectángulo redondeado 87"/>
          <p:cNvSpPr/>
          <p:nvPr/>
        </p:nvSpPr>
        <p:spPr>
          <a:xfrm>
            <a:off x="5656320" y="2554200"/>
            <a:ext cx="611280" cy="612720"/>
          </a:xfrm>
          <a:custGeom>
            <a:avLst/>
            <a:gdLst>
              <a:gd name="textAreaLeft" fmla="*/ 89280 w 611280"/>
              <a:gd name="textAreaRight" fmla="*/ 522000 w 611280"/>
              <a:gd name="textAreaTop" fmla="*/ 89280 h 612720"/>
              <a:gd name="textAreaBottom" fmla="*/ 523440 h 612720"/>
            </a:gdLst>
            <a:ahLst/>
            <a:rect l="textAreaLeft" t="textAreaTop" r="textAreaRight" b="textAreaBottom"/>
            <a:pathLst>
              <a:path w="21600" h="21651">
                <a:moveTo>
                  <a:pt x="10800" y="0"/>
                </a:moveTo>
                <a:arcTo wR="10800" hR="10800" stAng="16200000" swAng="-5400000"/>
                <a:lnTo>
                  <a:pt x="0" y="10851"/>
                </a:lnTo>
                <a:arcTo wR="10800" hR="10800" stAng="10800000" swAng="-5400000"/>
                <a:lnTo>
                  <a:pt x="10800" y="21651"/>
                </a:lnTo>
                <a:arcTo wR="10800" hR="10800" stAng="5400000" swAng="-5400000"/>
                <a:lnTo>
                  <a:pt x="21600" y="10800"/>
                </a:lnTo>
                <a:arcTo wR="10800" hR="108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68" name="Text Placeholder 20"/>
          <p:cNvSpPr/>
          <p:nvPr/>
        </p:nvSpPr>
        <p:spPr>
          <a:xfrm>
            <a:off x="5651640" y="1736640"/>
            <a:ext cx="29574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69" name="Text Placeholder 23"/>
          <p:cNvSpPr/>
          <p:nvPr/>
        </p:nvSpPr>
        <p:spPr>
          <a:xfrm>
            <a:off x="5651640" y="1989000"/>
            <a:ext cx="2957400" cy="35424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pic>
        <p:nvPicPr>
          <p:cNvPr id="670" name="Agrupar 96" descr=""/>
          <p:cNvPicPr/>
          <p:nvPr/>
        </p:nvPicPr>
        <p:blipFill>
          <a:blip r:embed="rId3"/>
          <a:stretch/>
        </p:blipFill>
        <p:spPr>
          <a:xfrm>
            <a:off x="5791320" y="3108240"/>
            <a:ext cx="334800" cy="330120"/>
          </a:xfrm>
          <a:prstGeom prst="rect">
            <a:avLst/>
          </a:prstGeom>
          <a:ln w="0">
            <a:noFill/>
          </a:ln>
        </p:spPr>
      </p:pic>
      <p:sp>
        <p:nvSpPr>
          <p:cNvPr id="671" name="AutoShape 14"/>
          <p:cNvSpPr/>
          <p:nvPr/>
        </p:nvSpPr>
        <p:spPr>
          <a:xfrm>
            <a:off x="5811840" y="267984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9ac9"/>
                </a:solidFill>
                <a:latin typeface="FontAwesome"/>
                <a:ea typeface="FontAwesome"/>
              </a:rPr>
              <a:t></a:t>
            </a:r>
            <a:endParaRPr b="0" lang="en-US" sz="1800" spc="-1" strike="noStrike">
              <a:solidFill>
                <a:srgbClr val="000000"/>
              </a:solidFill>
              <a:latin typeface="Calibri"/>
            </a:endParaRPr>
          </a:p>
        </p:txBody>
      </p:sp>
      <p:sp>
        <p:nvSpPr>
          <p:cNvPr id="672" name="AutoShape 14"/>
          <p:cNvSpPr/>
          <p:nvPr/>
        </p:nvSpPr>
        <p:spPr>
          <a:xfrm>
            <a:off x="642960" y="3487680"/>
            <a:ext cx="284040" cy="3142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22957b"/>
                </a:solidFill>
                <a:latin typeface="FontAwesome"/>
                <a:ea typeface="FontAwesome"/>
              </a:rPr>
              <a:t></a:t>
            </a:r>
            <a:endParaRPr b="0" lang="en-US" sz="1800" spc="-1" strike="noStrike">
              <a:solidFill>
                <a:srgbClr val="000000"/>
              </a:solidFill>
              <a:latin typeface="Calibri"/>
            </a:endParaRPr>
          </a:p>
        </p:txBody>
      </p:sp>
      <p:sp>
        <p:nvSpPr>
          <p:cNvPr id="673" name="AutoShape 14"/>
          <p:cNvSpPr/>
          <p:nvPr/>
        </p:nvSpPr>
        <p:spPr>
          <a:xfrm>
            <a:off x="636480" y="1905120"/>
            <a:ext cx="284400" cy="31248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9ac9"/>
                </a:solidFill>
                <a:latin typeface="FontAwesome"/>
                <a:ea typeface="FontAwesome"/>
              </a:rPr>
              <a:t></a:t>
            </a:r>
            <a:endParaRPr b="0" lang="en-US" sz="1800" spc="-1" strike="noStrike">
              <a:solidFill>
                <a:srgbClr val="000000"/>
              </a:solidFill>
              <a:latin typeface="Calibri"/>
            </a:endParaRPr>
          </a:p>
        </p:txBody>
      </p:sp>
      <p:sp>
        <p:nvSpPr>
          <p:cNvPr id="674" name="AutoShape 14"/>
          <p:cNvSpPr/>
          <p:nvPr/>
        </p:nvSpPr>
        <p:spPr>
          <a:xfrm>
            <a:off x="5800680" y="352584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a0ba1e"/>
                </a:solidFill>
                <a:latin typeface="FontAwesome"/>
                <a:ea typeface="FontAwesome"/>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Placeholder 23"/>
          <p:cNvSpPr/>
          <p:nvPr/>
        </p:nvSpPr>
        <p:spPr>
          <a:xfrm>
            <a:off x="684360" y="2057400"/>
            <a:ext cx="7775280" cy="10112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p:txBody>
      </p:sp>
      <p:sp>
        <p:nvSpPr>
          <p:cNvPr id="676" name="Marcador de texto 13"/>
          <p:cNvSpPr/>
          <p:nvPr/>
        </p:nvSpPr>
        <p:spPr>
          <a:xfrm>
            <a:off x="2627280" y="961920"/>
            <a:ext cx="388944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History</a:t>
            </a:r>
            <a:endParaRPr b="0" lang="en-US" sz="5000" spc="-1" strike="noStrike">
              <a:solidFill>
                <a:srgbClr val="000000"/>
              </a:solidFill>
              <a:latin typeface="Calibri"/>
            </a:endParaRPr>
          </a:p>
        </p:txBody>
      </p:sp>
      <p:sp>
        <p:nvSpPr>
          <p:cNvPr id="677"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A LITTLE INTRODUCTION TO OUR COMPANY</a:t>
            </a:r>
            <a:endParaRPr b="0" lang="en-US" sz="1000" spc="-1" strike="noStrike">
              <a:solidFill>
                <a:srgbClr val="000000"/>
              </a:solidFill>
              <a:latin typeface="Calibri"/>
            </a:endParaRPr>
          </a:p>
        </p:txBody>
      </p:sp>
      <p:sp>
        <p:nvSpPr>
          <p:cNvPr id="678" name="Text Placeholder 20"/>
          <p:cNvSpPr/>
          <p:nvPr/>
        </p:nvSpPr>
        <p:spPr>
          <a:xfrm>
            <a:off x="5504040" y="3241800"/>
            <a:ext cx="295560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79" name="Text Placeholder 23"/>
          <p:cNvSpPr/>
          <p:nvPr/>
        </p:nvSpPr>
        <p:spPr>
          <a:xfrm>
            <a:off x="5504040" y="3494160"/>
            <a:ext cx="295560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
        <p:nvSpPr>
          <p:cNvPr id="680" name="Rectángulo redondeado 9"/>
          <p:cNvSpPr/>
          <p:nvPr/>
        </p:nvSpPr>
        <p:spPr>
          <a:xfrm>
            <a:off x="4699080" y="3295800"/>
            <a:ext cx="611280" cy="610920"/>
          </a:xfrm>
          <a:prstGeom prst="roundRect">
            <a:avLst>
              <a:gd name="adj" fmla="val 50000"/>
            </a:avLst>
          </a:prstGeom>
          <a:solidFill>
            <a:srgbClr val="c5e04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81" name="Rectángulo redondeado 10"/>
          <p:cNvSpPr/>
          <p:nvPr/>
        </p:nvSpPr>
        <p:spPr>
          <a:xfrm>
            <a:off x="684360" y="3292560"/>
            <a:ext cx="612720" cy="611280"/>
          </a:xfrm>
          <a:prstGeom prst="roundRect">
            <a:avLst>
              <a:gd name="adj" fmla="val 50000"/>
            </a:avLst>
          </a:prstGeom>
          <a:solidFill>
            <a:srgbClr val="22957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682" name="AutoShape 14"/>
          <p:cNvSpPr/>
          <p:nvPr/>
        </p:nvSpPr>
        <p:spPr>
          <a:xfrm>
            <a:off x="851040" y="3398760"/>
            <a:ext cx="28260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114a3e"/>
                </a:solidFill>
                <a:latin typeface="FontAwesome"/>
                <a:ea typeface="FontAwesome"/>
              </a:rPr>
              <a:t></a:t>
            </a:r>
            <a:endParaRPr b="0" lang="en-US" sz="1800" spc="-1" strike="noStrike">
              <a:solidFill>
                <a:srgbClr val="000000"/>
              </a:solidFill>
              <a:latin typeface="Calibri"/>
            </a:endParaRPr>
          </a:p>
        </p:txBody>
      </p:sp>
      <p:sp>
        <p:nvSpPr>
          <p:cNvPr id="683" name="AutoShape 14"/>
          <p:cNvSpPr/>
          <p:nvPr/>
        </p:nvSpPr>
        <p:spPr>
          <a:xfrm>
            <a:off x="4869000" y="3398760"/>
            <a:ext cx="284040" cy="312840"/>
          </a:xfrm>
          <a:prstGeom prst="pie">
            <a:avLst/>
          </a:prstGeom>
          <a:noFill/>
          <a:ln w="0">
            <a:noFill/>
          </a:ln>
        </p:spPr>
        <p:style>
          <a:lnRef idx="0"/>
          <a:fillRef idx="0"/>
          <a:effectRef idx="0"/>
          <a:fontRef idx="minor"/>
        </p:style>
        <p:txBody>
          <a:bodyPr lIns="71280" rIns="71280" tIns="71280" bIns="71280" anchor="ctr">
            <a:noAutofit/>
          </a:bodyPr>
          <a:p>
            <a:pPr algn="ct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6b7c14"/>
                </a:solidFill>
                <a:latin typeface="FontAwesome"/>
                <a:ea typeface="FontAwesome"/>
              </a:rPr>
              <a:t></a:t>
            </a:r>
            <a:endParaRPr b="0" lang="en-US" sz="1800" spc="-1" strike="noStrike">
              <a:solidFill>
                <a:srgbClr val="000000"/>
              </a:solidFill>
              <a:latin typeface="Calibri"/>
            </a:endParaRPr>
          </a:p>
        </p:txBody>
      </p:sp>
      <p:sp>
        <p:nvSpPr>
          <p:cNvPr id="684" name="Text Placeholder 20"/>
          <p:cNvSpPr/>
          <p:nvPr/>
        </p:nvSpPr>
        <p:spPr>
          <a:xfrm>
            <a:off x="1430280" y="3241800"/>
            <a:ext cx="295596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SERVICE DESCRIPTION EXAMPLE HERE</a:t>
            </a:r>
            <a:endParaRPr b="0" lang="en-US" sz="1000" spc="-1" strike="noStrike">
              <a:solidFill>
                <a:srgbClr val="000000"/>
              </a:solidFill>
              <a:latin typeface="Calibri"/>
            </a:endParaRPr>
          </a:p>
        </p:txBody>
      </p:sp>
      <p:sp>
        <p:nvSpPr>
          <p:cNvPr id="685" name="Text Placeholder 23"/>
          <p:cNvSpPr/>
          <p:nvPr/>
        </p:nvSpPr>
        <p:spPr>
          <a:xfrm>
            <a:off x="1430280" y="3494160"/>
            <a:ext cx="2955960" cy="353880"/>
          </a:xfrm>
          <a:prstGeom prst="rect">
            <a:avLst/>
          </a:prstGeom>
          <a:noFill/>
          <a:ln w="0">
            <a:noFill/>
          </a:ln>
        </p:spPr>
        <p:style>
          <a:lnRef idx="0"/>
          <a:fillRef idx="0"/>
          <a:effectRef idx="0"/>
          <a:fontRef idx="minor"/>
        </p:style>
        <p:txBody>
          <a:bodyPr lIns="0" rIns="0" tIns="0" bIns="0" anchor="t">
            <a:noAutofit/>
          </a:bodyPr>
          <a:p>
            <a:pPr>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Lorem ipsum dolor sit amet, consectetur adipiscing elit. Fusce diam tortor, mattis quis dapibus vitae, </a:t>
            </a:r>
            <a:endParaRPr b="0" lang="en-US" sz="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Marcador de texto 13"/>
          <p:cNvSpPr/>
          <p:nvPr/>
        </p:nvSpPr>
        <p:spPr>
          <a:xfrm>
            <a:off x="2241720" y="961920"/>
            <a:ext cx="4660560" cy="6177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f7f7f"/>
                </a:solidFill>
                <a:latin typeface="Raleway Light"/>
                <a:ea typeface="Raleway Light"/>
              </a:rPr>
              <a:t>Company born</a:t>
            </a:r>
            <a:endParaRPr b="0" lang="en-US" sz="5000" spc="-1" strike="noStrike">
              <a:solidFill>
                <a:srgbClr val="000000"/>
              </a:solidFill>
              <a:latin typeface="Calibri"/>
            </a:endParaRPr>
          </a:p>
        </p:txBody>
      </p:sp>
      <p:sp>
        <p:nvSpPr>
          <p:cNvPr id="687" name="Text Placeholder 20"/>
          <p:cNvSpPr/>
          <p:nvPr/>
        </p:nvSpPr>
        <p:spPr>
          <a:xfrm>
            <a:off x="3205080" y="1579680"/>
            <a:ext cx="2733840" cy="304560"/>
          </a:xfrm>
          <a:prstGeom prst="rect">
            <a:avLst/>
          </a:prstGeom>
          <a:noFill/>
          <a:ln w="0">
            <a:noFill/>
          </a:ln>
        </p:spPr>
        <p:style>
          <a:lnRef idx="0"/>
          <a:fillRef idx="0"/>
          <a:effectRef idx="0"/>
          <a:fontRef idx="minor"/>
        </p:style>
        <p:txBody>
          <a:bodyPr lIns="0" rIns="0" tIns="72000" bIns="720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22957b"/>
                </a:solidFill>
                <a:latin typeface="Raleway Black"/>
                <a:ea typeface="Raleway Black"/>
              </a:rPr>
              <a:t>TWO COLUMNS TEXT EXAMPLE</a:t>
            </a:r>
            <a:endParaRPr b="0" lang="en-US" sz="1000" spc="-1" strike="noStrike">
              <a:solidFill>
                <a:srgbClr val="000000"/>
              </a:solidFill>
              <a:latin typeface="Calibri"/>
            </a:endParaRPr>
          </a:p>
        </p:txBody>
      </p:sp>
      <p:pic>
        <p:nvPicPr>
          <p:cNvPr id="688" name="Text Placeholder 23" descr=""/>
          <p:cNvPicPr/>
          <p:nvPr/>
        </p:nvPicPr>
        <p:blipFill>
          <a:blip r:embed="rId1"/>
          <a:stretch/>
        </p:blipFill>
        <p:spPr>
          <a:xfrm>
            <a:off x="609480" y="2054160"/>
            <a:ext cx="7851960" cy="227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Placeholder 23"/>
          <p:cNvSpPr/>
          <p:nvPr/>
        </p:nvSpPr>
        <p:spPr>
          <a:xfrm>
            <a:off x="468360" y="2019240"/>
            <a:ext cx="3619440" cy="2276640"/>
          </a:xfrm>
          <a:prstGeom prst="rect">
            <a:avLst/>
          </a:prstGeom>
          <a:noFill/>
          <a:ln w="0">
            <a:noFill/>
          </a:ln>
        </p:spPr>
        <p:style>
          <a:lnRef idx="0"/>
          <a:fillRef idx="0"/>
          <a:effectRef idx="0"/>
          <a:fontRef idx="minor"/>
        </p:style>
        <p:txBody>
          <a:bodyPr lIns="0" rIns="72000" tIns="72000" bIns="72000" anchor="t">
            <a:noAutofit/>
          </a:bodyPr>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7f7f7f"/>
                </a:solidFill>
                <a:latin typeface="Lato"/>
                <a:ea typeface="Lato"/>
              </a:rPr>
              <a:t>Lorem ipsum dolor sit amet, </a:t>
            </a:r>
            <a:r>
              <a:rPr b="0" lang="en-US" sz="900" spc="-1" strike="noStrike">
                <a:solidFill>
                  <a:srgbClr val="7f7f7f"/>
                </a:solidFill>
                <a:latin typeface="Lato"/>
                <a:ea typeface="Lato"/>
              </a:rPr>
              <a:t>consectetur adipiscing elit. Fusce diam tortor, mattis quis dapibus vitae, euismod non purus. Maecenas ut lacus nec mauris feugiat tristique et in metus. Duis congue eros vel lectus semper semper. Nullam finibus nisl ut ligula vestibulum, ut semper ex suscipit. Cras fringilla suscipit cursus. Aenean accumsan malesuada hendrerit. Morbi sit amet dolor ante. </a:t>
            </a:r>
            <a:endParaRPr b="0" lang="en-US" sz="900" spc="-1" strike="noStrike">
              <a:solidFill>
                <a:srgbClr val="000000"/>
              </a:solidFill>
              <a:latin typeface="Calibri"/>
            </a:endParaRPr>
          </a:p>
          <a:p>
            <a:pPr algn="just">
              <a:lnSpc>
                <a:spcPts val="1397"/>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7f7f7f"/>
                </a:solidFill>
                <a:latin typeface="Lato"/>
                <a:ea typeface="Lato"/>
              </a:rPr>
              <a:t>Duis quis viverra urna, in ultricies diam. Morbi sodales volutpat tellus, quis aliquam urna cursus et. Proin commodo arcu nec nisi rhoncus dapibus. Praesent nec elit non metus mollis placerat. Vivamus porta pulvinar iaculis. Donec augue arcu, volutpat nec risus eget, finibus lacinia ligula. Curabitur bibendum arcu sit amet faucibus posuere.</a:t>
            </a:r>
            <a:endParaRPr b="0" lang="en-US" sz="900" spc="-1" strike="noStrike">
              <a:solidFill>
                <a:srgbClr val="000000"/>
              </a:solidFill>
              <a:latin typeface="Calibri"/>
            </a:endParaRPr>
          </a:p>
        </p:txBody>
      </p:sp>
      <p:sp>
        <p:nvSpPr>
          <p:cNvPr id="690" name="PlaceHolder 1"/>
          <p:cNvSpPr>
            <a:spLocks noGrp="1"/>
          </p:cNvSpPr>
          <p:nvPr>
            <p:ph/>
          </p:nvPr>
        </p:nvSpPr>
        <p:spPr>
          <a:xfrm>
            <a:off x="2496600" y="372600"/>
            <a:ext cx="4164120" cy="576360"/>
          </a:xfrm>
          <a:prstGeom prst="rect">
            <a:avLst/>
          </a:prstGeom>
          <a:noFill/>
          <a:ln w="0">
            <a:noFill/>
          </a:ln>
        </p:spPr>
        <p:txBody>
          <a:bodyPr lIns="0" rIns="90000" tIns="46800" bIns="46800" anchor="t">
            <a:normAutofit fontScale="8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Raleway Light"/>
                <a:ea typeface="Raleway Light"/>
              </a:rPr>
              <a:t>Our phillosophy</a:t>
            </a:r>
            <a:endParaRPr b="0" lang="en-US" sz="4000" spc="-1" strike="noStrike">
              <a:solidFill>
                <a:srgbClr val="000000"/>
              </a:solidFill>
              <a:latin typeface="Calibri"/>
            </a:endParaRPr>
          </a:p>
        </p:txBody>
      </p:sp>
      <p:sp>
        <p:nvSpPr>
          <p:cNvPr id="691" name="PlaceHolder 2"/>
          <p:cNvSpPr>
            <a:spLocks noGrp="1"/>
          </p:cNvSpPr>
          <p:nvPr>
            <p:ph/>
          </p:nvPr>
        </p:nvSpPr>
        <p:spPr>
          <a:xfrm>
            <a:off x="2496600" y="993600"/>
            <a:ext cx="4164120" cy="222480"/>
          </a:xfrm>
          <a:prstGeom prst="rect">
            <a:avLst/>
          </a:prstGeom>
          <a:noFill/>
          <a:ln w="0">
            <a:noFill/>
          </a:ln>
        </p:spPr>
        <p:txBody>
          <a:bodyPr lIns="0" rIns="90000" tIns="46800" bIns="46800" anchor="t">
            <a:normAutofit fontScale="95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2957b"/>
                </a:solidFill>
                <a:latin typeface="Raleway Black"/>
                <a:ea typeface="Raleway Black"/>
              </a:rPr>
              <a:t>TEXT WITH IMAGE PLACEHOLDER</a:t>
            </a:r>
            <a:endParaRPr b="0" lang="en-US" sz="1000" spc="-1" strike="noStrike">
              <a:solidFill>
                <a:srgbClr val="000000"/>
              </a:solidFill>
              <a:latin typeface="Calibri"/>
            </a:endParaRPr>
          </a:p>
        </p:txBody>
      </p:sp>
      <p:sp>
        <p:nvSpPr>
          <p:cNvPr id="692" name="Text Placeholder 20"/>
          <p:cNvSpPr/>
          <p:nvPr/>
        </p:nvSpPr>
        <p:spPr>
          <a:xfrm>
            <a:off x="468360" y="1747800"/>
            <a:ext cx="2733480" cy="303120"/>
          </a:xfrm>
          <a:prstGeom prst="rect">
            <a:avLst/>
          </a:prstGeom>
          <a:noFill/>
          <a:ln w="0">
            <a:noFill/>
          </a:ln>
        </p:spPr>
        <p:style>
          <a:lnRef idx="0"/>
          <a:fillRef idx="0"/>
          <a:effectRef idx="0"/>
          <a:fontRef idx="minor"/>
        </p:style>
        <p:txBody>
          <a:bodyPr lIns="0" rIns="0" tIns="72000" bIns="720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7f7f7f"/>
                </a:solidFill>
                <a:latin typeface="Raleway Black"/>
                <a:ea typeface="Raleway Black"/>
              </a:rPr>
              <a:t>YOU CAN PUT YOUR TITLE HERE</a:t>
            </a: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7T21:17:44Z</dcterms:created>
  <dc:creator>Isaac Rivera</dc:creator>
  <dc:description/>
  <dc:language>en-US</dc:language>
  <cp:lastModifiedBy>Isaac Rivera</cp:lastModifiedBy>
  <dcterms:modified xsi:type="dcterms:W3CDTF">2017-04-27T02:42:26Z</dcterms:modified>
  <cp:revision>352</cp:revision>
  <dc:subject/>
  <dc:title>Presentación de PowerPoint</dc:title>
</cp:coreProperties>
</file>